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5.jpeg" ContentType="image/jpeg"/>
  <Override PartName="/ppt/media/image23.wmf" ContentType="image/x-wmf"/>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9EE2-B6D1-4109-8772-27579E2E2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8D06-CD08-48F9-B7A1-15C5C89DAE4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86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D1F9-F275-4AD6-8175-597748DEB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86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1BDF-3EB5-485C-A442-3CC4803D3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8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7822-CAB5-431E-94AB-5BF4F806F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A266-6A14-4870-9FAF-6E56A20F2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AC7B-7FF0-441C-9D19-0452B1640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01C1-5FAD-445E-A85A-C552D1AB2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2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3C08-287D-46DE-B78E-047143525FE2}"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2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2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8AAA-8EF9-4AF3-A629-B8C6F4A5F97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FEAA-E979-4831-A309-DA7FC6F91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8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FE96-3A80-465C-97C4-8B0ABE00E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D168-AE42-4738-BCBA-D3AA86B06D5B}"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3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D62A-7147-4E76-A2E5-4A5C8A5C7C4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B94A-6757-4E21-BBAD-7BC772A9FCF2}"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3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200E-5625-41F5-9B14-C8E24E765DA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3494-A7FE-4C57-A3DC-537ED2A5886E}"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4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4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1CDC-3461-41A2-B7D9-1C0FD05055B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DD82-072A-4C5E-BC91-7069E104EF3E}"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4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2554-C684-4A74-AB0D-C3C214240AC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5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5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A39D-9876-41EC-BA5D-2E28AC66458A}"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5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A80B-D22F-4862-973F-FF187E29EE7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8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5EE8-2962-4719-B1EE-6FF84B536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5C4DB-8D5E-4581-93C9-F206AC5A54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54F6888-C54E-466C-BFD2-76DF5AC3A54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6B469F-94FE-4A02-B9C3-B87B0B66D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B09F2-3025-4DC4-A2DE-8C561AFB04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635D40-3844-4C10-ACBB-9AF4D892F2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A01BAC-E9D9-4C7B-904F-CA3A36964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B7605-8832-4440-A727-AA90F30C4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05E9F-88ED-48E6-B3B5-3855EA6E5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C7058E-39D9-4219-95FA-9D81B0413C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A2A276-AE53-4260-BAC4-7105EC3E28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263ECB-1C4B-439F-878E-8ACEBED832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AB6B68-D32B-4C65-885B-02B5CDA23A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1C433FD-185D-47AC-BBA7-39E9C7B9322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642C29-0A61-401F-8816-59B92F2104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53DA38-C172-4441-A03F-E361C2A91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2ED6D6-6BF8-4B8B-8CC9-DDE1102B4D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9FD6D-369A-430E-ADD6-B6D53B9246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C193A8-0340-435D-936F-25704981DC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D423B-DE4F-41FE-AEC7-0B577C570B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9C51F1-3DCA-4D66-8B35-A1F4141E8F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F1307-DF2E-4792-8A26-84F1AB7C0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339566-78FD-4BFD-B06E-7A8186B5A1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97B2A8-F5F0-4C80-A9AA-702DF52471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9784EE7-190A-4D08-9497-70A3044049E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485ECE-51D5-4488-B48C-1985D06EA4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4788A8-14B5-4082-8FC3-E8B2C92CA4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E32567-15D0-43F6-B822-E331DE0094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CA1218-392D-40A9-9E38-101E5254BB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86DF1-57A0-471E-9F98-C1A5116881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20260B-AAD9-431D-B128-80811EA25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4D1262-A1A2-425D-8464-E8B34F019A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BB401-C523-4CD6-AB88-4A842B8B8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50843-2C11-4EC2-A967-E5AB3CBFA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B0243-82E0-4EFA-ADC9-0C77264AF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85E00D-3146-41B4-944E-ED067D8729E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BB2CF9-5CF0-4D19-9295-1FF9587236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19DBA9-AECB-4CC6-B2AB-4BA3C2FAE0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719F54-41A3-409E-BB72-485FDDC61F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2233B7-1FBE-4FC5-AE3F-0E14F8A73C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07A534-72D3-4311-B193-AFB3E53E79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EE5338-6424-46E7-B6B7-4CBD0261C8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6D3C99-8CDA-4961-899D-F12BCCA511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8E9779-37DB-4592-8863-2C5C9DA8EA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AC69BD-BCC9-4531-9C76-24461465B3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A8064-1873-4A9F-A448-7774BDF9E2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80E7C00-8E9F-4EAD-9F27-F8454BCFE97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372A9-019E-45FA-A95E-0F927D5606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1B52A0-D4DA-4A96-A726-2FF270A3A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4AAD3-F99C-417D-84C5-49C30CC552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F1C061-CC82-4C87-A20C-04956A62D7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39C5DD-37F8-45FA-B534-F867184AE7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59DD53-3469-43F9-A644-EBFD802F48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2A76D5-6B49-4D74-A231-4F96DFF234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E60773-FAE0-4955-AC3D-30A47B9884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CE2C18-B736-46CA-8649-BA31303386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756A5F-E97C-40C8-833E-1A0BED1278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E061F4E-B82D-4E7B-923C-CC012DC6015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0043B4-FB59-4E61-B259-FC1FB24260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591AA2-BB64-4D1C-949F-FE84EF4456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C0E6A5-E02B-4E89-9C49-B912EFC610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716A01-CE85-4699-A9F4-E8CFFF497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569B66-9973-489E-BD98-C3BAECD48D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D095FE-CEC6-448E-93A9-DFC79B6D74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C4FDE8-DA80-42CB-9EB5-6E2E05DFF0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B45D6B-6B2A-4C02-BB4D-36C2446FBB2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109CDA-4D29-4CB9-8972-2F672B32FF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32E0C2-CC7D-43D0-B17A-20C880CBD1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707AC6B-C6D6-4754-95D5-8D214EC607B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59081E-84F0-4FE0-BCC8-5560006924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30E612-5C0E-42F5-90A5-3BF8A4C14A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138A4D-5761-465F-BF13-307DFEA91A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D4D6F0-0E75-46A9-A5AF-944FF35E1F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0BE103-D84D-4C31-BF4B-8EFDB71363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D2C2CC-4673-4CC6-8A66-6DDC03FD0F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FBDAF3-566C-4D5A-AB12-2A16005492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848780-A0F3-4C3F-BF65-E7F7FB24F2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799571-782E-4141-9006-7910AAF893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D5BF32-71CD-44A1-98B1-53358959C1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CAC5B3C-4709-4503-B273-8143B98CB07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424F12-26F5-4CE2-98B0-74583A31B2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392845-9A40-47DE-8D61-24749F3875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73B580-CE8E-45BA-8BAD-3C06880718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C00A76-64BE-47D5-871B-D592D74116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FADA89-0C4E-430D-8B5B-6C4E27D24C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9E8F95-D4C3-4201-A794-74BCA32DA4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0CEF1D-1B7B-40FE-AC12-7686DDE6CD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E2E516-1E25-4AD6-8459-48472DC9FE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961D42-DD3F-447C-AC10-347CDB936F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E14DF9-77FD-4BDE-9805-318E7ADA8E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1175A40-1E5D-49C4-864C-12EF3733BFF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AEFA42-8B08-48C4-8211-256BD1DFCC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98EBE49-8902-4850-AD6F-CCECC51382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842A1B-4E99-45ED-AA92-89739795F4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02F588-C9FF-4BFC-B02C-583B6ED2E2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791029-E92B-49AB-A2B9-511FBFBB2F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241DBF-4EFC-4109-A8F7-F6B2815B6A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687E5E-E228-49B1-AEE8-F8CD39F94E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502637-0FC4-439B-BDDF-7DACA3B8D9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9D7259-BE5F-4A52-937A-DD507AE41D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BDBB3F-4005-487B-A433-B163DAAF5E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44D95B4-700F-43C2-9C14-54001789097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518ECD-EF08-42CA-824C-3B8A13B837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99A784-0967-424C-98A3-54F44CE7D7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394F47-432E-417F-AF71-D8A4A8A3DC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52148E4-D078-468F-A42B-270BE7E29F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DBAE6A-A6EB-42AD-906D-0363AA3ED3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71E5AD-5372-47DC-8295-0E1F9C254F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ED912B-684E-4DCD-8740-952BD54B3A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6B41D1-D82D-4CDC-936B-864514218F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7C5185-7064-4150-909F-D836148344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561302-862A-48DA-B135-5448BA468B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17F820E-8D4F-4BD5-B96B-94D0B500F7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16B463-0991-4585-9B3D-D9F516B8229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34CF45-6D35-43D4-B9E2-1C81716C7B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653800-E198-4274-BC8A-B9CA668CCB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A65D54-A6E0-46C0-8325-E67FD799434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38A6F7B-7A31-493E-B275-AB67AE94260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8FD91F4-4E4D-4156-ACE4-347C39061E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FC23F8-E69D-43A7-BAAE-0B1FB21536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07533C-878D-4F43-8A24-D2F2A1BC9D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2AD562C-68C6-4540-B54B-1006C6F544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B647B5B-E8D3-4D4A-8691-6E729E37ED3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411531-4DD5-4777-A07F-3369098D40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F6F7ED0-EAC8-48CF-BBA3-A37B4A8791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360E79A-15A2-4E71-8C5F-04F0438ACF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22955E2-E558-4518-8D86-D88F234FB2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E8433620-A473-412D-B947-5E0B163754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E11071D-427A-4CF6-9EEF-9D2B1240A9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AFED384-9879-49BB-819E-0707665BE2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09C525F-9A15-43EC-B3C8-15A540FD69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90176C0-5BD0-4D3D-8C95-4FD58B8DB9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A7580D-183C-4EA6-BB11-89873D6AB6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BA71131-80A7-4975-8641-ED6802D535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E47B9B2-9058-4033-A2C2-E9384054BD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EA25233-1E52-4B5E-8696-4FA72D0637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9006C-ED82-409A-8CA8-6FD190BED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DD891-77A4-4C07-8440-76AC197BC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DC41C-10C3-443F-8D0C-1ED80D44C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CFCBF58-7A45-4C34-919A-373181B9B81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710E7-AEBE-4F2E-9787-EDF64C5C1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59186-1CED-4ED8-B841-2A6DE108D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628C4-D46C-44AF-9770-E07BAC4F6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86241-29CB-48A5-96BD-47D7626A4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9F4F8-A311-4E23-B4D0-E9B6E9A91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BBDE8-F67E-4EBF-9381-74590A64C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2701F-5AC5-4885-B201-57F0F6D25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DF3C6-17A8-4128-B315-9AA2247AD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FE6D5-8D04-4DD6-885A-37C02044A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9E88987-4AA2-4CF9-A91A-97152F0651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DF37CAE-D2F8-4BD2-BFFF-D96517BAEF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C7E9D8C-684B-4D81-AD1E-21622D9E8C5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AAC7D3-C669-4574-9043-99CDC52324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9558B5-8D19-4CDF-98CF-0FC3613FCE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F59DB-7034-4A41-83EC-BC69A0899C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973C2E-BAF9-4D7E-8E11-F98694EE8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16D5A-E74C-4697-A641-6E52C2BB1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48DC0-9D49-4F55-ADC9-9504853F0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AE1484-B1A9-43C2-9CD5-CE2F5E6FBD4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61C6C8-2C0A-4517-ACFA-FC5B15E4E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4E028-8F79-4B00-AD35-95B820AD9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CE461D-97A5-4E84-8C33-306EBDD6A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A255C-8E35-48FE-A194-02F5D5570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8E5BF0-5D72-4DAF-9199-163E2674C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F6CADB-E7F0-4562-8577-3AA264DCEA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9CEDE2-2F26-4F32-B33D-2B54BF3DE5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69854E-C214-465F-B50B-9D409208FE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E457D6-9B88-4B93-ADBA-F7B5E5A9E2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FD17BE-7B63-48A8-B3AC-16E0CBE36ECF}"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74D4-AFA0-4796-9D38-D9A89703E73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7673-D38A-4D47-8029-B917F00D669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0131-B28C-42E5-B403-58B7768C520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AC37-4BCF-421F-8F9C-F517AECB749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5300-52A0-4530-B596-7AFB16B6BFF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1CD6-4579-47A4-8D3E-148C9C1DEE5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2869-BF77-40B8-9B48-093EAB3B3B7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2C89-5C8D-4BA0-8267-CE5B6EB9492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2137-2005-433A-8F3A-E8EF15CB194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1AEE-F293-4D01-9E71-0B59724BA01A}"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ACD0-82DD-4315-9C74-674CF251F05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95C2-360E-4A62-B124-48610D20E8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9C89-34A7-455E-AC47-B52B860C5D1B}"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7916-10FC-4E56-A324-316BFBC3AFB1}"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9F80-1FBD-4D78-96CA-20903AB136DF}"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6573-8FED-4A57-80D6-67FF0E618CA9}" type="datetime2">
              <a:rPr b="0" lang="nl-NL" sz="1200" spc="-1" strike="noStrike">
                <a:solidFill>
                  <a:srgbClr val="898989"/>
                </a:solidFill>
                <a:latin typeface="Times New Roman"/>
                <a:ea typeface="Arial"/>
              </a:rPr>
              <a:t>donderdag 30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90C4-DA65-40A7-B197-5D392E1CB1D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92EE-60B6-4D9D-9DDD-BBF51E4F155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9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CAFF-1173-4B45-A2E2-F9539E30AB8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4"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39B5-5B76-4930-ACA0-8FF964FEE12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7"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68"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CB1B-A52B-44CD-AA85-4646DD67E3A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2"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179E-A81B-493E-B996-99982617D42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5"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76"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6F9D-43C2-4DBA-939E-051D2A848FE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9"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0" name="Afbeelding 4" descr=""/>
          <p:cNvPicPr/>
          <p:nvPr/>
        </p:nvPicPr>
        <p:blipFill>
          <a:blip r:embed="rId1"/>
          <a:stretch/>
        </p:blipFill>
        <p:spPr>
          <a:xfrm>
            <a:off x="658800" y="1989000"/>
            <a:ext cx="8028000" cy="4030920"/>
          </a:xfrm>
          <a:prstGeom prst="rect">
            <a:avLst/>
          </a:prstGeom>
          <a:ln w="0">
            <a:noFill/>
          </a:ln>
        </p:spPr>
      </p:pic>
      <p:sp>
        <p:nvSpPr>
          <p:cNvPr id="781"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9700-B23F-44C0-8145-DEE956FB749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4"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85" name="Afbeelding 4" descr=""/>
          <p:cNvPicPr/>
          <p:nvPr/>
        </p:nvPicPr>
        <p:blipFill>
          <a:blip r:embed="rId1"/>
          <a:stretch/>
        </p:blipFill>
        <p:spPr>
          <a:xfrm>
            <a:off x="658800" y="1989000"/>
            <a:ext cx="8028000" cy="4030920"/>
          </a:xfrm>
          <a:prstGeom prst="rect">
            <a:avLst/>
          </a:prstGeom>
          <a:ln w="0">
            <a:noFill/>
          </a:ln>
        </p:spPr>
      </p:pic>
      <p:pic>
        <p:nvPicPr>
          <p:cNvPr id="786"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8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F18F-E1B1-4054-9625-0B52F6FF395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9"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1BA3-7ACB-4EFC-8D61-DF4028240A0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2"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3" name="Afbeelding 1" descr=""/>
          <p:cNvPicPr/>
          <p:nvPr/>
        </p:nvPicPr>
        <p:blipFill>
          <a:blip r:embed="rId1"/>
          <a:stretch/>
        </p:blipFill>
        <p:spPr>
          <a:xfrm>
            <a:off x="398520" y="1625760"/>
            <a:ext cx="8715240" cy="4873320"/>
          </a:xfrm>
          <a:prstGeom prst="rect">
            <a:avLst/>
          </a:prstGeom>
          <a:ln w="0">
            <a:noFill/>
          </a:ln>
        </p:spPr>
      </p:pic>
      <p:sp>
        <p:nvSpPr>
          <p:cNvPr id="794"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79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323B-F6CD-4B53-A414-6658B4BE59F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7"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798"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70B5-D42E-4488-A3F3-7FE5E2D30A7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1"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451C-DFBF-46C9-A497-D811583EA3AB}"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7219-2896-4807-BA50-A85C2CB1C902}"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4EBA-0342-49D2-A2BC-F50AEAAE64A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0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B396-FFEA-464D-AD46-063AF750976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4E86-32CD-4C82-B897-02C951F3A5C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p:txBody>
      </p:sp>
      <p:sp>
        <p:nvSpPr>
          <p:cNvPr id="81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30B4-A30F-4CA6-AFD4-22859D90984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81EF-1380-4174-92F4-BDE5E748D3A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1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26" name="Onlinemedia 4" descr=""/>
          <p:cNvPicPr/>
          <p:nvPr/>
        </p:nvPicPr>
        <p:blipFill>
          <a:blip r:embed="rId1"/>
          <a:stretch/>
        </p:blipFill>
        <p:spPr>
          <a:xfrm>
            <a:off x="0" y="1212840"/>
            <a:ext cx="9144000" cy="5143680"/>
          </a:xfrm>
          <a:prstGeom prst="rect">
            <a:avLst/>
          </a:prstGeom>
          <a:ln w="0">
            <a:noFill/>
          </a:ln>
        </p:spPr>
      </p:pic>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933B-972C-4DB0-AA75-B7A8F0ED625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26"/>
                    </p:tgtEl>
                  </p:cond>
                </p:stCondLst>
                <p:childTnLst>
                  <p:par>
                    <p:cTn id="8" nodeType="clickEffect" fill="hold">
                      <p:stCondLst>
                        <p:cond evt="onClick">
                          <p:tgtEl>
                            <p:spTgt spid="726"/>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29"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C504-EA6E-4B00-8F4D-8CB3F956D22E}"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1"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6564-4D32-496F-9B0D-4A760AD1D83E}"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2"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3"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35"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4AB0-3268-4E20-9AA6-21DC64E59174}"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7"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8418-7FDF-4D2B-8B3D-C1142CD824CE}"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8"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9"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1"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0260-7147-4C0C-99CA-754180510F2B}"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06CF-F382-44FF-8F19-9459AB9A9576}"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5"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7"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0ECB-7D05-40DE-8CD6-085658345AD3}"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9"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15FB-E7F0-4EE9-B1E7-11AEC409F42E}"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0"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1"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3"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40F9-FA50-434B-8C9F-915D1DE4FDB8}"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5"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15CF-AA8A-4244-B38B-A36E14AC32AC}"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6"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59" name="Tijdelijke aanduiding voor inhoud 4" descr=""/>
          <p:cNvPicPr/>
          <p:nvPr/>
        </p:nvPicPr>
        <p:blipFill>
          <a:blip r:embed="rId1"/>
          <a:stretch/>
        </p:blipFill>
        <p:spPr>
          <a:xfrm>
            <a:off x="900000" y="1220760"/>
            <a:ext cx="7344000" cy="3957840"/>
          </a:xfrm>
          <a:prstGeom prst="rect">
            <a:avLst/>
          </a:prstGeom>
          <a:ln w="0">
            <a:noFill/>
          </a:ln>
        </p:spPr>
      </p:pic>
      <p:sp>
        <p:nvSpPr>
          <p:cNvPr id="7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3262-12E2-492C-AFCA-51A592B5AC8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1"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19-11-07T19:13:19Z</dcterms:modified>
  <cp:revision>94</cp:revision>
  <dc:subject/>
  <dc:title>Gebruik van Powerpoint sjablonen</dc:title>
</cp:coreProperties>
</file>