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3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1EF1-6E50-4403-B6FD-8A8F0F2A4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C2A-C5E2-4CFC-9292-EEFA13D209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 ontwikkelcentrum bij dit thema: (Voeding basis vark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s://contentplatform.ontwikkelcentrum.nl/CMS/CDS/Ontwikkelcentrum/Published%20content/Kenniskiem/98507%20Voeding%20basis%20varkens/98507/98507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jdelijke aanduiding voor koptekst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/ sec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jdelijke aanduiding voor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09A-EE05-48CB-83A2-B76AAF4396E1}" type="datetime"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jdelijke aanduiding voor voettekst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Author Name Surname /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jdelijke aanduiding voor dianumm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2BCA-E056-4A00-B7DB-6952B6F9B38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rdere enzymen zijn: trypsine, chymotrypsine, amylase, lip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31A3-C772-410D-BF65-AC34721D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E537-153B-4292-9825-8AF0A312F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01C2-1413-47BF-9C56-5506977F35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6359-A1D9-467B-BF0B-3EA51B3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3086B-F41D-4897-9D11-CBB82A0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A185-2552-4450-8994-6747DAE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1C03-F389-4BEA-A595-0CE064F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1D3E-EC25-48D4-98BF-592AE5E4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34E4-F75D-4621-859F-2EC7A568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FC98-D96D-4B8F-A06D-A94F52AF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1000-9FC2-4190-A278-87D50D72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DC37-9511-493A-A3CC-86675205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8ED7D-C7C8-48F6-9C08-2D8FDB16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1053-2F0B-42F0-BC57-94B0153270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E65F-8663-4F9C-86A4-E304183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D23C-07BA-4A67-965A-63D58E17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783D-7D9B-420B-B40A-FEAA87A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D2544-DD08-4DB6-BA22-032E212D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DFE7-AE7D-4B97-A141-0EC1228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90F4-65E7-4ADD-9FE0-8A2F9AF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1FD46-292A-4587-BD73-6686D87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C8265-B971-441F-A230-18618A6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16076-BD33-4533-B8F6-0738A4E4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535CA-5619-4DD4-8179-C37CE788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F3C1-248A-4D81-9FD2-6DDE45DB4A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67F33-3691-440A-8628-3674D9FF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4B50E-9923-459C-BFE1-3A983165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42B6F-E03B-4E7E-B602-6BAA4613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2E71-584D-44BE-AA08-60450802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509FD-6180-43DE-B869-3F0EC47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F3FE3-B86D-4EAE-9587-D2088BA3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96603-17EE-4D9F-AEF9-6BF5E798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4CE88-DCF0-4F2A-B059-AE8A78A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C12A1-360B-4F0C-9EFB-8A609FA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E722B-1169-41E8-8657-5C43CB8B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4F65-50BB-40E1-8775-A4275CDAED5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924E8-44CB-4F6D-8C28-0194E474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32C26-A998-43FE-A2F5-31C8EA45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0F20-E768-4F3F-A323-B3F2BDE5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9BAE-BE98-4D1A-B6B2-94C73CA8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0A2A-B25B-4930-B2D3-521866F2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13967-A4A8-4354-8CA2-2E8367B6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C6621-DBAD-4B3C-B360-8AEB2E4B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1810A-8D66-43CB-BEBE-603E1AC3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7703F-8E0A-4188-9FD0-58AAB455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18FF1-2C92-494E-BBDD-F181834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8DE0-88F5-41D9-9818-2BE0BCC1766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0A7D8-386E-457C-B297-F5DDE8E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D5C49-6742-4F26-88B3-D7D690A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2A74-C2F2-4638-9346-67EFFDDC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99EB9-54BA-4A70-8E71-00AE2C96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20B9D-7A88-46D6-A8C4-930C3289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CAF17-90B5-46AD-BDAB-F20CEBF6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0B829-9002-43A9-952B-5866D5FE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90A84-5BF8-4597-8472-58243BD5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4DBF8-E9EC-4269-9970-D61DB623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2DAD0-9911-4C61-8AC3-E5B68D57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BC3F-C1F0-406D-B27C-F4519A36FFE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54C4B-29E9-4657-9877-4FE058A7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6E3AE-8F05-4D54-AD4F-E188DC6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45697-7604-461D-B545-C3ACF7F8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05E43-7A1E-49EE-BFE5-E478F633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0CB47-F1D2-4922-A555-FBE52862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34290-3046-4D4C-8CD0-EBE4924D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80EED-50E5-424A-A11D-6CA3093B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77CC3-8723-4B0A-AE0D-6B79A779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CE207-6D7A-4540-94AA-223C75F8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0241A-C438-4121-98C6-887567A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E427-03C6-49D4-9490-70A5DA2DBD2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9B62E-FFF5-49E5-B69E-DA1760A8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84977-BD0C-487F-B3C4-F64AADA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2AF0B-97E2-4184-96CD-97DD11BC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52872-288D-4594-9910-598032F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BA17A-B2A5-43A8-BE0F-A8D6D13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B3586-107E-4370-B2B6-5ACE2F16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A9112-6313-41CB-8FF7-E9614A9B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99374-2B2E-463B-9656-522CACF7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EB4B7-6CFD-4177-972C-0F209E77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A19E8-414C-4286-9DE3-F2404E7E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0565-6E06-455E-8074-3F7F334E432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784C1-3485-4C3E-BF59-321AE8E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A916E-32EF-46B7-9DE8-473E909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244F8-BD36-41AA-B08E-AC0E9F0F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C589C-8DA1-4B88-AD1D-49E79C6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0117E-4413-4F43-86BB-EE1C219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AABC2-26E0-42C5-8C25-6FA41D6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7BDC8-301B-46E6-BD48-4F1B0B4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12B1F-6F06-46A2-AD4E-19E1C66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972DD-540C-462E-BE50-B949FC3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F9222-8AF5-4638-A5B5-6EAE4C10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23B8-8239-4C89-A6A1-4FA04B934D6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A7C6F-9D5B-4E21-99A2-B4F80109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5E783-D10A-4DF7-9114-B1252327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8054C-C00C-48B8-8BE8-144B442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EE7BA-473F-48FB-8BF5-F327C61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92EC2-BA6C-4C63-93EF-B56985C3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9020D-F690-4D3F-82C1-B311DE62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3986E-3AD7-4DE2-A055-DC540AD8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76D29-4CC3-4305-8A26-EFFEFAD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98986-D3E2-4A99-BF88-463362A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A6578-FDAA-4AA3-B753-965AD9DA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4F2B-1A62-4673-A036-E848F8D70A6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2555E-3CC4-4B39-B29D-9D8DDD8D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72B26-E02B-4926-8E76-69D52331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436C8-24C9-4999-8FF9-0DFEF3F9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BE98F-1501-4C62-8684-E065A921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D881D-4949-4710-ADB2-5C4EBFC8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9B939-0442-49EC-B3A6-F4C16008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D6017-1971-4A17-8E90-590F7657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57FF4-3294-4BA6-9680-F92FE23A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1299F-E749-4139-84DC-3120417A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3DBB7-A900-4A36-9E0A-E0B556F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DC6C-F35E-420D-A131-2DBF7B05D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2B38-59E3-4D4F-8B67-904825AFA3F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BE01A-9051-4DAA-8B3F-EC22C99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77A94-50E9-4CAD-945D-10299949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6540A-A65E-4EA0-847C-4C6EED03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4ED69-9FDF-44D5-9D8F-083B302C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F1AD0-C0D1-4510-B111-16AD8BB3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E9AD-0921-4E7E-AE6C-F9B5EBD0C9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E406-BDFE-4D42-8637-D6204AC0BD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611F-CF83-4866-8D84-AD26C359F7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08BB-800C-457B-A66F-9549A23BC9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C5D-F4EC-4733-ABE7-769EF4C724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575-FCA2-47C9-8A53-2D148CCD66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46A-7061-4467-9FBD-2A58372F3D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FCB-0284-421A-B8B5-7ED3D584D1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B83-0087-4AB5-BAA5-1C8750188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CE16-4EC4-46C7-83F2-61C7D75EB4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1F6-2B0D-472C-8E92-769DDA2DCE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078-3946-4D04-82CD-AECE414E9D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71B-8CD7-400B-B2E7-E3BFADC1BB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1A3-54AD-48F3-B41B-1837B35749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19D-F399-415C-8B9E-DA3C52ECC3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878-9C2D-404C-96EA-B75F6F3635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7A5-F3C8-4EAA-87FC-74F3A894E6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40FB-AFBE-4851-891E-A11A9E91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339-1954-44F8-BE31-EF3EF019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60BA-ECBA-4455-AE8B-52978068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FF75-A30F-4F59-B2D4-D2479DBAC3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9BAB-6481-4DC8-B7B5-2A5A85D5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55B8-C127-4B50-97ED-8319578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76DA-0583-4E9F-99ED-EB24EE3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FEE-D9C4-4E22-BE49-801C18B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FCA4-0CE7-44F7-B969-9835E625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0F7E-8053-457A-BEEC-8289BA71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FCDD-09BE-4D5F-9AD8-076BE2C1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C72A-13DD-4BA2-8EC5-7C94C704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4DC4-D3B0-4C60-8205-AB92C3DB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3647-F1DD-4948-9C63-5D1A27C2CB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4F12-0166-4EBD-9EDC-FD39A5A664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41AB-0FF7-4AFB-9586-9987111405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7C56-2802-468F-B808-142278C1179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091D-1A43-41F7-AAB9-82CEA7A8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B502-1F60-4F22-A8AD-24E9FE10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0FCA-3FA8-4D16-B609-81F25E1A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336B-20FD-4C68-805B-ED0AA00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6FA1D-9E6F-4D90-BF1F-F676B7C5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9E38-4FAC-47E8-9F32-A2F0DD2F25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0497-AE48-4B13-8034-C9BC78A4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9968-86F1-4669-AA13-8255AF5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089F3-806B-4B24-ABCB-54C86FB4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BC10-F59B-45C8-AE5D-5F89B3C6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B6DF7-F543-4C84-86B5-6C18192A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BFDC-540E-4C7B-97B2-D92FDE47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F449-7D35-41C6-9B53-2DE31763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58B80-0EAA-459F-BAF9-5852463F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99FFF-C6D4-4F79-A8ED-4256DC95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AF73-836B-4547-94B3-C1E40C81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DB7D-5AE9-41F0-B63D-13E0606732F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FCE3-49BA-41D6-BB47-1ABF9B164CC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87C-4788-4B1C-9841-E9105E3125F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662-8576-455E-868D-EEC6D63BFE6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784D-97C2-49B2-9C5B-DF7AEE2A3B5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615B-59CB-4F76-8D73-BFBADA9956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919-B7CB-49DE-8DA4-7FA10B1856D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3AA-F093-47F7-8805-9CF76DAD12F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B9B-B1C0-4DE7-BE14-34C3079416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FE06-AAC0-40C1-B769-F427EACDA4A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660C-C2D1-4CE8-95A5-8E29BF6F43B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6059-A58D-4B32-B8EE-1BBA8949A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B06-DC2A-4AD7-871B-8E2F0536A0C2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ED8F-E832-41B3-BD0D-4D8A424A0C1E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E30-6E11-47AD-B7BB-7985369D218D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387-984C-44E9-918F-19540863D29B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E29F-1CAB-4BE1-9C17-18DA3F4DDB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682C-27B5-429E-960A-FCB754EF65A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5280" y="1125000"/>
            <a:ext cx="5727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nl-NL" sz="6000" spc="-1" strike="noStrike">
                <a:solidFill>
                  <a:srgbClr val="000000"/>
                </a:solidFill>
                <a:latin typeface="Arial"/>
                <a:ea typeface="Arial"/>
              </a:rPr>
              <a:t>Thema 3</a:t>
            </a:r>
            <a:br>
              <a:rPr sz="5900"/>
            </a:br>
            <a:r>
              <a:rPr b="0" lang="nl-NL" sz="59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21-31-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. Wolf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+/- 10% van het lichaamsgewicht op een d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2,5x zoveel als het 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7C22-FB2C-4002-B954-4D51B13EEC3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Afbeelding 4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7305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934560" y="98100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inkbak vs. Drinknip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delen?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del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784B-7BE9-4C6D-9BF8-40A1FDC43D4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Afbeelding 4" descr=""/>
          <p:cNvPicPr/>
          <p:nvPr/>
        </p:nvPicPr>
        <p:blipFill>
          <a:blip r:embed="rId1"/>
          <a:stretch/>
        </p:blipFill>
        <p:spPr>
          <a:xfrm>
            <a:off x="2832120" y="1454040"/>
            <a:ext cx="6324480" cy="2853000"/>
          </a:xfrm>
          <a:prstGeom prst="rect">
            <a:avLst/>
          </a:prstGeom>
          <a:ln w="0">
            <a:noFill/>
          </a:ln>
        </p:spPr>
      </p:pic>
      <p:pic>
        <p:nvPicPr>
          <p:cNvPr id="764" name="Afbeelding 5" descr=""/>
          <p:cNvPicPr/>
          <p:nvPr/>
        </p:nvPicPr>
        <p:blipFill>
          <a:blip r:embed="rId2"/>
          <a:stretch/>
        </p:blipFill>
        <p:spPr>
          <a:xfrm>
            <a:off x="565200" y="4398840"/>
            <a:ext cx="2133720" cy="2184480"/>
          </a:xfrm>
          <a:prstGeom prst="rect">
            <a:avLst/>
          </a:prstGeom>
          <a:ln w="0">
            <a:noFill/>
          </a:ln>
        </p:spPr>
      </p:pic>
      <p:pic>
        <p:nvPicPr>
          <p:cNvPr id="765" name="Afbeelding 6" descr=""/>
          <p:cNvPicPr/>
          <p:nvPr/>
        </p:nvPicPr>
        <p:blipFill>
          <a:blip r:embed="rId3"/>
          <a:stretch/>
        </p:blipFill>
        <p:spPr>
          <a:xfrm>
            <a:off x="3030480" y="4400640"/>
            <a:ext cx="2308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23560" y="90756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br>
              <a:rPr sz="2800"/>
            </a:b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brijvoer zit veel water en weinig droge stof. (In verhouding 23% droge stof)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 varken drinkt 2,5x zoveel als eten.. D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400C-D7A6-492E-BC8D-07BC63515D9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Afbeelding 4" descr=""/>
          <p:cNvPicPr/>
          <p:nvPr/>
        </p:nvPicPr>
        <p:blipFill>
          <a:blip r:embed="rId1"/>
          <a:stretch/>
        </p:blipFill>
        <p:spPr>
          <a:xfrm>
            <a:off x="3708360" y="3206880"/>
            <a:ext cx="4383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ermid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uikers, eiwitten, zetmeel, minera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chtrijke voeder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&lt;85% D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kelvoudig voer = 1 produc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ngvoer = samengesteld in fabrie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remix + melasse + grondstoff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k/voe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 + voedermidde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‘voedermiddelen’ zoal; mengvoer, maar ook humane consumptie resten;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aaswei, bierborstel, aardappelstoomschill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9436-F4D0-4203-B797-48EF895C599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D67-E650-4783-96FE-37CEEE4EC88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14240" y="83664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worden opgesloten tijdens e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e gehele groep krijgt dezelfde voerg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met aantal worpen, drachtigheidsstadium en conditie bij elkaar zetten. 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deel: Individueel controle en voeren mogelij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deel: weinig gelegenheid tot vertonen van natuurlijk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E85B-AB23-4183-8BFF-B7FCB78B2F1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Afbeelding 5" descr="Afbeelding met binnen, metaal, staand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4140360" y="4043520"/>
            <a:ext cx="3968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ansponder om dier te identificer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ysteem herkent transponder en geeft de juiste hoeveelheid voeding per zeug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 eten na elkaar, niet tegelij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757-EDCC-47D3-B368-F8908F6954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Afbeelding 5" descr="Afbeelding met binnen, hond, dier, zoogdier&#10;&#10;Automatisch gegenereerde beschrijving"/>
          <p:cNvPicPr/>
          <p:nvPr/>
        </p:nvPicPr>
        <p:blipFill>
          <a:blip r:embed="rId1"/>
          <a:srcRect l="8262" t="12191" r="21653" b="0"/>
          <a:stretch/>
        </p:blipFill>
        <p:spPr>
          <a:xfrm>
            <a:off x="3924360" y="3648240"/>
            <a:ext cx="4257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116000" y="120348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voeren (ad-libitum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gepalleteerd 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B650-5682-4AD4-9E27-82663F0DAF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Afbeelding 5" descr="Afbeelding met dier, binnen, zwijn, schapen&#10;&#10;Automatisch gegenereerde beschrijving"/>
          <p:cNvPicPr/>
          <p:nvPr/>
        </p:nvPicPr>
        <p:blipFill>
          <a:blip r:embed="rId1"/>
          <a:stretch/>
        </p:blipFill>
        <p:spPr>
          <a:xfrm>
            <a:off x="2692440" y="2997360"/>
            <a:ext cx="5219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/varkens eten tegelijkertijd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eperkt 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tabiele productiegroepen noodzak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45FE-6274-400A-B45C-074EE9F3B4A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Afbeelding 5" descr="Afbeelding met binnen, bed, zitten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79200" y="3502080"/>
            <a:ext cx="3780000" cy="2620800"/>
          </a:xfrm>
          <a:prstGeom prst="rect">
            <a:avLst/>
          </a:prstGeom>
          <a:ln w="0">
            <a:noFill/>
          </a:ln>
        </p:spPr>
      </p:pic>
      <p:pic>
        <p:nvPicPr>
          <p:cNvPr id="792" name="Afbeelding 7" descr="Afbeelding met binnen, gebouw, bruin, klein&#10;&#10;Automatisch gegenereerde beschrijving"/>
          <p:cNvPicPr/>
          <p:nvPr/>
        </p:nvPicPr>
        <p:blipFill>
          <a:blip r:embed="rId2"/>
          <a:stretch/>
        </p:blipFill>
        <p:spPr>
          <a:xfrm>
            <a:off x="4140360" y="3495600"/>
            <a:ext cx="47559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fokzeugen en b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5BC5-8D3E-4BE1-A1BF-9EE0B8229BC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3800" y="369720"/>
            <a:ext cx="66452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ho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619280" y="142092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pijsverteringsste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er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M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amenstelling vo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Waterbehoe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der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syst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en per dier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1240" indent="-3412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ECA1-AC22-457D-8810-2030BAF91A0C}" type="slidenum">
              <a:rPr b="0" lang="nl-NL" sz="1100" spc="-1" strike="noStrike">
                <a:solidFill>
                  <a:srgbClr val="57585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-368280" y="6546960"/>
            <a:ext cx="874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EF3-4514-4318-9B9B-D2120CDFFE1D}" type="slidenum">
              <a:rPr b="0" lang="nl-NL" sz="1100" spc="-1" strike="noStrike">
                <a:solidFill>
                  <a:srgbClr val="57585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642960" y="214200"/>
            <a:ext cx="640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79280" y="231480"/>
            <a:ext cx="6645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1280" y="84312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fokzeug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 sterk dier neerzetten d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timale voortplantingsresulta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haal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240/260 dage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dekrijp &amp; 120 kg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Letten op vervetti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zeugenvoer (vanaf 2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Specifiek gelten opfokvoer (vanaf 4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(eiwitbehoefte gelt &lt; vleesvarken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70 – 110 k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opfokvoe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&gt;110 kg drachtvoer</a:t>
            </a: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voer, of combi van dracht&amp;lacto voer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Extra zink: i.v.m. uitscheiden sperma. 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s drachtvoer als beer volledig volgroeid is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0D8-C28F-49FB-9742-AE5C6557DD2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Afbeelding 5" descr="Afbeelding met dier, binnen, zoogdier, bruin&#10;&#10;Automatisch gegenereerde beschrijving"/>
          <p:cNvPicPr/>
          <p:nvPr/>
        </p:nvPicPr>
        <p:blipFill>
          <a:blip r:embed="rId1"/>
          <a:stretch/>
        </p:blipFill>
        <p:spPr>
          <a:xfrm>
            <a:off x="6302520" y="3789360"/>
            <a:ext cx="2806560" cy="1663560"/>
          </a:xfrm>
          <a:prstGeom prst="rect">
            <a:avLst/>
          </a:prstGeom>
          <a:ln w="0">
            <a:noFill/>
          </a:ln>
        </p:spPr>
      </p:pic>
      <p:pic>
        <p:nvPicPr>
          <p:cNvPr id="800" name="Afbeelding 7" descr="Afbeelding met zwijn, dier, gras, zoogdier&#10;&#10;Automatisch gegenereerde beschrijving"/>
          <p:cNvPicPr/>
          <p:nvPr/>
        </p:nvPicPr>
        <p:blipFill>
          <a:blip r:embed="rId2"/>
          <a:stretch/>
        </p:blipFill>
        <p:spPr>
          <a:xfrm>
            <a:off x="5302080" y="878040"/>
            <a:ext cx="34927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2656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el: gezonde, sterke, goed producerende zeug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derhoudsbehoefte afhankelijk van gewicht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xtra voedingsstoffen en eiwitten bij dracht en lactatie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Insemineren tot werp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d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ijdens het zo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lacto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uste ze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nstvoer, lacto, bigg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(koolhydraten), dextro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cellen + aantal cellen stijgt. (flus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AF1-19DF-4F1F-A2AB-0F99B4ECB31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Afbeelding 4" descr=""/>
          <p:cNvPicPr/>
          <p:nvPr/>
        </p:nvPicPr>
        <p:blipFill>
          <a:blip r:embed="rId1"/>
          <a:stretch/>
        </p:blipFill>
        <p:spPr>
          <a:xfrm>
            <a:off x="2771640" y="2382840"/>
            <a:ext cx="5688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36120" y="974880"/>
            <a:ext cx="504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est (36 uur) en mel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Overgang vezels en vast voer (maag-darmstelsel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j +/- 2 weken leef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melkkorrel / kruim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kele dagen voor spe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korr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na spenen (28 dagen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voer (droog of brijvo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8514-B5A5-401C-BCDB-C73AF81A61F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Afbeelding 6" descr="Afbeelding met binnen, bed, neerleggen, hond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052640"/>
            <a:ext cx="3741840" cy="2446200"/>
          </a:xfrm>
          <a:prstGeom prst="rect">
            <a:avLst/>
          </a:prstGeom>
          <a:ln w="0">
            <a:noFill/>
          </a:ln>
        </p:spPr>
      </p:pic>
      <p:pic>
        <p:nvPicPr>
          <p:cNvPr id="809" name="Afbeelding 8" descr="Afbeelding met frietjes, fruit, noot, zitten&#10;&#10;Automatisch gegenereerde beschrijving"/>
          <p:cNvPicPr/>
          <p:nvPr/>
        </p:nvPicPr>
        <p:blipFill>
          <a:blip r:embed="rId2"/>
          <a:stretch/>
        </p:blipFill>
        <p:spPr>
          <a:xfrm>
            <a:off x="4475160" y="479268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810" name="Afbeelding 10" descr="Afbeelding met hond, binnen, tafel, gebouw&#10;&#10;Automatisch gegenereerde beschrijving"/>
          <p:cNvPicPr/>
          <p:nvPr/>
        </p:nvPicPr>
        <p:blipFill>
          <a:blip r:embed="rId3"/>
          <a:srcRect l="19762" t="17497" r="19762" b="11235"/>
          <a:stretch/>
        </p:blipFill>
        <p:spPr>
          <a:xfrm>
            <a:off x="1187280" y="4792680"/>
            <a:ext cx="273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4000" y="105264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pieren en vleesaanze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wit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nelle groei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Voederconversie belangrijk! (VC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t op vervetten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leur: biggen eten eerder uit een opvallende bak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oglengte van 35 cm per vark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erfas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org zit sneller aan VC dan g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6527-1119-4C6C-9803-4E950833FDB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Afbeelding 4" descr=""/>
          <p:cNvPicPr/>
          <p:nvPr/>
        </p:nvPicPr>
        <p:blipFill>
          <a:blip r:embed="rId1"/>
          <a:stretch/>
        </p:blipFill>
        <p:spPr>
          <a:xfrm>
            <a:off x="2705040" y="981000"/>
            <a:ext cx="6114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7690-C795-4E1E-B12F-DDBC664F6C8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 en wroetschijf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roetschijf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kraakbe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aarnaast een g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eukorgaa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lwassen gebit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44 tanden en kieze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B7CC-6E91-4B75-8F86-F6DA2C9955C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Afbeelding 4" descr=""/>
          <p:cNvPicPr/>
          <p:nvPr/>
        </p:nvPicPr>
        <p:blipFill>
          <a:blip r:embed="rId1"/>
          <a:stretch/>
        </p:blipFill>
        <p:spPr>
          <a:xfrm>
            <a:off x="5580000" y="1281240"/>
            <a:ext cx="2884680" cy="2147760"/>
          </a:xfrm>
          <a:prstGeom prst="rect">
            <a:avLst/>
          </a:prstGeom>
          <a:ln w="0">
            <a:noFill/>
          </a:ln>
        </p:spPr>
      </p:pic>
      <p:pic>
        <p:nvPicPr>
          <p:cNvPr id="733" name="Afbeelding 5" descr=""/>
          <p:cNvPicPr/>
          <p:nvPr/>
        </p:nvPicPr>
        <p:blipFill>
          <a:blip r:embed="rId2"/>
          <a:stretch/>
        </p:blipFill>
        <p:spPr>
          <a:xfrm>
            <a:off x="5729400" y="4049640"/>
            <a:ext cx="29574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70 cm la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staltische bewegingen en slijmprodu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5 à 8 liter inhoud,   maagsapklieren,  zoutzuur (HCL)  pH = 2 à 3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splitsing eiw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uur doodt bacterië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ess verstoort slijmproduc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maagzwer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ruwvoer gev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D7F7-EF88-4DB9-BBE3-4C36D2A2D8B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098720" y="99216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12 vingerige darm (60 cm)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rdere enzymen en galsappen komen samen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unne darm (18 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linde darm (4 meter)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absorptie wat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werking darmbacterië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fermenta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zels erg belangrijk!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deldarm, laatste stu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9ADA-A610-43AC-9523-CF869525F1F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50560" y="1203480"/>
            <a:ext cx="532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= geen herkauw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s… moeite met ruwe celstof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 wordt bewerkt (ontsl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. bij veel vezel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ermentatie in de dikke d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uwvo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gaat langzaam door darm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verzadigd gevoel + verhoogt we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C605-9218-4D50-9148-CDB809D429B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Afbeelding 4" descr=""/>
          <p:cNvPicPr/>
          <p:nvPr/>
        </p:nvPicPr>
        <p:blipFill>
          <a:blip r:embed="rId1"/>
          <a:stretch/>
        </p:blipFill>
        <p:spPr>
          <a:xfrm>
            <a:off x="5614920" y="3462480"/>
            <a:ext cx="31561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zie je aan de mest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rantsoen goed afgestemd, ja of ne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2BF-F8EB-4F99-B6B0-F001AA11269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Afbeelding 4" descr=""/>
          <p:cNvPicPr/>
          <p:nvPr/>
        </p:nvPicPr>
        <p:blipFill>
          <a:blip r:embed="rId1"/>
          <a:stretch/>
        </p:blipFill>
        <p:spPr>
          <a:xfrm>
            <a:off x="3995640" y="2346480"/>
            <a:ext cx="4349880" cy="3314520"/>
          </a:xfrm>
          <a:prstGeom prst="rect">
            <a:avLst/>
          </a:prstGeom>
          <a:ln w="0">
            <a:noFill/>
          </a:ln>
        </p:spPr>
      </p:pic>
      <p:cxnSp>
        <p:nvCxnSpPr>
          <p:cNvPr id="748" name="Rechte verbindingslijn met pijl 6"/>
          <p:cNvCxnSpPr/>
          <p:nvPr/>
        </p:nvCxnSpPr>
        <p:spPr>
          <a:xfrm>
            <a:off x="2484000" y="2707920"/>
            <a:ext cx="2375280" cy="28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49" name="Rechte verbindingslijn met pijl 7"/>
          <p:cNvCxnSpPr/>
          <p:nvPr/>
        </p:nvCxnSpPr>
        <p:spPr>
          <a:xfrm flipV="1">
            <a:off x="2626920" y="4841280"/>
            <a:ext cx="2313720" cy="103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0" name="Tekstvak 9"/>
          <p:cNvSpPr/>
          <p:nvPr/>
        </p:nvSpPr>
        <p:spPr>
          <a:xfrm>
            <a:off x="53964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meüi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kelijk in te druk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li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kstvak 10"/>
          <p:cNvSpPr/>
          <p:nvPr/>
        </p:nvSpPr>
        <p:spPr>
          <a:xfrm>
            <a:off x="792000" y="53197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eft langer in de darm gez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ende-analy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racties diervoeder analys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B1B-B454-4505-802E-9AC1EE2F506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Afbeelding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67989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Kelly van Gorp</cp:lastModifiedBy>
  <dcterms:modified xsi:type="dcterms:W3CDTF">2019-11-07T19:16:51Z</dcterms:modified>
  <cp:revision>137</cp:revision>
  <dc:subject/>
  <dc:title>Gebruik van Powerpoint sjablonen</dc:title>
</cp:coreProperties>
</file>