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8.jpeg" ContentType="image/jpeg"/>
  <Override PartName="/ppt/media/image11.png" ContentType="image/png"/>
  <Override PartName="/ppt/media/image7.jpeg" ContentType="image/jpeg"/>
  <Override PartName="/ppt/media/image20.png" ContentType="image/png"/>
  <Override PartName="/ppt/media/image13.png" ContentType="image/png"/>
  <Override PartName="/ppt/media/image5.jpeg" ContentType="image/jpeg"/>
  <Override PartName="/ppt/media/image23.wmf" ContentType="image/x-wmf"/>
  <Override PartName="/ppt/media/image18.jpeg" ContentType="image/jpeg"/>
  <Override PartName="/ppt/media/image22.png" ContentType="image/png"/>
  <Override PartName="/ppt/media/image21.png" ContentType="image/png"/>
  <Override PartName="/ppt/media/image19.png" ContentType="image/png"/>
  <Override PartName="/ppt/media/image1.png" ContentType="image/png"/>
  <Override PartName="/ppt/media/image16.jpeg" ContentType="image/jpeg"/>
  <Override PartName="/ppt/media/image15.png" ContentType="image/pn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7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1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F57F2-A7D7-47EF-95C1-89471F4BC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9ED74-2C4D-4C1D-A025-5565A62CFEC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verrijkte omgeving moet agressiviteit en staartbijten verminderen.</a:t>
            </a:r>
            <a:br>
              <a:rPr sz="1200"/>
            </a:br>
            <a:r>
              <a:rPr b="0" lang="nl-NL" sz="1200" spc="-1" strike="noStrike">
                <a:solidFill>
                  <a:srgbClr val="000000"/>
                </a:solidFill>
                <a:latin typeface="Arial"/>
              </a:rPr>
              <a:t>Stro is verder positief voor het nestbouwgedrag van de zeugen. </a:t>
            </a:r>
            <a:endParaRPr b="0" lang="en-US" sz="1200" spc="-1" strike="noStrike">
              <a:solidFill>
                <a:srgbClr val="000000"/>
              </a:solidFill>
              <a:latin typeface="Arial"/>
            </a:endParaRPr>
          </a:p>
        </p:txBody>
      </p:sp>
      <p:sp>
        <p:nvSpPr>
          <p:cNvPr id="86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6342-6F2F-4EF0-83BF-7664C7B54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Maar…</a:t>
            </a:r>
            <a:br>
              <a:rPr sz="1200"/>
            </a:br>
            <a:r>
              <a:rPr b="0" lang="nl-NL" sz="1200" spc="-1" strike="noStrike">
                <a:solidFill>
                  <a:srgbClr val="000000"/>
                </a:solidFill>
                <a:latin typeface="Arial"/>
              </a:rPr>
              <a:t>Zeugen kunnen stro maar voor een klein deel verteren en het levert weinig energie op. Voor biggen en vleesvarkens tot 50 kg is het stro al helemaal niet bruikbaar en ongeschikt voor consumptie. Aanbevolen wordt om naast biologisch stro ook ander (‘fijner’) ruwvoer te verstrekken.</a:t>
            </a:r>
            <a:endParaRPr b="0" lang="en-US" sz="1200" spc="-1" strike="noStrike">
              <a:solidFill>
                <a:srgbClr val="000000"/>
              </a:solidFill>
              <a:latin typeface="Arial"/>
            </a:endParaRPr>
          </a:p>
        </p:txBody>
      </p:sp>
      <p:sp>
        <p:nvSpPr>
          <p:cNvPr id="86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DEFA-9D65-4494-8C3D-ED3BB412E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wel vleesvarkens als fokvarkens zijn vooral stijgende binnen de biologische varkenshouderij. </a:t>
            </a:r>
            <a:endParaRPr b="0" lang="en-US" sz="1200" spc="-1" strike="noStrike">
              <a:solidFill>
                <a:srgbClr val="000000"/>
              </a:solidFill>
              <a:latin typeface="Arial"/>
            </a:endParaRPr>
          </a:p>
        </p:txBody>
      </p:sp>
      <p:sp>
        <p:nvSpPr>
          <p:cNvPr id="8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C74C-5B41-4BE8-8C28-76553772C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 status type heeft jou BPV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s://www.rvo.nl/onderwerpen/agrarisch-ondernemen/dieren/dieren-registreren/varkens/varkens-verplaatsen/bedrijfs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7D3F-C647-40C5-B203-01E78F8A4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0132-5608-4F05-BACC-603B0DCC1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96CD-E65E-4B1F-9D74-3FE6DA41F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2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CC639-4FC2-4550-A8A6-B2A743417B20}"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2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2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18FB-2D78-4E05-9AB4-852CF7345EA4}"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672DB-07FC-4821-BE2A-0D5EA3F2D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 1 uur de tijd om dit te maken. </a:t>
            </a:r>
            <a:br>
              <a:rPr sz="1200"/>
            </a:br>
            <a:r>
              <a:rPr b="0" lang="nl-NL" sz="1200" spc="-1" strike="noStrike">
                <a:solidFill>
                  <a:srgbClr val="000000"/>
                </a:solidFill>
                <a:latin typeface="Arial"/>
              </a:rPr>
              <a:t>Beetje afhankelijk van het verloop van deze dag. </a:t>
            </a:r>
            <a:endParaRPr b="0" lang="en-US" sz="1200" spc="-1" strike="noStrike">
              <a:solidFill>
                <a:srgbClr val="000000"/>
              </a:solidFill>
              <a:latin typeface="Arial"/>
            </a:endParaRPr>
          </a:p>
        </p:txBody>
      </p:sp>
      <p:sp>
        <p:nvSpPr>
          <p:cNvPr id="8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BCEF8-2EBC-43AB-AA11-DB0D27531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30"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BA426-6CF6-4B12-887B-EA58E0667BCB}"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31"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32"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5DCE-C064-4CCA-BD06-8F0D1EB26143}"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36"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694DA-4B18-4B24-9872-ED81FA2FEA48}"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37"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38"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DC2DA-C6DD-4513-9C1E-EB9C2ACD3622}"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4.500). </a:t>
            </a:r>
            <a:br>
              <a:rPr sz="1200"/>
            </a:br>
            <a:r>
              <a:rPr b="0" lang="nl-NL" sz="1200" spc="-1" strike="noStrike">
                <a:solidFill>
                  <a:srgbClr val="000000"/>
                </a:solidFill>
                <a:latin typeface="Arial"/>
              </a:rPr>
              <a:t>- Aantal dieren stijgt vanaf 2004.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41"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42"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08871-4525-441C-9C55-C3D55C064161}"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43"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44"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B121-9B1A-49DE-820D-7285305FAD71}"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3.500). </a:t>
            </a:r>
            <a:br>
              <a:rPr sz="1200"/>
            </a:br>
            <a:r>
              <a:rPr b="0" lang="nl-NL" sz="1200" spc="-1" strike="noStrike">
                <a:solidFill>
                  <a:srgbClr val="000000"/>
                </a:solidFill>
                <a:latin typeface="Arial"/>
              </a:rPr>
              <a:t>- Aantal dieren steeg in 2004 en neemt nu weer af sinds 2011.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47"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48"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BA61C-E7C3-4AAA-A866-6819C4F3F668}"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49"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50"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C600-0772-408F-96A2-D00390C50AE0}"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1.800). </a:t>
            </a:r>
            <a:br>
              <a:rPr sz="1200"/>
            </a:br>
            <a:r>
              <a:rPr b="0" lang="nl-NL" sz="1200" spc="-1" strike="noStrike">
                <a:solidFill>
                  <a:srgbClr val="000000"/>
                </a:solidFill>
                <a:latin typeface="Arial"/>
              </a:rPr>
              <a:t>- Aantal dieren steeg in 2006 en neemt nu weer af sinds 2011 met pieken en dalen.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5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5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13481-B497-4ECE-B2C1-E4AE6D6ECA70}"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5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5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00184-CAB8-4D82-B8A7-AE440BEBF920}"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uidige opbrengst (2018) is afgebeeld rechts onderin. </a:t>
            </a:r>
            <a:br>
              <a:rPr sz="1200"/>
            </a:br>
            <a:r>
              <a:rPr b="0" lang="nl-NL" sz="1200" spc="-1" strike="noStrike">
                <a:solidFill>
                  <a:srgbClr val="000000"/>
                </a:solidFill>
                <a:latin typeface="Arial"/>
              </a:rPr>
              <a:t>Voerprijs neemt toe, opbrengst neemt af. </a:t>
            </a:r>
            <a:endParaRPr b="0" lang="en-US" sz="1200" spc="-1" strike="noStrike">
              <a:solidFill>
                <a:srgbClr val="000000"/>
              </a:solidFill>
              <a:latin typeface="Arial"/>
            </a:endParaRPr>
          </a:p>
        </p:txBody>
      </p:sp>
      <p:sp>
        <p:nvSpPr>
          <p:cNvPr id="85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8DF6-1422-41A1-8E7C-AED209444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8DFA29-B72F-4B7B-9C02-CD75EF8266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4F5513D-E443-405B-807F-4015C50A653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118A20-1898-4741-BDF7-C3E68B2AE9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1484E7-2E09-4512-BD7E-9C58A50AEC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8B020D-E116-439B-A368-785FA4A18D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06F0A5-447B-4D1D-8652-F8B84A9782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738BF3-F7A4-4FC9-A77E-D730298F28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063A55-1DB9-4293-8033-84B34D30C8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493A7D-27DB-485D-B04E-1132AE526B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B2C45E-284E-4836-AFE0-73971BF264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C1D2C2-3662-489C-8A4A-7B79FC9183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050AE1-9CD0-4E2B-8AFE-0069E3A6EA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9A32766-8014-4C81-A72A-B46DA8DA39D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DA8D18-4CA0-4339-BD87-D965C47064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98A90F-DE2D-4DAC-BF3A-80A94E8FF7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FDAEC8-5073-44C1-9806-E0AA335B19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D398BC-9F6F-4601-B169-4C9E648804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B5A9DD-F610-4874-9367-4F3D30CE57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E1E390-15A6-4D30-A5AE-648C3D9DD6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65CF50-4599-4E47-851D-7903B4E088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6E493F-D847-4C94-95AC-D3B3DD416A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B6381E-2012-45CC-B158-5EFD102EEE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CDDC23-9721-4023-AD8A-E03B5CB1E6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AECF50F-7965-4494-B80F-228E29E7BCA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555719-1194-4481-9022-38F3B0A5D5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236A67-00D3-4741-A882-1A664A5AAB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1E3FFD-78D9-4515-87C6-C7441341D5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CFAA60-F18C-412D-9678-40B54877E4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B8F373-FBB4-4E57-AEF5-40154189BE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6319BA-637A-4EFB-99A5-BB28267CD6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782D2F-BA6F-483C-AA4C-56594ED5C7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CD7EA3-3B27-42FC-9506-D5EE44D00F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47399D-3D1D-4A61-9F43-64AFBF1485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81DAF2-3553-458A-8790-CD8BC58C12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C43C35-1497-4163-A6CA-1AE8ACC9496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9C36F3-B642-4044-9395-11BCE5A9BC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706781-40B4-4032-981F-6BF6E895E3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3B07E5-156A-42D0-A4C5-5820FFEC22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1C2A85-1535-4F1B-B259-4F1C896A57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44AEEE-042B-41B8-903E-E233258718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B261CB-3F1C-4CFA-9D22-727219B145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F829E3-D25E-4CFD-B7C1-7323627885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1C07D8-0B73-47DE-8EFB-422FD4822B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F916C2-E583-494E-9B1E-0157D8A54B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931BDF-0AD8-42EC-B7D8-96A7393AB6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DD15F16-6143-4710-B837-9549D2946D9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885E42-2545-4D17-95BC-8E18F83BC3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69EB79-E3B6-478D-B43E-3B9D4AE7CB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0BC9EE-CC5D-492A-AE70-B638A045BF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D8D478-F21F-46A7-BE1E-EDE1A08BAE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0B1B9E-8DF0-44FD-B299-8C9AE3CE8F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84160E-D308-466A-B7BD-93EE70AF3D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5BECF2-EB6D-479B-A6AE-26711E7B3B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B17DE9-1277-494E-A2F3-DC0842D639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CF2280-4183-4EE7-B60B-77E264F354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F4A869-1611-4217-B07C-A3B4A4AAA2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DDD0DB8-157C-45F3-80BE-466AE6C0B7E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BA10CE-4DEF-4AE9-81D8-8917BB9A9A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538E75-0ABE-4198-87CD-2D2F725CF9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AB7C01-4A0D-4C79-B0A1-FBDC876D24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236C1F-69B7-43A2-98FB-80682E44AA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155CC1-E960-4806-B9E3-56CD376BF6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1FD736-30D3-4CDE-8E3A-8B348C453B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3BA0B2-B788-445B-9DD6-0380148711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FFC4C84-1E6B-4124-B38A-0AF37B4BFB4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ACA50E-958A-4D69-9A0A-1CA13ACAE2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FF85A5-A2EE-4381-9E17-00CB63BB4D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B1E9AAF-9982-4719-AF70-5AD1BFBFA73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E13C33-48CF-46E7-9F8D-F67B44D430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A83076-8FC1-4675-9259-8275A7079D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977EE3-3A38-4A83-8026-77D8FE9062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7B8ACD-1C7F-4195-A898-DF110DBDEE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CF77A5-B099-46E2-9BA8-EC56805981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0A4BF9-2EDB-4BBC-9DC5-FEADAC4315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8D1401-1E5E-4A9F-8124-885E289BF0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ABD849C-9386-462C-8C99-8662890E8E9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06CC439-49D3-4639-9446-E56B709E369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BE6C888-8E13-4BFB-8015-EBE5A1B86B3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5E00BD9B-62EF-489B-B425-7C4A600BB26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9CDD4B-1186-467B-B5AA-250FD0E8F8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DBA5AE-71DC-4131-BEBD-463E038235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AD32CE-135A-4B35-9679-9711EA5B82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746D54E-DA91-4E2B-9398-6065CF38DD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B29975-1043-40E6-8C1B-45422FD5B8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01C820-1D05-4EDA-92B6-511E99155D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CF38AF-E8DD-4345-AD09-5802FC736D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92171F-DD27-4D4D-BDDB-77FA0902FC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BA6F8C-1F9F-4BCC-8002-721FC5775E6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2F02B31-CCB3-4466-BB99-97B95FD09C5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B98FA8D-94A6-44C6-AE77-48E4F0BEB67A}"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E714FA5-BFFB-4DCD-BDB5-E89A758BE89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96109BE-989B-493F-8195-1AFCCF4E754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A2A409E-CEBA-4C28-B598-FB7066CC23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6A29BE-67CB-402F-9CAC-FB9320E8FC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ADA864-C2D8-4D2B-9C61-91F8A97B6A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7440F5-9D84-4CBB-B50D-1CCF2097E74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7EA4E48-9E33-42AA-AB38-B063436DECC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E4DCC9-C37B-4B53-AE61-BEFCA1BAA1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50F7BE-CD2E-4A91-9FB7-9A6924B46C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9EDBC0-C8E6-4007-A624-7A5B1EDB4E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E0F943E-DFBF-40CB-813B-E5AA93DF2F9C}"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1C0583-11C4-4450-AA30-040A6C33A6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B40ABB0-7571-4F95-9BB7-E358226C81D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51354CD-B85B-41E9-AFED-D1473049F20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5130808-DAD5-4C8A-B0A1-AB89AFB1B4B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09C0ABF-0ECF-4E26-9AD8-A97015DF5A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5CC0DDB-CF63-4B68-B183-3223F9499AC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5261ECB-8B7D-4CE7-9A7F-C4AE682EE0C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E469C34-53CE-4895-86E0-F97BCBEDD2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1CE2216-9DE8-48DE-B462-599EB5623FE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7973B4-B558-4974-90A3-EB2C23E0B6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3C2C894-0FC4-470B-AC93-9B75D8B35C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0B7F36C-6E5D-4B66-AA69-C0AFB2E6664F}"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178B26-3DC5-4BDE-9EAB-AC18F235E36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7B70D8-48F7-4443-8BE5-C45BB6D384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3E22729-C5EE-43CD-A210-56170DB8352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8347E14-9A5C-4DC9-96DA-B4193B154F7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AC55E59-5115-40E5-AF2E-5C9F32BDA04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EA5CEE1-B642-4C23-B280-CD458BCA1E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250A641-DDD4-4E13-A423-72D46C6541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7F283A4-35B0-450A-8780-043D6DF6BA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4DB6530-96A9-4B28-976E-FF5CC3CBF5C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9E89D88-265D-4ED4-B177-A358114986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C9E194B-5F3C-4991-BFE1-86838CFFED2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B99C049-1CDB-4E71-9936-44117A908CF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0C43185-2CD5-4074-9357-10DF3DD6CA5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48E448FD-EDEE-4E4A-83AC-11AEBF6AE9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294A6B0-F4D1-4508-8FBE-0514EA43709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DD0E599-3EA1-4955-9667-A5B9854986C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3E80931-B4D9-4C0B-B911-DD16957F37B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641C551-6B4B-40AA-BFAB-18BA833B128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BF6A437-6CD8-4CCF-94F7-94B4C6C526B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0064443-47C4-4E9F-BD85-7235BC689C1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8AB8118-8D6A-4E7B-823B-229A69AB93A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3CDCAB2-4DEA-475D-805A-48E3A721A35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D67A38-7DE8-49E4-93D8-153405943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476E5-A32C-4360-B153-04FD72B6C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EA87C-68C1-46B3-BE2A-9DDAEA96E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5781D9A-851B-47AA-9E1C-D2134B58697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9296E-F35F-419D-BB4B-50BA5CEC8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C6CCA-3E9E-4C63-8D6C-9EC1B3579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B7952-2CD6-4B9B-9A4B-063DD9734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ECCCD-0DCF-431F-9981-2ED2BA905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C05A1-D116-4AE7-B4D7-C91A6777C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84CE3-08EA-45FB-B0ED-D09D39BFA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B47C8-1FC2-47C8-B14B-36A5AE5D2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FCB52D-C666-46F9-9935-2F8514C66C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509800-C33D-4B5B-9CA0-9CCBEEE9F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BE119B2A-EF07-43A4-A140-275C94E38A7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3A9630A-A210-449E-A460-AE13051EB66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FCE85EB-22D6-4BEC-BB37-1657D83501C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4F3A1C3-71BA-4028-9DA6-7BCB6545E77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53416A-E4E9-4DC9-8163-042AC667E5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18395A-B909-42EE-94A7-F72F9774D2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9D1150-E164-4B60-8DBC-79337A73F4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23D119-4F30-4003-A1D2-BF9AB26EE7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36066E-7C39-4792-AEC3-2DB2BCEC1B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DAC2D01-D6C2-4483-B8EF-BA43E89BAD3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6C5ABA-9FA0-4706-A3F4-6AC5A40F82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496B3D-4702-4277-881B-FC6956CE49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882278-E905-4286-9E10-89FC65F8B2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AB150F-3B94-4630-9432-0639F49BA9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271474-BF8E-4CF1-A31F-23C9BCB46B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0B309A-755D-455B-9EE1-B3BE774851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30A08E-8992-4A81-82D4-407272CD2C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F40EDF-8DA2-4347-BD71-D47630DEC1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8C3B5B-36E4-49FB-8B36-7EAA90B573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1B495C-E9BD-4615-A6D8-6AE4454C70B9}"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4920" y="-23760"/>
            <a:ext cx="9215280" cy="6912000"/>
          </a:xfrm>
          <a:prstGeom prst="rect">
            <a:avLst/>
          </a:prstGeom>
          <a:ln w="0">
            <a:noFill/>
          </a:ln>
        </p:spPr>
      </p:pic>
      <p:sp>
        <p:nvSpPr>
          <p:cNvPr id="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 name="PlaceHolder 3"/>
          <p:cNvSpPr>
            <a:spLocks noGrp="1"/>
          </p:cNvSpPr>
          <p:nvPr>
            <p:ph type="sldNum" idx="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F8E7-F02D-489A-BBFA-17C3A0E3034B}"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Afbeelding 7" descr=""/>
          <p:cNvPicPr/>
          <p:nvPr/>
        </p:nvPicPr>
        <p:blipFill>
          <a:blip r:embed="rId2"/>
          <a:stretch/>
        </p:blipFill>
        <p:spPr>
          <a:xfrm>
            <a:off x="0" y="0"/>
            <a:ext cx="9144000" cy="685800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7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D2B52-0B24-4238-BCD1-AA0C87BF337B}"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Afbeelding 7"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2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4AA4-8493-4F4E-BFC2-BF43B9F7B89B}"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Afbeelding 7" descr=""/>
          <p:cNvPicPr/>
          <p:nvPr/>
        </p:nvPicPr>
        <p:blipFill>
          <a:blip r:embed="rId2"/>
          <a:stretch/>
        </p:blipFill>
        <p:spPr>
          <a:xfrm>
            <a:off x="0" y="0"/>
            <a:ext cx="9144000" cy="6858000"/>
          </a:xfrm>
          <a:prstGeom prst="rect">
            <a:avLst/>
          </a:prstGeom>
          <a:ln w="0">
            <a:noFill/>
          </a:ln>
        </p:spPr>
      </p:pic>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6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9F5B7-3A62-4103-B82B-E840937737B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Afbeelding 7" descr=""/>
          <p:cNvPicPr/>
          <p:nvPr/>
        </p:nvPicPr>
        <p:blipFill>
          <a:blip r:embed="rId2"/>
          <a:stretch/>
        </p:blipFill>
        <p:spPr>
          <a:xfrm>
            <a:off x="0" y="0"/>
            <a:ext cx="9144000" cy="6858000"/>
          </a:xfrm>
          <a:prstGeom prst="rect">
            <a:avLst/>
          </a:prstGeom>
          <a:ln w="0">
            <a:noFill/>
          </a:ln>
        </p:spPr>
      </p:pic>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05"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18EB-1F07-4313-A3EA-109352BBC2E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Afbeelding 7" descr=""/>
          <p:cNvPicPr/>
          <p:nvPr/>
        </p:nvPicPr>
        <p:blipFill>
          <a:blip r:embed="rId2"/>
          <a:stretch/>
        </p:blipFill>
        <p:spPr>
          <a:xfrm>
            <a:off x="0" y="0"/>
            <a:ext cx="9144000" cy="6858000"/>
          </a:xfrm>
          <a:prstGeom prst="rect">
            <a:avLst/>
          </a:prstGeom>
          <a:ln w="0">
            <a:noFill/>
          </a:ln>
        </p:spPr>
      </p:pic>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6"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A6E3-5300-42D4-B6CC-D86E5E82F35B}"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Afbeelding 7" descr=""/>
          <p:cNvPicPr/>
          <p:nvPr/>
        </p:nvPicPr>
        <p:blipFill>
          <a:blip r:embed="rId2"/>
          <a:stretch/>
        </p:blipFill>
        <p:spPr>
          <a:xfrm>
            <a:off x="0" y="0"/>
            <a:ext cx="9144000" cy="6858000"/>
          </a:xfrm>
          <a:prstGeom prst="rect">
            <a:avLst/>
          </a:prstGeom>
          <a:ln w="0">
            <a:noFill/>
          </a:ln>
        </p:spPr>
      </p:pic>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8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6230-7873-485F-B70D-99EFD576429B}"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Afbeelding 7"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3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6CEC-61FB-4D3C-9BAF-34A8125C05AA}"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Afbeelding 7" descr=""/>
          <p:cNvPicPr/>
          <p:nvPr/>
        </p:nvPicPr>
        <p:blipFill>
          <a:blip r:embed="rId2"/>
          <a:stretch/>
        </p:blipFill>
        <p:spPr>
          <a:xfrm>
            <a:off x="0" y="0"/>
            <a:ext cx="9144000" cy="6858000"/>
          </a:xfrm>
          <a:prstGeom prst="rect">
            <a:avLst/>
          </a:prstGeom>
          <a:ln w="0">
            <a:noFill/>
          </a:ln>
        </p:spPr>
      </p:pic>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2"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73"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5DAA-06AB-4EE6-95CD-6A5CC0C6F684}"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4920" y="-23760"/>
            <a:ext cx="9215280" cy="6912000"/>
          </a:xfrm>
          <a:prstGeom prst="rect">
            <a:avLst/>
          </a:prstGeom>
          <a:ln w="0">
            <a:noFill/>
          </a:ln>
        </p:spPr>
      </p:pic>
      <p:sp>
        <p:nvSpPr>
          <p:cNvPr id="4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4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4" name="PlaceHolder 3"/>
          <p:cNvSpPr>
            <a:spLocks noGrp="1"/>
          </p:cNvSpPr>
          <p:nvPr>
            <p:ph type="sldNum" idx="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F4388-BEF2-4DAC-A1DE-5A43927B0452}"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34920" y="-23760"/>
            <a:ext cx="9215280" cy="6912000"/>
          </a:xfrm>
          <a:prstGeom prst="rect">
            <a:avLst/>
          </a:prstGeom>
          <a:ln w="0">
            <a:noFill/>
          </a:ln>
        </p:spPr>
      </p:pic>
      <p:sp>
        <p:nvSpPr>
          <p:cNvPr id="8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8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85" name="PlaceHolder 3"/>
          <p:cNvSpPr>
            <a:spLocks noGrp="1"/>
          </p:cNvSpPr>
          <p:nvPr>
            <p:ph type="sldNum" idx="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04A0-E0DE-444B-8BB0-3BCD0699B984}"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8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B7F62-667F-406D-86EF-11689311D3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28" name="Afbeelding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
          <p:cNvPicPr/>
          <p:nvPr/>
        </p:nvPicPr>
        <p:blipFill>
          <a:blip r:embed="rId2"/>
          <a:stretch/>
        </p:blipFill>
        <p:spPr>
          <a:xfrm>
            <a:off x="-304920" y="-225360"/>
            <a:ext cx="9753840" cy="7315200"/>
          </a:xfrm>
          <a:prstGeom prst="rect">
            <a:avLst/>
          </a:prstGeom>
          <a:ln w="0">
            <a:noFill/>
          </a:ln>
        </p:spPr>
      </p:pic>
      <p:sp>
        <p:nvSpPr>
          <p:cNvPr id="166"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167"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168"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169"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170" name="PlaceHolder 3"/>
          <p:cNvSpPr>
            <a:spLocks noGrp="1"/>
          </p:cNvSpPr>
          <p:nvPr>
            <p:ph type="dt" idx="7"/>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9A684-4AF5-43BC-B495-A5077325A40B}"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
          <p:cNvPicPr/>
          <p:nvPr/>
        </p:nvPicPr>
        <p:blipFill>
          <a:blip r:embed="rId2"/>
          <a:stretch/>
        </p:blipFill>
        <p:spPr>
          <a:xfrm>
            <a:off x="-304920" y="-225360"/>
            <a:ext cx="9753840" cy="7315200"/>
          </a:xfrm>
          <a:prstGeom prst="rect">
            <a:avLst/>
          </a:prstGeom>
          <a:ln w="0">
            <a:noFill/>
          </a:ln>
        </p:spPr>
      </p:pic>
      <p:sp>
        <p:nvSpPr>
          <p:cNvPr id="208"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09"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10"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211"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12" name="PlaceHolder 3"/>
          <p:cNvSpPr>
            <a:spLocks noGrp="1"/>
          </p:cNvSpPr>
          <p:nvPr>
            <p:ph type="dt" idx="8"/>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856CB-ED0A-4A09-8810-E180BB548DB3}"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2"/>
          <a:stretch/>
        </p:blipFill>
        <p:spPr>
          <a:xfrm>
            <a:off x="-304920" y="-225360"/>
            <a:ext cx="9753840" cy="7315200"/>
          </a:xfrm>
          <a:prstGeom prst="rect">
            <a:avLst/>
          </a:prstGeom>
          <a:ln w="0">
            <a:noFill/>
          </a:ln>
        </p:spPr>
      </p:pic>
      <p:sp>
        <p:nvSpPr>
          <p:cNvPr id="250"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51"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25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54" name="PlaceHolder 3"/>
          <p:cNvSpPr>
            <a:spLocks noGrp="1"/>
          </p:cNvSpPr>
          <p:nvPr>
            <p:ph type="dt" idx="9"/>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E4C6D-38B0-4008-B448-36A39FEC2520}"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Afbeelding 7" descr=""/>
          <p:cNvPicPr/>
          <p:nvPr/>
        </p:nvPicPr>
        <p:blipFill>
          <a:blip r:embed="rId2"/>
          <a:stretch/>
        </p:blipFill>
        <p:spPr>
          <a:xfrm>
            <a:off x="0" y="0"/>
            <a:ext cx="9144000" cy="6858000"/>
          </a:xfrm>
          <a:prstGeom prst="rect">
            <a:avLst/>
          </a:prstGeom>
          <a:ln w="0">
            <a:noFill/>
          </a:ln>
        </p:spPr>
      </p:pic>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D7BA-ADDE-4CCD-A4F6-B798E49C589D}" type="datetime2">
              <a:rPr b="0" lang="nl-NL" sz="1200" spc="-1" strike="noStrike">
                <a:solidFill>
                  <a:srgbClr val="898989"/>
                </a:solidFill>
                <a:latin typeface="Times New Roman"/>
                <a:ea typeface="Arial"/>
              </a:rPr>
              <a:t>donderdag 30 juli 2026</a:t>
            </a:fld>
            <a:endParaRPr b="0" lang="en-US" sz="1200" spc="-1" strike="noStrike">
              <a:solidFill>
                <a:srgbClr val="000000"/>
              </a:solidFill>
              <a:latin typeface="Times New Roman"/>
            </a:endParaRPr>
          </a:p>
        </p:txBody>
      </p:sp>
      <p:sp>
        <p:nvSpPr>
          <p:cNvPr id="29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3C09-5855-42DB-B159-B6C7E842C16B}"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Afbeelding 7" descr=""/>
          <p:cNvPicPr/>
          <p:nvPr/>
        </p:nvPicPr>
        <p:blipFill>
          <a:blip r:embed="rId2"/>
          <a:stretch/>
        </p:blipFill>
        <p:spPr>
          <a:xfrm>
            <a:off x="0" y="0"/>
            <a:ext cx="9144000" cy="6858000"/>
          </a:xfrm>
          <a:prstGeom prst="rect">
            <a:avLst/>
          </a:prstGeom>
          <a:ln w="0">
            <a:noFill/>
          </a:ln>
        </p:spPr>
      </p:pic>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3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0A5F6-AF3D-4207-BABA-3FC1B6F3ABA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9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9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9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grimatie.nl/" TargetMode="External"/><Relationship Id="rId2" Type="http://schemas.openxmlformats.org/officeDocument/2006/relationships/slideLayout" Target="../slideLayouts/slideLayout9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9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835280" y="1125000"/>
            <a:ext cx="5727600" cy="25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nl-NL" sz="6000" spc="-1" strike="noStrike">
                <a:solidFill>
                  <a:srgbClr val="000000"/>
                </a:solidFill>
                <a:latin typeface="Arial"/>
                <a:ea typeface="Arial"/>
              </a:rPr>
              <a:t>Thema 1</a:t>
            </a:r>
            <a:br>
              <a:rPr sz="5900"/>
            </a:br>
            <a:r>
              <a:rPr b="0" lang="nl-NL" sz="4400" spc="-1" strike="noStrike">
                <a:solidFill>
                  <a:srgbClr val="000000"/>
                </a:solidFill>
                <a:latin typeface="Arial"/>
                <a:ea typeface="Arial"/>
              </a:rPr>
              <a:t>Algemene inleiding varkenshouderij</a:t>
            </a:r>
            <a:endParaRPr b="0" lang="en-US" sz="4400" spc="-1" strike="noStrike">
              <a:solidFill>
                <a:srgbClr val="000000"/>
              </a:solidFill>
              <a:latin typeface="Calibri"/>
            </a:endParaRPr>
          </a:p>
        </p:txBody>
      </p:sp>
      <p:sp>
        <p:nvSpPr>
          <p:cNvPr id="7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V21-31-41</a:t>
            </a:r>
            <a:br>
              <a:rPr sz="1800"/>
            </a:b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N. Wolfs</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NWO</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K. Van Gorp</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K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6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6DF78-A49C-4842-81A5-1A535967D2C3}"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64" name=""/>
          <p:cNvSpPr txBox="1"/>
          <p:nvPr/>
        </p:nvSpPr>
        <p:spPr>
          <a:xfrm>
            <a:off x="1835280" y="1225440"/>
            <a:ext cx="663552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br>
              <a:rPr sz="2800"/>
            </a:br>
            <a:br>
              <a:rPr sz="2800"/>
            </a:br>
            <a:r>
              <a:rPr b="0" lang="nl-NL" sz="2800" spc="-1" strike="noStrike">
                <a:solidFill>
                  <a:srgbClr val="000000"/>
                </a:solidFill>
                <a:latin typeface="Arial"/>
                <a:ea typeface="Arial"/>
              </a:rPr>
              <a:t>Biologisch richt zich op 3 peiler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 Gedrag </a:t>
            </a:r>
            <a:br>
              <a:rPr sz="2800"/>
            </a:br>
            <a:r>
              <a:rPr b="0" lang="nl-NL" sz="2800" spc="-1" strike="noStrike">
                <a:solidFill>
                  <a:srgbClr val="000000"/>
                </a:solidFill>
                <a:latin typeface="Arial"/>
                <a:ea typeface="Arial"/>
              </a:rPr>
              <a:t>- Gezondheid</a:t>
            </a:r>
            <a:br>
              <a:rPr sz="2800"/>
            </a:br>
            <a:r>
              <a:rPr b="0" lang="nl-NL" sz="2800" spc="-1" strike="noStrike">
                <a:solidFill>
                  <a:srgbClr val="000000"/>
                </a:solidFill>
                <a:latin typeface="Arial"/>
                <a:ea typeface="Arial"/>
              </a:rPr>
              <a:t>- Voed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Aspecten op welzijnswins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6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E4D1B-CDF3-4DE3-972C-0FB85D5C889E}"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67" name=""/>
          <p:cNvSpPr txBox="1"/>
          <p:nvPr/>
        </p:nvSpPr>
        <p:spPr>
          <a:xfrm>
            <a:off x="3276720" y="907920"/>
            <a:ext cx="5410080" cy="5631120"/>
          </a:xfrm>
          <a:prstGeom prst="rect">
            <a:avLst/>
          </a:prstGeom>
          <a:noFill/>
          <a:ln w="0">
            <a:noFill/>
          </a:ln>
        </p:spPr>
        <p:txBody>
          <a:bodyPr anchor="t">
            <a:normAutofit fontScale="99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ea typeface="Arial"/>
              </a:rPr>
              <a:t>Gedrag  (biologisch)</a:t>
            </a:r>
            <a:endParaRPr b="0" lang="en-US" sz="24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eehouderij is het belangrijk om een leefomgeving te creëren die zoveel mogelijk tegemoet komt aan de soortspecifieke eigenschappen en behoeftes van de dieren. </a:t>
            </a:r>
            <a:br>
              <a:rPr sz="2000"/>
            </a:br>
            <a:br>
              <a:rPr sz="2000"/>
            </a:br>
            <a:r>
              <a:rPr b="0" lang="nl-NL" sz="2000" spc="-1" strike="noStrike">
                <a:solidFill>
                  <a:srgbClr val="000000"/>
                </a:solidFill>
                <a:latin typeface="Arial"/>
                <a:ea typeface="Arial"/>
              </a:rPr>
              <a:t>Voorbeelden biologische varkenshouderij in de praktijk:</a:t>
            </a:r>
            <a:br>
              <a:rPr sz="2000"/>
            </a:br>
            <a:r>
              <a:rPr b="0" lang="nl-NL" sz="2000" spc="-1" strike="noStrike">
                <a:solidFill>
                  <a:srgbClr val="000000"/>
                </a:solidFill>
                <a:latin typeface="Arial"/>
                <a:ea typeface="Arial"/>
              </a:rPr>
              <a:t>- Beschikking over uitlopen. Guste en dragende zeugen hebben beschikking tot weidegang. </a:t>
            </a:r>
            <a:br>
              <a:rPr sz="2000"/>
            </a:br>
            <a:r>
              <a:rPr b="0" lang="nl-NL" sz="2000" spc="-1" strike="noStrike">
                <a:solidFill>
                  <a:srgbClr val="000000"/>
                </a:solidFill>
                <a:latin typeface="Arial"/>
                <a:ea typeface="Arial"/>
              </a:rPr>
              <a:t>- Meer ruimte per varken. </a:t>
            </a:r>
            <a:br>
              <a:rPr sz="2000"/>
            </a:br>
            <a:r>
              <a:rPr b="0" lang="nl-NL" sz="2000" spc="-1" strike="noStrike">
                <a:solidFill>
                  <a:srgbClr val="000000"/>
                </a:solidFill>
                <a:latin typeface="Arial"/>
                <a:ea typeface="Arial"/>
              </a:rPr>
              <a:t>- Een groter deel van de vloeren is dicht en ingestrooid met stro. </a:t>
            </a:r>
            <a:br>
              <a:rPr sz="2000"/>
            </a:br>
            <a:br>
              <a:rPr sz="2000"/>
            </a:br>
            <a:r>
              <a:rPr b="0" lang="nl-NL" sz="2000" spc="-1" strike="noStrike">
                <a:solidFill>
                  <a:srgbClr val="000000"/>
                </a:solidFill>
                <a:latin typeface="Arial"/>
                <a:ea typeface="Arial"/>
              </a:rPr>
              <a:t>- Het later spenen van de biggen (minimaal 40 dagen, versus 21-28 dagen bij gangbaar). </a:t>
            </a:r>
            <a:br>
              <a:rPr sz="2000"/>
            </a:br>
            <a:r>
              <a:rPr b="0" lang="nl-NL" sz="2000" spc="-1" strike="noStrike">
                <a:solidFill>
                  <a:srgbClr val="000000"/>
                </a:solidFill>
                <a:latin typeface="Arial"/>
                <a:ea typeface="Arial"/>
              </a:rPr>
              <a:t>Dit sluit beter aan op het natuurlijke zorggedrag van zeugen en het zooggedrag van biggen. </a:t>
            </a:r>
            <a:endParaRPr b="0" lang="en-US" sz="2000" spc="-1" strike="noStrike">
              <a:solidFill>
                <a:srgbClr val="000000"/>
              </a:solidFill>
              <a:latin typeface="Calibri"/>
            </a:endParaRPr>
          </a:p>
        </p:txBody>
      </p:sp>
      <p:pic>
        <p:nvPicPr>
          <p:cNvPr id="768" name="Afbeelding 2" descr="Afbeelding met gras, schapen, hek, hooi&#10;&#10;Automatisch gegenereerde beschrijving"/>
          <p:cNvPicPr/>
          <p:nvPr/>
        </p:nvPicPr>
        <p:blipFill>
          <a:blip r:embed="rId1"/>
          <a:srcRect l="17611" t="0" r="27041" b="0"/>
          <a:stretch/>
        </p:blipFill>
        <p:spPr>
          <a:xfrm>
            <a:off x="120600" y="1916280"/>
            <a:ext cx="3168720" cy="321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0B87-0038-46F4-AD59-A547A258DD9B}"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1" name=""/>
          <p:cNvSpPr txBox="1"/>
          <p:nvPr/>
        </p:nvSpPr>
        <p:spPr>
          <a:xfrm>
            <a:off x="2843280" y="1267920"/>
            <a:ext cx="5627520" cy="48862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Gezondheid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Een goede gezondheid staat in de biologische veehouderij voorop. Het streven naar een dier met veel weerstand en het inpassen van preventieve maatregelen in de bedrijfsvoering zijn dus uiterst belangrijk. </a:t>
            </a:r>
            <a:br>
              <a:rPr sz="2000"/>
            </a:b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Biologisch voer mag niet synthetisch zijn en grondstoffen moeten 100% biologisch zijn. </a:t>
            </a:r>
            <a:br>
              <a:rPr sz="2000"/>
            </a:br>
            <a:r>
              <a:rPr b="0" lang="nl-NL" sz="2000" spc="-1" strike="noStrike">
                <a:solidFill>
                  <a:srgbClr val="000000"/>
                </a:solidFill>
                <a:latin typeface="Arial"/>
                <a:ea typeface="Arial"/>
              </a:rPr>
              <a:t>- Aanbod van ruwvoer is verplicht. </a:t>
            </a:r>
            <a:br>
              <a:rPr sz="2000"/>
            </a:br>
            <a:r>
              <a:rPr b="0" lang="nl-NL" sz="2000" spc="-1" strike="noStrike">
                <a:solidFill>
                  <a:srgbClr val="000000"/>
                </a:solidFill>
                <a:latin typeface="Arial"/>
                <a:ea typeface="Arial"/>
              </a:rPr>
              <a:t>- In geval van ziekte en een noodzakelijke behandeling moet bij voorkeur behandeld worden met kruidenpreparaten, homeopathische middelen, vitamines en dergelijke, mits ze bewezen effectief zijn. Indien nodig kunnen zeer beperkt ‘gewone’ geneesmiddelen gebruikt worden. </a:t>
            </a:r>
            <a:endParaRPr b="0" lang="en-US" sz="2000" spc="-1" strike="noStrike">
              <a:solidFill>
                <a:srgbClr val="000000"/>
              </a:solidFill>
              <a:latin typeface="Calibri"/>
            </a:endParaRPr>
          </a:p>
        </p:txBody>
      </p:sp>
      <p:pic>
        <p:nvPicPr>
          <p:cNvPr id="772" name="Afbeelding 2" descr="Afbeelding met voedsel&#10;&#10;Automatisch gegenereerde beschrijving"/>
          <p:cNvPicPr/>
          <p:nvPr/>
        </p:nvPicPr>
        <p:blipFill>
          <a:blip r:embed="rId1"/>
          <a:srcRect l="38639" t="0" r="0" b="0"/>
          <a:stretch/>
        </p:blipFill>
        <p:spPr>
          <a:xfrm>
            <a:off x="324000" y="1844640"/>
            <a:ext cx="2454120" cy="405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96C3B-BC67-4EA8-903B-0930AE72D6CD}"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5" name=""/>
          <p:cNvSpPr txBox="1"/>
          <p:nvPr/>
        </p:nvSpPr>
        <p:spPr>
          <a:xfrm>
            <a:off x="4140000" y="1225440"/>
            <a:ext cx="4546440" cy="4724640"/>
          </a:xfrm>
          <a:prstGeom prst="rect">
            <a:avLst/>
          </a:prstGeom>
          <a:noFill/>
          <a:ln w="0">
            <a:noFill/>
          </a:ln>
        </p:spPr>
        <p:txBody>
          <a:bodyPr anchor="t">
            <a:normAutofit fontScale="98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Voeding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arkenshouderij worden met name eisen gesteld aan de samenstelling van het voer: </a:t>
            </a:r>
            <a:br>
              <a:rPr sz="2000"/>
            </a:br>
            <a:r>
              <a:rPr b="0" lang="nl-NL" sz="2000" spc="-1" strike="noStrike">
                <a:solidFill>
                  <a:srgbClr val="000000"/>
                </a:solidFill>
                <a:latin typeface="Arial"/>
                <a:ea typeface="Arial"/>
              </a:rPr>
              <a:t>- Het aandeel ruwvoer en de herkomst van grondstoffen. </a:t>
            </a:r>
            <a:br>
              <a:rPr sz="2000"/>
            </a:br>
            <a:r>
              <a:rPr b="0" lang="nl-NL" sz="2000" spc="-1" strike="noStrike">
                <a:solidFill>
                  <a:srgbClr val="000000"/>
                </a:solidFill>
                <a:latin typeface="Arial"/>
                <a:ea typeface="Arial"/>
              </a:rPr>
              <a:t>- Water is onbeperkt aanwezig. </a:t>
            </a:r>
            <a:br>
              <a:rPr sz="2000"/>
            </a:br>
            <a:r>
              <a:rPr b="0" lang="nl-NL" sz="2000" spc="-1" strike="noStrike">
                <a:solidFill>
                  <a:srgbClr val="000000"/>
                </a:solidFill>
                <a:latin typeface="Arial"/>
                <a:ea typeface="Arial"/>
              </a:rPr>
              <a:t>- De dieren krijgen naast energierijk voer (krachtvoer) ook ruwvoer verstrekt. Aan het dagrantsoen van biologische varkens moet onbeperkt ruwvoer (vers, gedroogd of kuilvoer) worden toegevoegd. </a:t>
            </a:r>
            <a:br>
              <a:rPr sz="2000"/>
            </a:br>
            <a:br>
              <a:rPr sz="2000"/>
            </a:br>
            <a:r>
              <a:rPr b="0" lang="nl-NL" sz="2000" spc="-1" strike="noStrike">
                <a:solidFill>
                  <a:srgbClr val="000000"/>
                </a:solidFill>
                <a:latin typeface="Arial"/>
                <a:ea typeface="Arial"/>
              </a:rPr>
              <a:t>Dit kan bij zeugen een gevoel van honger voorkomen, en daarmee ongewenst gedrag.</a:t>
            </a:r>
            <a:endParaRPr b="0" lang="en-US" sz="2000" spc="-1" strike="noStrike">
              <a:solidFill>
                <a:srgbClr val="000000"/>
              </a:solidFill>
              <a:latin typeface="Calibri"/>
            </a:endParaRPr>
          </a:p>
        </p:txBody>
      </p:sp>
      <p:pic>
        <p:nvPicPr>
          <p:cNvPr id="776" name="Afbeelding 2" descr="Afbeelding met gras, hooi, dier, zoogdier&#10;&#10;Automatisch gegenereerde beschrijving"/>
          <p:cNvPicPr/>
          <p:nvPr/>
        </p:nvPicPr>
        <p:blipFill>
          <a:blip r:embed="rId1"/>
          <a:srcRect l="16252" t="4247" r="10212" b="6236"/>
          <a:stretch/>
        </p:blipFill>
        <p:spPr>
          <a:xfrm>
            <a:off x="147600" y="2492280"/>
            <a:ext cx="3992760" cy="324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2DE0-E9A1-4D9A-A6BD-A480CAC37B6D}"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9"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endParaRPr b="0" lang="en-US" sz="2800" spc="-1" strike="noStrike">
              <a:solidFill>
                <a:srgbClr val="000000"/>
              </a:solidFill>
              <a:latin typeface="Calibri"/>
            </a:endParaRPr>
          </a:p>
        </p:txBody>
      </p:sp>
      <p:pic>
        <p:nvPicPr>
          <p:cNvPr id="780" name="Afbeelding 4" descr=""/>
          <p:cNvPicPr/>
          <p:nvPr/>
        </p:nvPicPr>
        <p:blipFill>
          <a:blip r:embed="rId1"/>
          <a:stretch/>
        </p:blipFill>
        <p:spPr>
          <a:xfrm>
            <a:off x="658800" y="1989000"/>
            <a:ext cx="8028000" cy="4030920"/>
          </a:xfrm>
          <a:prstGeom prst="rect">
            <a:avLst/>
          </a:prstGeom>
          <a:ln w="0">
            <a:noFill/>
          </a:ln>
        </p:spPr>
      </p:pic>
      <p:sp>
        <p:nvSpPr>
          <p:cNvPr id="781" name="Tekstvak 1"/>
          <p:cNvSpPr/>
          <p:nvPr/>
        </p:nvSpPr>
        <p:spPr>
          <a:xfrm>
            <a:off x="755640" y="6126120"/>
            <a:ext cx="720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ologisch bijna ‘verwaarloosbaar’ t.o.v. totaal en gangbare bedrij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8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C0B77-40D0-402C-B7DC-EA735125008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4"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Biologisch in beeld</a:t>
            </a:r>
            <a:endParaRPr b="0" lang="en-US" sz="2800" spc="-1" strike="noStrike">
              <a:solidFill>
                <a:srgbClr val="000000"/>
              </a:solidFill>
              <a:latin typeface="Calibri"/>
            </a:endParaRPr>
          </a:p>
        </p:txBody>
      </p:sp>
      <p:pic>
        <p:nvPicPr>
          <p:cNvPr id="785" name="Afbeelding 4" descr=""/>
          <p:cNvPicPr/>
          <p:nvPr/>
        </p:nvPicPr>
        <p:blipFill>
          <a:blip r:embed="rId1"/>
          <a:stretch/>
        </p:blipFill>
        <p:spPr>
          <a:xfrm>
            <a:off x="658800" y="1989000"/>
            <a:ext cx="8028000" cy="4030920"/>
          </a:xfrm>
          <a:prstGeom prst="rect">
            <a:avLst/>
          </a:prstGeom>
          <a:ln w="0">
            <a:noFill/>
          </a:ln>
        </p:spPr>
      </p:pic>
      <p:pic>
        <p:nvPicPr>
          <p:cNvPr id="786" name="Afbeelding 5" descr=""/>
          <p:cNvPicPr/>
          <p:nvPr/>
        </p:nvPicPr>
        <p:blipFill>
          <a:blip r:embed="rId2"/>
          <a:stretch/>
        </p:blipFill>
        <p:spPr>
          <a:xfrm>
            <a:off x="425520" y="2030400"/>
            <a:ext cx="8558280" cy="421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8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6CBD-0495-4D88-B642-624DFC581C4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9" name=""/>
          <p:cNvSpPr txBox="1"/>
          <p:nvPr/>
        </p:nvSpPr>
        <p:spPr>
          <a:xfrm>
            <a:off x="1835280" y="1197000"/>
            <a:ext cx="685152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en bedrijfsvoering:</a:t>
            </a:r>
            <a:br>
              <a:rPr sz="2800"/>
            </a:br>
            <a:r>
              <a:rPr b="0" lang="nl-NL" sz="2800" spc="-1" strike="noStrike">
                <a:solidFill>
                  <a:srgbClr val="000000"/>
                </a:solidFill>
                <a:latin typeface="Arial"/>
                <a:ea typeface="Arial"/>
              </a:rPr>
              <a:t>Gericht op een bepaalde leeftijdsgroep</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ermeerderingsbedrijf (zeugen/biggen)</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leesvarkens (25-115 kg)</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Gesloten bedrijfsvoering: </a:t>
            </a:r>
            <a:br>
              <a:rPr sz="2800"/>
            </a:br>
            <a:r>
              <a:rPr b="0" lang="nl-NL" sz="2800" spc="-1" strike="noStrike">
                <a:solidFill>
                  <a:srgbClr val="000000"/>
                </a:solidFill>
                <a:latin typeface="Arial"/>
                <a:ea typeface="Arial"/>
              </a:rPr>
              <a:t>Beide varianten binnen hetzelfde bedrijf. Vaak op meerdere locatie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9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A9D7-EAA4-496B-B850-D85455B02062}"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2" name=""/>
          <p:cNvSpPr txBox="1"/>
          <p:nvPr/>
        </p:nvSpPr>
        <p:spPr>
          <a:xfrm>
            <a:off x="2050560" y="1031400"/>
            <a:ext cx="6635880" cy="49294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B-C-D-E-F statu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93" name="Afbeelding 1" descr=""/>
          <p:cNvPicPr/>
          <p:nvPr/>
        </p:nvPicPr>
        <p:blipFill>
          <a:blip r:embed="rId1"/>
          <a:stretch/>
        </p:blipFill>
        <p:spPr>
          <a:xfrm>
            <a:off x="398520" y="1625760"/>
            <a:ext cx="8715240" cy="4873320"/>
          </a:xfrm>
          <a:prstGeom prst="rect">
            <a:avLst/>
          </a:prstGeom>
          <a:ln w="0">
            <a:noFill/>
          </a:ln>
        </p:spPr>
      </p:pic>
      <p:sp>
        <p:nvSpPr>
          <p:cNvPr id="794" name="Tekstvak 2"/>
          <p:cNvSpPr/>
          <p:nvPr/>
        </p:nvSpPr>
        <p:spPr>
          <a:xfrm rot="652200">
            <a:off x="5003640" y="5661000"/>
            <a:ext cx="280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Welke status heeft jouw BPV bedrij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79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B675-07F1-4F8F-AF53-05DB7A543FE2}"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7" name=""/>
          <p:cNvSpPr txBox="1"/>
          <p:nvPr/>
        </p:nvSpPr>
        <p:spPr>
          <a:xfrm>
            <a:off x="2050560" y="1031760"/>
            <a:ext cx="6635880" cy="520560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 </a:t>
            </a:r>
            <a:br>
              <a:rPr sz="2600"/>
            </a:br>
            <a:r>
              <a:rPr b="0" lang="nl-NL" sz="2200" spc="-1" strike="noStrike">
                <a:solidFill>
                  <a:srgbClr val="000000"/>
                </a:solidFill>
                <a:latin typeface="Arial"/>
                <a:ea typeface="Arial"/>
              </a:rPr>
              <a:t>Het speerpunt van de varkenshouderij is de productie van lekker en kwalitatief hoogwaardig varkensvlees voor de versvleesmarkt in Noordwest-Europa. </a:t>
            </a:r>
            <a:br>
              <a:rPr sz="2200"/>
            </a:br>
            <a:br>
              <a:rPr sz="2200"/>
            </a:br>
            <a:r>
              <a:rPr b="0" lang="nl-NL" sz="2200" spc="-1" strike="noStrike" u="sng">
                <a:solidFill>
                  <a:srgbClr val="000000"/>
                </a:solidFill>
                <a:uFillTx/>
                <a:latin typeface="Arial"/>
                <a:ea typeface="Arial"/>
              </a:rPr>
              <a:t>IKB keurmerk:</a:t>
            </a:r>
            <a:br>
              <a:rPr sz="2200"/>
            </a:br>
            <a:r>
              <a:rPr b="0" lang="nl-NL" sz="2200" spc="-1" strike="noStrike">
                <a:solidFill>
                  <a:srgbClr val="000000"/>
                </a:solidFill>
                <a:latin typeface="Arial"/>
                <a:ea typeface="Arial"/>
              </a:rPr>
              <a:t>- Wat is het?</a:t>
            </a:r>
            <a:br>
              <a:rPr sz="2200"/>
            </a:br>
            <a:r>
              <a:rPr b="0" lang="nl-NL" sz="2200" spc="-1" strike="noStrike">
                <a:solidFill>
                  <a:srgbClr val="000000"/>
                </a:solidFill>
                <a:latin typeface="Arial"/>
                <a:ea typeface="Arial"/>
              </a:rPr>
              <a:t> Er wordt gekeken naar of voldaan wordt aan de wettelijke eisen voor veevoer, dierenwelzijn, medicijngebruik, gebruik verboden stoffen, hygiëne en voedselveiligheid en transport.</a:t>
            </a:r>
            <a:br>
              <a:rPr sz="2200"/>
            </a:br>
            <a:r>
              <a:rPr b="0" lang="nl-NL" sz="2200" spc="-1" strike="noStrike">
                <a:solidFill>
                  <a:srgbClr val="000000"/>
                </a:solidFill>
                <a:latin typeface="Arial"/>
                <a:ea typeface="Arial"/>
              </a:rPr>
              <a:t>- Is het verplicht?</a:t>
            </a:r>
            <a:br>
              <a:rPr sz="2200"/>
            </a:br>
            <a:r>
              <a:rPr b="0" lang="nl-NL" sz="2200" spc="-1" strike="noStrike">
                <a:solidFill>
                  <a:srgbClr val="000000"/>
                </a:solidFill>
                <a:latin typeface="Arial"/>
                <a:ea typeface="Arial"/>
              </a:rPr>
              <a:t>Nee. Het IKB laat garanties op het gebied van controles  zien aan de consument. </a:t>
            </a:r>
            <a:br>
              <a:rPr sz="2200"/>
            </a:br>
            <a:r>
              <a:rPr b="0" lang="nl-NL" sz="2200" spc="-1" strike="noStrike">
                <a:solidFill>
                  <a:srgbClr val="000000"/>
                </a:solidFill>
                <a:latin typeface="Arial"/>
                <a:ea typeface="Arial"/>
              </a:rPr>
              <a:t>- Binnen handel wel vaak als voorwaarde. </a:t>
            </a:r>
            <a:endParaRPr b="0" lang="en-US" sz="2200" spc="-1" strike="noStrike">
              <a:solidFill>
                <a:srgbClr val="000000"/>
              </a:solidFill>
              <a:latin typeface="Calibri"/>
            </a:endParaRPr>
          </a:p>
        </p:txBody>
      </p:sp>
      <p:pic>
        <p:nvPicPr>
          <p:cNvPr id="798" name="Afbeelding 4" descr="Afbeelding met tekening, teken&#10;&#10;Automatisch gegenereerde beschrijving"/>
          <p:cNvPicPr/>
          <p:nvPr/>
        </p:nvPicPr>
        <p:blipFill>
          <a:blip r:embed="rId1"/>
          <a:stretch/>
        </p:blipFill>
        <p:spPr>
          <a:xfrm>
            <a:off x="0" y="973080"/>
            <a:ext cx="1522440" cy="203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80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52A4-CA9C-4381-B738-A590FA48CC30}"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1" name=""/>
          <p:cNvSpPr txBox="1"/>
          <p:nvPr/>
        </p:nvSpPr>
        <p:spPr>
          <a:xfrm>
            <a:off x="1258560" y="1031400"/>
            <a:ext cx="7427880" cy="492948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kolom</a:t>
            </a:r>
            <a:br>
              <a:rPr sz="2600"/>
            </a:br>
            <a:br>
              <a:rPr sz="2600"/>
            </a:br>
            <a:r>
              <a:rPr b="0" lang="nl-NL" sz="1900" spc="-1" strike="noStrike">
                <a:solidFill>
                  <a:srgbClr val="000000"/>
                </a:solidFill>
                <a:latin typeface="Arial"/>
                <a:ea typeface="Arial"/>
              </a:rPr>
              <a:t>- Fokkerij organisaties (lijnen/rassen)</a:t>
            </a:r>
            <a:br>
              <a:rPr sz="1900"/>
            </a:br>
            <a:r>
              <a:rPr b="0" lang="nl-NL" sz="1900" spc="-1" strike="noStrike">
                <a:solidFill>
                  <a:srgbClr val="000000"/>
                </a:solidFill>
                <a:latin typeface="Arial"/>
                <a:ea typeface="Arial"/>
              </a:rPr>
              <a:t>Het Nederlands Varkens Stamboek registreert zuivere foklijnen. Na kruising van zeugen en beren met de gewenste genetische eigenschappen worden de nakomelingen doorverkocht aan subfokbedrijven. </a:t>
            </a:r>
            <a:br>
              <a:rPr sz="1900"/>
            </a:br>
            <a:br>
              <a:rPr sz="1900"/>
            </a:br>
            <a:r>
              <a:rPr b="0" lang="nl-NL" sz="1900" spc="-1" strike="noStrike">
                <a:solidFill>
                  <a:srgbClr val="000000"/>
                </a:solidFill>
                <a:latin typeface="Arial"/>
                <a:ea typeface="Arial"/>
              </a:rPr>
              <a:t>- Het subfokbedrijf fokt gelten en verkoopt deze aan vermeerderingsbedrijven. </a:t>
            </a:r>
            <a:br>
              <a:rPr sz="1900"/>
            </a:br>
            <a:br>
              <a:rPr sz="1900"/>
            </a:br>
            <a:r>
              <a:rPr b="0" lang="nl-NL" sz="1900" spc="-1" strike="noStrike">
                <a:solidFill>
                  <a:srgbClr val="000000"/>
                </a:solidFill>
                <a:latin typeface="Arial"/>
                <a:ea typeface="Arial"/>
              </a:rPr>
              <a:t>- Vermeerderingsbedrijven produceren biggen voor de vleesproductie. Na 10 weken worden de biggen geleverd aan een vleesvarkensbedrijf. </a:t>
            </a:r>
            <a:br>
              <a:rPr sz="1900"/>
            </a:br>
            <a:br>
              <a:rPr sz="1900"/>
            </a:br>
            <a:r>
              <a:rPr b="0" lang="nl-NL" sz="1900" spc="-1" strike="noStrike">
                <a:solidFill>
                  <a:srgbClr val="000000"/>
                </a:solidFill>
                <a:latin typeface="Arial"/>
                <a:ea typeface="Arial"/>
              </a:rPr>
              <a:t>- Vleesvarkensbedrijf: +/- 100 dagen tot een gewicht van 115 kg. Vervolgens gaan ze naar de slachterij.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Inhoud</a:t>
            </a:r>
            <a:endParaRPr b="0" lang="en-US" sz="2800" spc="-1" strike="noStrike">
              <a:solidFill>
                <a:srgbClr val="000000"/>
              </a:solidFill>
              <a:latin typeface="Calibri"/>
            </a:endParaRPr>
          </a:p>
        </p:txBody>
      </p:sp>
      <p:sp>
        <p:nvSpPr>
          <p:cNvPr id="721" name=""/>
          <p:cNvSpPr txBox="1"/>
          <p:nvPr/>
        </p:nvSpPr>
        <p:spPr>
          <a:xfrm>
            <a:off x="1692360" y="1426680"/>
            <a:ext cx="6634080" cy="4929480"/>
          </a:xfrm>
          <a:prstGeom prst="rect">
            <a:avLst/>
          </a:prstGeom>
          <a:noFill/>
          <a:ln w="0">
            <a:noFill/>
          </a:ln>
        </p:spPr>
        <p:txBody>
          <a:bodyPr anchor="t">
            <a:normAutofit/>
          </a:bodyPr>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Filmpje over de varkenshouderij</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e productieke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Sectorgrootte &amp; ontwikkelingen </a:t>
            </a:r>
            <a:br>
              <a:rPr sz="2400"/>
            </a:br>
            <a:r>
              <a:rPr b="0" lang="nl-NL" sz="2400" spc="-1" strike="noStrike" u="sng">
                <a:solidFill>
                  <a:srgbClr val="0000ff"/>
                </a:solidFill>
                <a:uFillTx/>
                <a:latin typeface="Arial"/>
                <a:ea typeface="Arial"/>
                <a:hlinkClick r:id="rId1"/>
              </a:rPr>
              <a:t>www.agrimatie.n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soor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types</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Productiedoe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iergroep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Opdracht</a:t>
            </a:r>
            <a:endParaRPr b="0" lang="en-US" sz="2400" spc="-1" strike="noStrike">
              <a:solidFill>
                <a:srgbClr val="000000"/>
              </a:solidFill>
              <a:latin typeface="Calibri"/>
            </a:endParaRPr>
          </a:p>
          <a:p>
            <a:pPr lvl="1"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3BFB-2FBE-4F62-B09C-C7C6CF43AF44}"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23"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62FE-E0D4-4E0B-A304-AC0F2F533D14}"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24"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iergroepen</a:t>
            </a:r>
            <a:endParaRPr b="0" lang="en-US" sz="2800" spc="-1" strike="noStrike">
              <a:solidFill>
                <a:srgbClr val="000000"/>
              </a:solidFill>
              <a:latin typeface="Calibri"/>
            </a:endParaRPr>
          </a:p>
        </p:txBody>
      </p:sp>
      <p:sp>
        <p:nvSpPr>
          <p:cNvPr id="80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848E8-7106-4004-8DFE-083D979C9372}"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4" name=""/>
          <p:cNvSpPr txBox="1"/>
          <p:nvPr/>
        </p:nvSpPr>
        <p:spPr>
          <a:xfrm>
            <a:off x="1258560" y="1031400"/>
            <a:ext cx="7427880" cy="492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br>
              <a:rPr sz="2800"/>
            </a:br>
            <a:br>
              <a:rPr sz="2800"/>
            </a:br>
            <a:r>
              <a:rPr b="0" lang="nl-NL" sz="2000" spc="-1" strike="noStrike">
                <a:solidFill>
                  <a:srgbClr val="000000"/>
                </a:solidFill>
                <a:latin typeface="Arial"/>
                <a:ea typeface="Arial"/>
              </a:rPr>
              <a:t>- Dekstal</a:t>
            </a:r>
            <a:br>
              <a:rPr sz="2000"/>
            </a:br>
            <a:r>
              <a:rPr b="0" lang="nl-NL" sz="2000" spc="-1" strike="noStrike">
                <a:solidFill>
                  <a:srgbClr val="000000"/>
                </a:solidFill>
                <a:latin typeface="Arial"/>
                <a:ea typeface="Arial"/>
              </a:rPr>
              <a:t>- Dragende zeugen</a:t>
            </a:r>
            <a:br>
              <a:rPr sz="2000"/>
            </a:br>
            <a:r>
              <a:rPr b="0" lang="nl-NL" sz="2000" spc="-1" strike="noStrike">
                <a:solidFill>
                  <a:srgbClr val="000000"/>
                </a:solidFill>
                <a:latin typeface="Arial"/>
                <a:ea typeface="Arial"/>
              </a:rPr>
              <a:t>- Kraamstal</a:t>
            </a:r>
            <a:br>
              <a:rPr sz="2000"/>
            </a:br>
            <a:r>
              <a:rPr b="0" lang="nl-NL" sz="2000" spc="-1" strike="noStrike">
                <a:solidFill>
                  <a:srgbClr val="000000"/>
                </a:solidFill>
                <a:latin typeface="Arial"/>
                <a:ea typeface="Arial"/>
              </a:rPr>
              <a:t>- Gespeende biggen</a:t>
            </a:r>
            <a:br>
              <a:rPr sz="2000"/>
            </a:br>
            <a:r>
              <a:rPr b="0" lang="nl-NL" sz="2000" spc="-1" strike="noStrike">
                <a:solidFill>
                  <a:srgbClr val="000000"/>
                </a:solidFill>
                <a:latin typeface="Arial"/>
                <a:ea typeface="Arial"/>
              </a:rPr>
              <a:t>- Vleesvarkens</a:t>
            </a:r>
            <a:br>
              <a:rPr sz="2000"/>
            </a:br>
            <a:r>
              <a:rPr b="0" lang="nl-NL" sz="2000" spc="-1" strike="noStrike">
                <a:solidFill>
                  <a:srgbClr val="000000"/>
                </a:solidFill>
                <a:latin typeface="Arial"/>
                <a:ea typeface="Arial"/>
              </a:rPr>
              <a:t>- Beer- &amp; geltenopfok</a:t>
            </a:r>
            <a:br>
              <a:rPr sz="2000"/>
            </a:br>
            <a:br>
              <a:rPr sz="2000"/>
            </a:br>
            <a:r>
              <a:rPr b="0" lang="nl-NL" sz="2000" spc="-1" strike="noStrike">
                <a:solidFill>
                  <a:srgbClr val="000000"/>
                </a:solidFill>
                <a:latin typeface="Arial"/>
                <a:ea typeface="Arial"/>
              </a:rPr>
              <a:t>Bij deze diergroepen hoort een opdracht. </a:t>
            </a:r>
            <a:br>
              <a:rPr sz="2000"/>
            </a:br>
            <a:r>
              <a:rPr b="0" lang="nl-NL" sz="2000" spc="-1" strike="noStrike">
                <a:solidFill>
                  <a:srgbClr val="000000"/>
                </a:solidFill>
                <a:latin typeface="Arial"/>
                <a:ea typeface="Arial"/>
              </a:rPr>
              <a:t>De opdracht staat op de volgende dia’s / papie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06" name=""/>
          <p:cNvSpPr txBox="1"/>
          <p:nvPr/>
        </p:nvSpPr>
        <p:spPr>
          <a:xfrm>
            <a:off x="900000" y="1197000"/>
            <a:ext cx="7786800" cy="4929120"/>
          </a:xfrm>
          <a:prstGeom prst="rect">
            <a:avLst/>
          </a:prstGeom>
          <a:noFill/>
          <a:ln w="0">
            <a:noFill/>
          </a:ln>
        </p:spPr>
        <p:txBody>
          <a:bodyPr anchor="t">
            <a:normAutofit/>
          </a:bodyPr>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Werk in groepjes van 4. </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Kies een van de diergroepen</a:t>
            </a:r>
            <a:br>
              <a:rPr sz="2600"/>
            </a:br>
            <a:r>
              <a:rPr b="0" lang="nl-NL" sz="2600" spc="-1" strike="noStrike">
                <a:solidFill>
                  <a:srgbClr val="000000"/>
                </a:solidFill>
                <a:latin typeface="Arial"/>
                <a:ea typeface="Arial"/>
              </a:rPr>
              <a:t>dekstal – dragende zeugen – kraamstal – gespeende biggen – vleesvarkens – beer &amp; geltenopfok. </a:t>
            </a:r>
            <a:r>
              <a:rPr b="0" lang="nl-NL" sz="2600" spc="-1" strike="noStrike">
                <a:solidFill>
                  <a:srgbClr val="000000"/>
                </a:solidFill>
                <a:latin typeface="Arial"/>
                <a:ea typeface="Calibri"/>
              </a:rPr>
              <a:t>Meldt dit bij de docent. </a:t>
            </a:r>
            <a:endParaRPr b="0" lang="en-US" sz="26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Calibri"/>
              </a:rPr>
              <a:t>Pas bij goedkeuring van de docent ga je met deze diergroep aan de slag!</a:t>
            </a: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3.   Maak een presentatie van </a:t>
            </a:r>
            <a:r>
              <a:rPr b="1" lang="nl-NL" sz="2600" spc="-1" strike="noStrike">
                <a:solidFill>
                  <a:srgbClr val="000000"/>
                </a:solidFill>
                <a:latin typeface="Arial"/>
                <a:ea typeface="Arial"/>
              </a:rPr>
              <a:t>5 minuten</a:t>
            </a:r>
            <a:r>
              <a:rPr b="0" lang="nl-NL" sz="2600" spc="-1" strike="noStrike">
                <a:solidFill>
                  <a:srgbClr val="000000"/>
                </a:solidFill>
                <a:latin typeface="Arial"/>
                <a:ea typeface="Arial"/>
              </a:rPr>
              <a:t>, waarin je de volgende aspecten aan bod laat komen: </a:t>
            </a:r>
            <a:endParaRPr b="0" lang="en-US" sz="26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Wingdings"/>
                <a:ea typeface="Wingdings"/>
              </a:rPr>
              <a:t></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Zie volgende dia</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B950-1DE0-4D7E-8FCD-1F8C8A832B9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8" name="Tekstvak 4"/>
          <p:cNvSpPr/>
          <p:nvPr/>
        </p:nvSpPr>
        <p:spPr>
          <a:xfrm>
            <a:off x="87480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10" name=""/>
          <p:cNvSpPr txBox="1"/>
          <p:nvPr/>
        </p:nvSpPr>
        <p:spPr>
          <a:xfrm>
            <a:off x="900000" y="1197000"/>
            <a:ext cx="7786800" cy="492912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Aspecten in presentatie:</a:t>
            </a:r>
            <a:br>
              <a:rPr sz="2600"/>
            </a:br>
            <a:br>
              <a:rPr sz="2600"/>
            </a:br>
            <a:r>
              <a:rPr b="0" lang="nl-NL" sz="2000" spc="-1" strike="noStrike">
                <a:solidFill>
                  <a:srgbClr val="000000"/>
                </a:solidFill>
                <a:latin typeface="Arial"/>
                <a:ea typeface="Arial"/>
              </a:rPr>
              <a:t>- Welke leeftijden horen er bij deze doelgroep?</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Welke kengetallen komen voor bij deze diergroep? Wat betekenen deze?</a:t>
            </a:r>
            <a:br>
              <a:rPr sz="2000"/>
            </a:br>
            <a:r>
              <a:rPr b="0" lang="nl-NL" sz="2000" spc="-1" strike="noStrike">
                <a:solidFill>
                  <a:srgbClr val="000000"/>
                </a:solidFill>
                <a:latin typeface="Arial"/>
                <a:ea typeface="Arial"/>
              </a:rPr>
              <a:t>- Wat zijn de veel voorkomende problemen / ziektes bij deze diergroep?</a:t>
            </a:r>
            <a:br>
              <a:rPr sz="2000"/>
            </a:br>
            <a:r>
              <a:rPr b="0" lang="nl-NL" sz="2000" spc="-1" strike="noStrike">
                <a:solidFill>
                  <a:srgbClr val="000000"/>
                </a:solidFill>
                <a:latin typeface="Arial"/>
                <a:ea typeface="Arial"/>
              </a:rPr>
              <a:t>- Welke vorm van huisvesting wordt gebruikt bij deze diergroep?</a:t>
            </a:r>
            <a:br>
              <a:rPr sz="2000"/>
            </a:br>
            <a:r>
              <a:rPr b="0" lang="nl-NL" sz="2000" spc="-1" strike="noStrike">
                <a:solidFill>
                  <a:srgbClr val="000000"/>
                </a:solidFill>
                <a:latin typeface="Arial"/>
                <a:ea typeface="Arial"/>
              </a:rPr>
              <a:t>- Welke voeding en voermethodes worden gebruikt?</a:t>
            </a:r>
            <a:br>
              <a:rPr sz="2000"/>
            </a:br>
            <a:r>
              <a:rPr b="0" lang="nl-NL" sz="2000" spc="-1" strike="noStrike">
                <a:solidFill>
                  <a:srgbClr val="000000"/>
                </a:solidFill>
                <a:latin typeface="Arial"/>
                <a:ea typeface="Arial"/>
              </a:rPr>
              <a:t>- Welke hygiëne maatregelen worden er genomen?</a:t>
            </a:r>
            <a:br>
              <a:rPr sz="2000"/>
            </a:br>
            <a:r>
              <a:rPr b="0" lang="nl-NL" sz="2000" spc="-1" strike="noStrike">
                <a:solidFill>
                  <a:srgbClr val="000000"/>
                </a:solidFill>
                <a:latin typeface="Arial"/>
                <a:ea typeface="Arial"/>
              </a:rPr>
              <a:t>- Welke werkzaamheden komen voor bij het houden van deze diergroep?</a:t>
            </a:r>
            <a:br>
              <a:rPr sz="2000"/>
            </a:br>
            <a:r>
              <a:rPr b="0" lang="nl-NL" sz="2000" spc="-1" strike="noStrike">
                <a:solidFill>
                  <a:srgbClr val="000000"/>
                </a:solidFill>
                <a:latin typeface="Arial"/>
                <a:ea typeface="Arial"/>
              </a:rPr>
              <a:t>- Leg van ‘s ochtends tot ‘s avonds uit welke handelingen/werkzaamheden je uitvoert bij deze doelgroep / gedurende de week</a:t>
            </a:r>
            <a:br>
              <a:rPr sz="2000"/>
            </a:b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90AE-211E-468F-AA55-95F23815EA5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2" name="Tekstvak 4"/>
          <p:cNvSpPr/>
          <p:nvPr/>
        </p:nvSpPr>
        <p:spPr>
          <a:xfrm>
            <a:off x="100188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14" name=""/>
          <p:cNvSpPr txBox="1"/>
          <p:nvPr/>
        </p:nvSpPr>
        <p:spPr>
          <a:xfrm>
            <a:off x="900000" y="1197000"/>
            <a:ext cx="778680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Arial"/>
              </a:rPr>
              <a:t>Opdrachten presenteren</a:t>
            </a:r>
            <a:br>
              <a:rPr sz="2800"/>
            </a:br>
            <a:br>
              <a:rPr sz="2800"/>
            </a:br>
            <a:r>
              <a:rPr b="0" lang="nl-NL" sz="2800" spc="-1" strike="noStrike">
                <a:solidFill>
                  <a:srgbClr val="000000"/>
                </a:solidFill>
                <a:latin typeface="Arial"/>
                <a:ea typeface="Arial"/>
              </a:rPr>
              <a:t>Bij iedere presentatie stelt ieder groepje minstens één kritische vraag,</a:t>
            </a:r>
            <a:br>
              <a:rPr sz="2800"/>
            </a:br>
            <a:r>
              <a:rPr b="0" lang="nl-NL" sz="2800" spc="-1" strike="noStrike">
                <a:solidFill>
                  <a:srgbClr val="000000"/>
                </a:solidFill>
                <a:latin typeface="Arial"/>
                <a:ea typeface="Arial"/>
              </a:rPr>
              <a:t>welke op het einde beantwoord wordt door het presenterende groepje. </a:t>
            </a:r>
            <a:endParaRPr b="0" lang="en-US" sz="2800" spc="-1" strike="noStrike">
              <a:solidFill>
                <a:srgbClr val="000000"/>
              </a:solidFill>
              <a:latin typeface="Calibri"/>
            </a:endParaRPr>
          </a:p>
        </p:txBody>
      </p:sp>
      <p:sp>
        <p:nvSpPr>
          <p:cNvPr id="81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8FB6-B101-491B-946E-0D3E760DD283}"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E51C-3A90-438D-A51A-A23D062B05B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817" name="Tijdelijke aanduiding voor inhoud 3" descr=""/>
          <p:cNvPicPr/>
          <p:nvPr/>
        </p:nvPicPr>
        <p:blipFill>
          <a:blip r:embed="rId1"/>
          <a:stretch/>
        </p:blipFill>
        <p:spPr>
          <a:xfrm>
            <a:off x="2268360" y="260280"/>
            <a:ext cx="5194440" cy="622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ilmpje</a:t>
            </a:r>
            <a:endParaRPr b="0" lang="en-US" sz="2800" spc="-1" strike="noStrike">
              <a:solidFill>
                <a:srgbClr val="000000"/>
              </a:solidFill>
              <a:latin typeface="Calibri"/>
            </a:endParaRPr>
          </a:p>
        </p:txBody>
      </p:sp>
      <p:pic>
        <p:nvPicPr>
          <p:cNvPr id="726" name="Onlinemedia 4" descr=""/>
          <p:cNvPicPr/>
          <p:nvPr/>
        </p:nvPicPr>
        <p:blipFill>
          <a:blip r:embed="rId1"/>
          <a:stretch/>
        </p:blipFill>
        <p:spPr>
          <a:xfrm>
            <a:off x="0" y="1212840"/>
            <a:ext cx="9144000" cy="5143680"/>
          </a:xfrm>
          <a:prstGeom prst="rect">
            <a:avLst/>
          </a:prstGeom>
          <a:ln w="0">
            <a:noFill/>
          </a:ln>
        </p:spPr>
      </p:pic>
      <p:sp>
        <p:nvSpPr>
          <p:cNvPr id="7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258F6-ECE9-4525-AD89-12BD0CCB9E5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72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26"/>
                    </p:tgtEl>
                  </p:cond>
                </p:stCondLst>
                <p:childTnLst>
                  <p:par>
                    <p:cTn id="8" nodeType="clickEffect" fill="hold">
                      <p:stCondLst>
                        <p:cond evt="onClick">
                          <p:tgtEl>
                            <p:spTgt spid="726"/>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7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productieketen</a:t>
            </a:r>
            <a:endParaRPr b="0" lang="en-US" sz="2800" spc="-1" strike="noStrike">
              <a:solidFill>
                <a:srgbClr val="000000"/>
              </a:solidFill>
              <a:latin typeface="Calibri"/>
            </a:endParaRPr>
          </a:p>
        </p:txBody>
      </p:sp>
      <p:sp>
        <p:nvSpPr>
          <p:cNvPr id="729"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4D7D-DA13-4307-9D94-6B594021DA6E}"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31"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AE19-6C11-423C-85C5-880C49145F5A}"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32"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3" name="Afbeelding 1" descr=""/>
          <p:cNvPicPr/>
          <p:nvPr/>
        </p:nvPicPr>
        <p:blipFill>
          <a:blip r:embed="rId1"/>
          <a:stretch/>
        </p:blipFill>
        <p:spPr>
          <a:xfrm>
            <a:off x="1317600" y="1427040"/>
            <a:ext cx="6508800" cy="521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keten in beeld</a:t>
            </a:r>
            <a:endParaRPr b="0" lang="en-US" sz="2800" spc="-1" strike="noStrike">
              <a:solidFill>
                <a:srgbClr val="000000"/>
              </a:solidFill>
              <a:latin typeface="Calibri"/>
            </a:endParaRPr>
          </a:p>
        </p:txBody>
      </p:sp>
      <p:sp>
        <p:nvSpPr>
          <p:cNvPr id="735"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D736-23E2-4C46-B2E9-C94A5E22365F}"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37"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C1936-B466-475A-B78C-7FE38BBDE0C7}"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38"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9" name="Afbeelding 2" descr=""/>
          <p:cNvPicPr/>
          <p:nvPr/>
        </p:nvPicPr>
        <p:blipFill>
          <a:blip r:embed="rId1"/>
          <a:stretch/>
        </p:blipFill>
        <p:spPr>
          <a:xfrm>
            <a:off x="1116000" y="1104840"/>
            <a:ext cx="4537080" cy="553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41"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arkens algeme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EC7B-E357-4708-A5BB-65BC7FD33818}"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43"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CEE5-ED0E-46C9-8F14-FE18757BA24F}"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44"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5" name="Afbeelding 1" descr=""/>
          <p:cNvPicPr/>
          <p:nvPr/>
        </p:nvPicPr>
        <p:blipFill>
          <a:blip r:embed="rId1"/>
          <a:stretch/>
        </p:blipFill>
        <p:spPr>
          <a:xfrm>
            <a:off x="642960" y="1971720"/>
            <a:ext cx="832644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47"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leesvarkens)</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D7255-010E-47E0-89AA-E385EAA8CE7F}"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49"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8C86-2C6A-4147-B1F2-1C81E62798F2}"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0"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1" name="Afbeelding 2" descr=""/>
          <p:cNvPicPr/>
          <p:nvPr/>
        </p:nvPicPr>
        <p:blipFill>
          <a:blip r:embed="rId1"/>
          <a:srcRect l="0" t="7067" r="0" b="0"/>
          <a:stretch/>
        </p:blipFill>
        <p:spPr>
          <a:xfrm>
            <a:off x="76320" y="2075040"/>
            <a:ext cx="9047160" cy="447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53"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Zeug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5533-E91D-4E11-8423-8DB24182CA65}"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55"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7DA7-A075-427E-99AB-18A0628253FA}"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6"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7" name="Afbeelding 1" descr=""/>
          <p:cNvPicPr/>
          <p:nvPr/>
        </p:nvPicPr>
        <p:blipFill>
          <a:blip r:embed="rId1"/>
          <a:stretch/>
        </p:blipFill>
        <p:spPr>
          <a:xfrm>
            <a:off x="328680" y="2195640"/>
            <a:ext cx="8486640" cy="425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pic>
        <p:nvPicPr>
          <p:cNvPr id="759" name="Tijdelijke aanduiding voor inhoud 4" descr=""/>
          <p:cNvPicPr/>
          <p:nvPr/>
        </p:nvPicPr>
        <p:blipFill>
          <a:blip r:embed="rId1"/>
          <a:stretch/>
        </p:blipFill>
        <p:spPr>
          <a:xfrm>
            <a:off x="900000" y="1220760"/>
            <a:ext cx="7344000" cy="3957840"/>
          </a:xfrm>
          <a:prstGeom prst="rect">
            <a:avLst/>
          </a:prstGeom>
          <a:ln w="0">
            <a:noFill/>
          </a:ln>
        </p:spPr>
      </p:pic>
      <p:sp>
        <p:nvSpPr>
          <p:cNvPr id="7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70F5D-114E-497C-987F-5723AC123500}"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61" name="Afbeelding 5" descr=""/>
          <p:cNvPicPr/>
          <p:nvPr/>
        </p:nvPicPr>
        <p:blipFill>
          <a:blip r:embed="rId2"/>
          <a:stretch/>
        </p:blipFill>
        <p:spPr>
          <a:xfrm>
            <a:off x="3625920" y="5145120"/>
            <a:ext cx="4608360" cy="123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9:58:02Z</dcterms:created>
  <dc:creator>Martin Drenth</dc:creator>
  <dc:description/>
  <dc:language>en-US</dc:language>
  <cp:lastModifiedBy>Kelly van Gorp</cp:lastModifiedBy>
  <dcterms:modified xsi:type="dcterms:W3CDTF">2019-11-07T19:13:19Z</dcterms:modified>
  <cp:revision>94</cp:revision>
  <dc:subject/>
  <dc:title>Gebruik van Powerpoint sjablonen</dc:title>
</cp:coreProperties>
</file>