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3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6C9E-C67C-4F75-B7F3-A8FB271C2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9E51-E71F-4FE6-83BE-E1E84EAAE8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 ontwikkelcentrum bij dit thema: (Voeding basis vark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s://contentplatform.ontwikkelcentrum.nl/CMS/CDS/Ontwikkelcentrum/Published%20content/Kenniskiem/98507%20Voeding%20basis%20varkens/98507/98507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ijdelijke aanduiding voor koptekst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/ sec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ijdelijke aanduiding voor datum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1D49-3AD4-4534-9D3C-4DB9E70CF0E1}" type="datetime">
              <a:rPr b="0" lang="nl-BE" sz="1200" spc="-1" strike="noStrike">
                <a:solidFill>
                  <a:srgbClr val="000000"/>
                </a:solidFill>
                <a:latin typeface="Arial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ijdelijke aanduiding voor voettekst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Author Name Surname /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ijdelijke aanduiding voor dianumm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99E6-BBFC-47D6-8939-A0B53D41008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erdere enzymen zijn: trypsine, chymotrypsine, amylase, lip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0E4E-2A3A-4532-95BB-3EB80FE6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92C7-DB81-4B36-A7B5-A777DA0FF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304D-24AB-4689-B625-16948338975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2F5B-3C10-4322-BA9B-347CB965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CC5D-CC0D-42DB-A80F-152E30B6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972C6-31C5-42EA-ACE8-A2D6D058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11B91-332E-40A2-A30C-090D1B5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2A2F-DAC7-4070-A97B-1C3E8B3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F6810-E014-4239-A79D-0D27AFE5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F7EF9-C3AD-4BFC-AC3F-12969801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2EECA-BE91-48FD-924F-8702F32A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71E5-A85E-4532-B467-0F665FD8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42BC4-0390-4761-AB89-C4112234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4358-1982-4D44-874D-240C0F6FC27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BAA12-165B-482A-98E7-6ECAD0AC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75F62-34BF-4791-9458-7E5D9226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097DD-BEEC-4CE4-B879-E51C02CB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0E86E-D082-481D-8A50-2D5655F6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E43AB-2353-4DB6-9CF6-E3A3F110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217F3-4C27-490B-9669-90615E71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6244E-C11C-492C-9119-45144A28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28398-6DB1-418D-87BB-BEFCA4FD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9918E-4BB7-4994-AD6F-E65CA641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BFA91-0CD1-480C-B830-B0C89031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F534-D997-4C14-9745-C5102F344D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7242D-36B7-4B8E-8EEA-9CC0B174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5914F-4BFE-4F65-AE85-4E1DF6DB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5A886-B579-4BE7-859D-204425BC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870EF-6DA7-4961-AE82-9AD54233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466B4-F66A-4560-B4F6-FC9B2947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60ABD-C173-4C93-A000-CE7FA419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AB01C-B7C3-47B4-BDFA-F0F64AA2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7991A-1308-4139-8E25-B6132D24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52536-4BD1-478C-8A5E-694434F5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8229A-75E4-49C4-B26B-A4AB56B2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ACBD-9520-4C4C-A466-B67AD8D5CEA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6DA73-F7E5-4D22-A7C2-68E25C74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2F1A9-01B7-4151-ADF0-127F09A7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71C6-A842-42DB-9443-9EA3F83D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F6066-7936-4F47-BD04-48AF0706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A4F30-23DA-441A-A11A-E57FF3B8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FB13A-3190-4D21-A145-B4D549EA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4D8D8-2C02-4663-A6E1-C0C1E77F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D8CD-536D-4CD4-A5FC-052BF092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608A3-5B2E-4A0C-A51E-24F0250C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9BF27-B772-4E1C-9DBA-7F5B56C0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A9B3-6DB2-4C4E-8BC7-25EA153A076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9496B-D2D4-4533-849F-B51C201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968DF-47E1-4182-8AB6-C0EA8AD1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D89E0-1F84-48C2-8CA1-251F0483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48BB5-7B4A-49BC-80C7-3E89435F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EBE4C-B865-4D7C-BD63-1C4E6BA0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B8764-8C10-4DDC-BC6A-A7B923BB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96FC5-8CE1-45E1-9676-9B392A2B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A0BE1-D7F0-47A6-9EFD-32E2A477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F965E-9201-449C-BE83-91C4DA31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DF5AC-50D2-4B38-96FF-59B0FB0D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CA26-F6B6-4ADB-AB35-20DA0C0CCBC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9928B-4E59-4AF0-A490-8856A8A1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8B963-FC00-4092-8563-7CBD0E5C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0BC71-4C94-474D-AFD4-EAFCBC43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02200-5B54-4105-A939-3E5B8D09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5C8EE-0206-4CCB-9918-514D59FE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7D881-4565-4130-BA8D-76A0817F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EC7EC-1D16-425D-933F-2F377F1C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358C9-011A-4E92-BA82-EC6B1710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A3B5E-4F27-4A41-8FD0-3C32B3BE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5C398-10C0-4AE9-8BE0-60D66852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FA5A-7CA0-41DA-BF44-63E98C4B887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EBB31-1B46-45BE-8CFC-89DEF2FB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B3920-9F25-48FD-9538-195EFE80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675FC-410B-4A90-ABF8-8F6BF62F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61F93-DE6C-40F3-A4F6-55DEAACD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15812-2295-4E57-ACD3-0D0DC8F8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3DB1F-56B2-4FC6-AE39-E99D3F8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3C32A-8EF4-4771-BD9B-5D0DA3AE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C75F2-B479-43DA-850F-551F03E8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F9412-720E-45A5-8C8B-12B605D4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C7E12-3EFA-4295-95F2-CE88A446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3769-E2DF-4D9D-A771-580C0CCDD60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B70C2-A9CD-4A36-B3B3-CD3C5C71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5FFC6-44E4-4DC5-9CAC-8D4F38BD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E60B7-FDF9-4236-B6D7-2DE88339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F6656-F71F-4B59-A913-26761A20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11382-1B1E-4E22-862D-4925B5F0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F4C08-04E2-4308-9F56-86062349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139CF-E0B7-4C67-9ADB-BE5E426A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A02DE-E9FB-46CD-9DB4-1556FF31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197EF-E7F2-4325-81E2-2A20049B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11367-518E-4792-88E1-D1D22EAD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7D2B-6E7D-4D3D-9C3E-FCE8C8430FF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00BD5-88E0-4C4E-A33C-77FEDD7E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9BE10-E298-4539-AB52-979A8512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BFA8C-ED74-4613-BC3D-45AB47B9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B921F-1A3B-48BC-8804-C718C26D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B7BA8-B93B-4384-A97D-DB2124D8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E2FCF-8F2A-4E12-AEE7-13B393EF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3BA0B-76AB-4E4E-A7C4-B9D2DB5E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A64C9-DC8B-431F-9064-A72B5AE2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4E9A2-8379-40A7-B20C-E5650E4F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4FD22-424E-4D4D-9F8A-FC293325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10AD-76AF-4954-AD07-3DF045D9087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0BB73-8CFC-463F-860C-509750A9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D6DDE-81D5-4899-A441-1BFAC911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05BFE-93AB-4868-9BA0-A8234231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62E61-FB3B-481E-B7B4-1075E2C1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BEDDA-9D96-4948-AEB6-460F4F40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AD7AE-AF42-448E-B4C6-43277878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402A7-7823-4B44-BE81-2DE6E261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6CA11-5469-4705-81BF-825226F2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FC222-2875-4F7B-B95F-A7DC0B12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2107C-1CF1-4B31-8852-92A22DDF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1325-093B-485E-8825-738B3757A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C942F-5A0D-4405-B4E1-CAE6D09E9F6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06385-E6FB-4917-80EF-FDC6B8D4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C7946-2503-4355-96A8-A97184AB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2FE16-CAF7-4313-83F1-6633E0BA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ACC6A-4572-4E39-9685-9FD810F3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ED3C0-7125-483A-8C07-56F7E126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C459-B28F-4F6E-94F4-D5003B7F44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851A-308D-49F0-808E-5DD11DFA44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86A1-96EF-4504-B318-F81C94410D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DD90-40F2-4E86-B90E-ABFB793374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FF1-0A91-448A-B4E1-D75AB3972A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715-CBE2-47BC-BAFC-1E7064362E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0FE-4590-42BD-818F-7C89B3E13D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840-07C8-4B9A-A753-B836A52808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78E-C3BF-4662-A372-A780270020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8B0B-26A0-4A27-AB2D-D539E24F55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C6B-F3A4-4E76-BBEA-2ADD2A1E59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D7C-2330-4DC4-ADC6-6C4A587EA6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8E1-9EDA-49D5-989E-C93DB8CA04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2E2-EC86-4562-AAEE-2C8CE175B3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614-2A87-4A1D-A067-9EF97E0A2A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E24-D650-4FC0-96C4-506F17DF0A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63D-8742-4B58-9830-E91249A411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BAF1-250B-4A60-8A32-CEE7ECF5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493D-917E-4FD9-85D6-292B6742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2085-8733-4CD5-8AF7-C749A74C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62F6-D814-4139-9DBB-E8208AE20C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7E8B-26BF-4156-A404-09B66ECC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12A1-CF08-4391-AF28-655F30F8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5D13-BDC7-4F4E-8893-9B6156FE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D4DC-E25D-479A-87DA-6D414412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64DA-409F-41EA-9E2D-31804665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67F6-E2CC-47B8-A8C1-B6DFEBB3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9255-431C-4F9B-9A7D-3793208C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67F3-34E9-4357-B8D4-71D35668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D9C7-5785-4788-A340-0F25AE60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44AB-DD16-40F5-BBDC-0E68FD03714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E615-032C-4674-9982-9819633D26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1AB1-D0FF-401C-9186-0CB7860EF10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740C-8861-4E52-942D-BD7021E77B5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B289-A8A6-40C4-8BBC-AB9EEFCB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86B30-FA8C-46BC-9DCC-D4D73BC3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5C50-2620-4B37-B02E-121AF2A8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561A3-A84B-4AE8-A210-E460EB7B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AC31-0826-4CE7-965C-1CE451AA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8A82-2C7E-4A8D-B2D7-2678ED32E4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EBE7-19CE-489B-89DA-3E68EACF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72F20-E55D-4A56-8738-E7C485FC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D6B7-1835-41C0-8FC0-D9EF018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9246-0181-41C5-BB29-0C20CC55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B9542-2D21-4F87-BC5D-5E7022BD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87580-DC07-4748-8593-3E86662F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5B9A9-0BA9-4BDC-B1AC-4F55EF6D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AF01-A8C6-4848-908F-0A2C55AD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1DCB0-CB7D-4035-A6F5-B0117D10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B91D4-AC91-4F56-9CD2-948A0FF3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637A-3C4A-4EFD-B763-0B9B169A56F2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4252-7889-4133-9297-A385A9713C3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D633-825F-497A-AF2C-D482AB05EC8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0041-5EAA-4071-BD33-51BCC088808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2B1-70C1-4B31-9892-660245E2855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F1F2-F064-4E0D-9772-63686124686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7624-D067-4368-8891-A453B53E343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ECCA-5889-450B-842A-BBAC026F796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4365-D48E-4CCA-A992-73442A25771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C338-EE12-4C77-A801-B11244B5D1F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6462-D610-4793-A32B-C72BF2C4344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48FB-E537-41E4-AF0E-A17652F6B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8CDC-1CF3-4212-88E5-2979F05E37AC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8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221C-584E-4A26-97B1-780CDDB41AD8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E184-5F2D-4944-8B92-93A2585CBB12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CAA8-A2A7-4CB8-A685-EDB6EA5E4F4C}" type="datetime2">
              <a:rPr b="0" lang="nl-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A007-1855-4A4B-BEC0-CEC2A308F89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1C5E-2F64-410B-A110-F0EEB30F0F4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835280" y="1125000"/>
            <a:ext cx="5727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nl-NL" sz="6000" spc="-1" strike="noStrike">
                <a:solidFill>
                  <a:srgbClr val="000000"/>
                </a:solidFill>
                <a:latin typeface="Arial"/>
                <a:ea typeface="Arial"/>
              </a:rPr>
              <a:t>Thema 3</a:t>
            </a:r>
            <a:br>
              <a:rPr sz="5900"/>
            </a:br>
            <a:r>
              <a:rPr b="0" lang="nl-NL" sz="5900" spc="-1" strike="noStrike">
                <a:solidFill>
                  <a:srgbClr val="000000"/>
                </a:solidFill>
                <a:latin typeface="Arial"/>
                <a:ea typeface="Arial"/>
              </a:rPr>
              <a:t>Voedi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V21-31-4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. Wolfs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. Van Gorp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+/- 10% van het lichaamsgewicht op een d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2,5x zoveel als het 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0635-2582-41FB-8F30-D5F43D0C37D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Afbeelding 4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7305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934560" y="981000"/>
            <a:ext cx="6634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inkbak vs. Drinknip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delen?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del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DBE3-5D9B-45FD-B11E-5ABC331DDD6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Afbeelding 4" descr=""/>
          <p:cNvPicPr/>
          <p:nvPr/>
        </p:nvPicPr>
        <p:blipFill>
          <a:blip r:embed="rId1"/>
          <a:stretch/>
        </p:blipFill>
        <p:spPr>
          <a:xfrm>
            <a:off x="2832120" y="1454040"/>
            <a:ext cx="6324480" cy="2853000"/>
          </a:xfrm>
          <a:prstGeom prst="rect">
            <a:avLst/>
          </a:prstGeom>
          <a:ln w="0">
            <a:noFill/>
          </a:ln>
        </p:spPr>
      </p:pic>
      <p:pic>
        <p:nvPicPr>
          <p:cNvPr id="764" name="Afbeelding 5" descr=""/>
          <p:cNvPicPr/>
          <p:nvPr/>
        </p:nvPicPr>
        <p:blipFill>
          <a:blip r:embed="rId2"/>
          <a:stretch/>
        </p:blipFill>
        <p:spPr>
          <a:xfrm>
            <a:off x="565200" y="4398840"/>
            <a:ext cx="2133720" cy="2184480"/>
          </a:xfrm>
          <a:prstGeom prst="rect">
            <a:avLst/>
          </a:prstGeom>
          <a:ln w="0">
            <a:noFill/>
          </a:ln>
        </p:spPr>
      </p:pic>
      <p:pic>
        <p:nvPicPr>
          <p:cNvPr id="765" name="Afbeelding 6" descr=""/>
          <p:cNvPicPr/>
          <p:nvPr/>
        </p:nvPicPr>
        <p:blipFill>
          <a:blip r:embed="rId3"/>
          <a:stretch/>
        </p:blipFill>
        <p:spPr>
          <a:xfrm>
            <a:off x="3030480" y="4400640"/>
            <a:ext cx="23083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23560" y="90756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br>
              <a:rPr sz="2800"/>
            </a:b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brijvoer zit veel water en weinig droge stof. (In verhouding 23% droge stof)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 varken drinkt 2,5x zoveel als eten.. Du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03D8-97CE-48E4-875E-E40FC979E70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Afbeelding 4" descr=""/>
          <p:cNvPicPr/>
          <p:nvPr/>
        </p:nvPicPr>
        <p:blipFill>
          <a:blip r:embed="rId1"/>
          <a:stretch/>
        </p:blipFill>
        <p:spPr>
          <a:xfrm>
            <a:off x="3708360" y="3206880"/>
            <a:ext cx="4383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dermid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uikers, eiwitten, zetmeel, minera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chtrijke voeder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&lt;85% D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nkelvoudig voer = 1 produc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ngvoer = samengesteld in fabriek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remix + melasse + grondstoff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k/voe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 + voedermidde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‘voedermiddelen’ zoal; mengvoer, maar ook humane consumptie resten;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aaswei, bierborstel, aardappelstoomschill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F6E5-58E3-44A7-828B-E9F120EDAF4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CE9C-1DC8-46CD-A094-8A3D1C155D2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714240" y="836640"/>
            <a:ext cx="771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worden opgesloten tijdens e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e gehele groep krijgt dezelfde voergi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met aantal worpen, drachtigheidsstadium en conditie bij elkaar zetten. 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deel: Individueel controle en voeren mogelij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deel: weinig gelegenheid tot vertonen van natuurlijk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440C-4BB3-498F-83BF-B46C726035B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Afbeelding 5" descr="Afbeelding met binnen, metaal, staand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4140360" y="4043520"/>
            <a:ext cx="39686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ansponder om dier te identificer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ysteem herkent transponder en geeft de juiste hoeveelheid voeding per zeug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 eten na elkaar, niet tegelij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5C1D-0518-42E1-922E-359F100694D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Afbeelding 5" descr="Afbeelding met binnen, hond, dier, zoogdier&#10;&#10;Automatisch gegenereerde beschrijving"/>
          <p:cNvPicPr/>
          <p:nvPr/>
        </p:nvPicPr>
        <p:blipFill>
          <a:blip r:embed="rId1"/>
          <a:srcRect l="8262" t="12191" r="21653" b="0"/>
          <a:stretch/>
        </p:blipFill>
        <p:spPr>
          <a:xfrm>
            <a:off x="3924360" y="3648240"/>
            <a:ext cx="4257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116000" y="120348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voeren (ad-libitum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gepalleteerd 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9CE5-99EE-466E-9E1A-F52C27E7117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Afbeelding 5" descr="Afbeelding met dier, binnen, zwijn, schapen&#10;&#10;Automatisch gegenereerde beschrijving"/>
          <p:cNvPicPr/>
          <p:nvPr/>
        </p:nvPicPr>
        <p:blipFill>
          <a:blip r:embed="rId1"/>
          <a:stretch/>
        </p:blipFill>
        <p:spPr>
          <a:xfrm>
            <a:off x="2692440" y="2997360"/>
            <a:ext cx="5219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/varkens eten tegelijkertijd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eperkt 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tabiele productiegroepen noodzakel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E6D8-7810-4197-8136-BBD9693B99A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Afbeelding 5" descr="Afbeelding met binnen, bed, zitten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79200" y="3502080"/>
            <a:ext cx="3780000" cy="2620800"/>
          </a:xfrm>
          <a:prstGeom prst="rect">
            <a:avLst/>
          </a:prstGeom>
          <a:ln w="0">
            <a:noFill/>
          </a:ln>
        </p:spPr>
      </p:pic>
      <p:pic>
        <p:nvPicPr>
          <p:cNvPr id="792" name="Afbeelding 7" descr="Afbeelding met binnen, gebouw, bruin, klein&#10;&#10;Automatisch gegenereerde beschrijving"/>
          <p:cNvPicPr/>
          <p:nvPr/>
        </p:nvPicPr>
        <p:blipFill>
          <a:blip r:embed="rId2"/>
          <a:stretch/>
        </p:blipFill>
        <p:spPr>
          <a:xfrm>
            <a:off x="4140360" y="3495600"/>
            <a:ext cx="47559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pfokzeugen en b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5654-4E7C-42FC-98C5-8B7E06F57C6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53800" y="369720"/>
            <a:ext cx="66452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ho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619280" y="142092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pijsverteringsste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er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M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amenstelling vo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Waterbehoe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dermidd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syste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en per dier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1240" indent="-3412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635D-E0F6-4753-85A4-1BFF0C4148BE}" type="slidenum">
              <a:rPr b="0" lang="nl-NL" sz="1100" spc="-1" strike="noStrike">
                <a:solidFill>
                  <a:srgbClr val="57585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-368280" y="6546960"/>
            <a:ext cx="874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0088-A8C6-4D9A-A796-B3B2197B66C8}" type="slidenum">
              <a:rPr b="0" lang="nl-NL" sz="1100" spc="-1" strike="noStrike">
                <a:solidFill>
                  <a:srgbClr val="57585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642960" y="214200"/>
            <a:ext cx="6400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79280" y="231480"/>
            <a:ext cx="6645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611280" y="843120"/>
            <a:ext cx="735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fokzeug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 sterk dier neerzetten d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timale voortplantingsresulta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haal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240/260 dage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dekrijp &amp; 120 kg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Letten op vervetti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zeugenvoer (vanaf 2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Specifiek gelten opfokvoer (vanaf 4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(eiwitbehoefte gelt &lt; vleesvarken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70 – 110 kg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opfokvoe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&gt;110 kg drachtvoer</a:t>
            </a:r>
            <a:br>
              <a:rPr sz="2200"/>
            </a:b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voer, of combi van dracht&amp;lacto voer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Extra zink: i.v.m. uitscheiden sperma. 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s drachtvoer als beer volledig volgroeid is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78B0-E291-44CE-84D1-FDE30C99D8B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Afbeelding 5" descr="Afbeelding met dier, binnen, zoogdier, bruin&#10;&#10;Automatisch gegenereerde beschrijving"/>
          <p:cNvPicPr/>
          <p:nvPr/>
        </p:nvPicPr>
        <p:blipFill>
          <a:blip r:embed="rId1"/>
          <a:stretch/>
        </p:blipFill>
        <p:spPr>
          <a:xfrm>
            <a:off x="6302520" y="3789360"/>
            <a:ext cx="2806560" cy="1663560"/>
          </a:xfrm>
          <a:prstGeom prst="rect">
            <a:avLst/>
          </a:prstGeom>
          <a:ln w="0">
            <a:noFill/>
          </a:ln>
        </p:spPr>
      </p:pic>
      <p:pic>
        <p:nvPicPr>
          <p:cNvPr id="800" name="Afbeelding 7" descr="Afbeelding met zwijn, dier, gras, zoogdier&#10;&#10;Automatisch gegenereerde beschrijving"/>
          <p:cNvPicPr/>
          <p:nvPr/>
        </p:nvPicPr>
        <p:blipFill>
          <a:blip r:embed="rId2"/>
          <a:stretch/>
        </p:blipFill>
        <p:spPr>
          <a:xfrm>
            <a:off x="5302080" y="878040"/>
            <a:ext cx="34927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826560" y="1197000"/>
            <a:ext cx="7859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oel: gezonde, sterke, goed producerende zeug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derhoudsbehoefte afhankelijk van gewicht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xtra voedingsstoffen en eiwitten bij dracht en lactatie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Insemineren tot werp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d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ijdens het zo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lacto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Guste ze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nstvoer, lacto, bigg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(koolhydraten), dextro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cellen + aantal cellen stijgt. (flus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5A00-D780-4C13-BC5B-E09E812E09D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Afbeelding 4" descr=""/>
          <p:cNvPicPr/>
          <p:nvPr/>
        </p:nvPicPr>
        <p:blipFill>
          <a:blip r:embed="rId1"/>
          <a:stretch/>
        </p:blipFill>
        <p:spPr>
          <a:xfrm>
            <a:off x="2771640" y="2382840"/>
            <a:ext cx="5688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36120" y="974880"/>
            <a:ext cx="5040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est (36 uur) en mel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Overgang vezels en vast voer (maag-darmstelsel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j +/- 2 weken leef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melkkorrel / kruim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kele dagen voor spe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korr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na spenen (28 dagen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voer (droog of brijvo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D09A-90B8-4866-90F8-3680622AAA4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Afbeelding 6" descr="Afbeelding met binnen, bed, neerleggen, hond&#10;&#10;Automatisch gegenereerde beschrijving"/>
          <p:cNvPicPr/>
          <p:nvPr/>
        </p:nvPicPr>
        <p:blipFill>
          <a:blip r:embed="rId1"/>
          <a:stretch/>
        </p:blipFill>
        <p:spPr>
          <a:xfrm>
            <a:off x="5219640" y="1052640"/>
            <a:ext cx="3741840" cy="2446200"/>
          </a:xfrm>
          <a:prstGeom prst="rect">
            <a:avLst/>
          </a:prstGeom>
          <a:ln w="0">
            <a:noFill/>
          </a:ln>
        </p:spPr>
      </p:pic>
      <p:pic>
        <p:nvPicPr>
          <p:cNvPr id="809" name="Afbeelding 8" descr="Afbeelding met frietjes, fruit, noot, zitten&#10;&#10;Automatisch gegenereerde beschrijving"/>
          <p:cNvPicPr/>
          <p:nvPr/>
        </p:nvPicPr>
        <p:blipFill>
          <a:blip r:embed="rId2"/>
          <a:stretch/>
        </p:blipFill>
        <p:spPr>
          <a:xfrm>
            <a:off x="4475160" y="479268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810" name="Afbeelding 10" descr="Afbeelding met hond, binnen, tafel, gebouw&#10;&#10;Automatisch gegenereerde beschrijving"/>
          <p:cNvPicPr/>
          <p:nvPr/>
        </p:nvPicPr>
        <p:blipFill>
          <a:blip r:embed="rId3"/>
          <a:srcRect l="19762" t="17497" r="19762" b="11235"/>
          <a:stretch/>
        </p:blipFill>
        <p:spPr>
          <a:xfrm>
            <a:off x="1187280" y="4792680"/>
            <a:ext cx="273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24000" y="105264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pieren en vleesaanze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wit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nelle groei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Voederconversie belangrijk! (VC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Let op vervetten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Kleur: biggen eten eerder uit een opvallende bak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oglengte van 35 cm per vark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erfas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org zit sneller aan VC dan g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BF1B-26EC-4856-A004-2AD303AD5FE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Afbeelding 4" descr=""/>
          <p:cNvPicPr/>
          <p:nvPr/>
        </p:nvPicPr>
        <p:blipFill>
          <a:blip r:embed="rId1"/>
          <a:stretch/>
        </p:blipFill>
        <p:spPr>
          <a:xfrm>
            <a:off x="2705040" y="981000"/>
            <a:ext cx="6114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826560" y="213372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-darm 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81CA-9DBB-4362-A452-823467F7A65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Afbeelding 4" descr=""/>
          <p:cNvPicPr/>
          <p:nvPr/>
        </p:nvPicPr>
        <p:blipFill>
          <a:blip r:embed="rId1"/>
          <a:stretch/>
        </p:blipFill>
        <p:spPr>
          <a:xfrm>
            <a:off x="4622760" y="1111320"/>
            <a:ext cx="4172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983880" y="14266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 en wroetschijf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roetschijf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kraakbe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aarnaast een g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eukorgaa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eeksel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nzym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mylas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lwassen gebit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44 tanden en kieze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C4D8-6160-46D8-BFF8-26B11BCDC8B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Afbeelding 4" descr=""/>
          <p:cNvPicPr/>
          <p:nvPr/>
        </p:nvPicPr>
        <p:blipFill>
          <a:blip r:embed="rId1"/>
          <a:stretch/>
        </p:blipFill>
        <p:spPr>
          <a:xfrm>
            <a:off x="5580000" y="1281240"/>
            <a:ext cx="2884680" cy="2147760"/>
          </a:xfrm>
          <a:prstGeom prst="rect">
            <a:avLst/>
          </a:prstGeom>
          <a:ln w="0">
            <a:noFill/>
          </a:ln>
        </p:spPr>
      </p:pic>
      <p:pic>
        <p:nvPicPr>
          <p:cNvPr id="733" name="Afbeelding 5" descr=""/>
          <p:cNvPicPr/>
          <p:nvPr/>
        </p:nvPicPr>
        <p:blipFill>
          <a:blip r:embed="rId2"/>
          <a:stretch/>
        </p:blipFill>
        <p:spPr>
          <a:xfrm>
            <a:off x="5729400" y="4049640"/>
            <a:ext cx="29574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lok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70 cm la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staltische bewegingen en slijmprodu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5 à 8 liter inhoud,   maagsapklieren,  zoutzuur (HCL)  pH = 2 à 3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psin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splitsing eiw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uur doodt bacterië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ress verstoort slijmproduc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maagzwer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ruwvoer gev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4140-284C-46A2-9560-F93EFFC8D1D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098720" y="99216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rokken voedsel afgebroken tot voedingsstoffen. Darmwand laat voedingsstoffen door naar het lichaam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12 vingerige darm (60 cm)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erdere enzymen en galsappen komen samen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unne darm (18 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kk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linde darm (4 meter)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absorptie wat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werking darmbacterië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fermenta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zels erg belangrijk!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deldarm, laatste stu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vorming mest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00B0-BE30-47B7-B52D-5D259EE2929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50560" y="1203480"/>
            <a:ext cx="5329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= geen herkauw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us… moeite met ruwe celstof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 wordt bewerkt (ontsl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. bij veel vezel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ermentatie in de dikke dar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uwvo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gaat langzaam door darm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verzadigd gevoel + verhoogt weerstan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F852-8BA6-4B73-8297-AB02D777344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Afbeelding 4" descr=""/>
          <p:cNvPicPr/>
          <p:nvPr/>
        </p:nvPicPr>
        <p:blipFill>
          <a:blip r:embed="rId1"/>
          <a:stretch/>
        </p:blipFill>
        <p:spPr>
          <a:xfrm>
            <a:off x="5614920" y="3462480"/>
            <a:ext cx="31561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 zie je aan de mest?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rantsoen goed afgestemd, ja of ne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4354-355D-432E-A027-05A8BE9ADF8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Afbeelding 4" descr=""/>
          <p:cNvPicPr/>
          <p:nvPr/>
        </p:nvPicPr>
        <p:blipFill>
          <a:blip r:embed="rId1"/>
          <a:stretch/>
        </p:blipFill>
        <p:spPr>
          <a:xfrm>
            <a:off x="3995640" y="2346480"/>
            <a:ext cx="4349880" cy="3314520"/>
          </a:xfrm>
          <a:prstGeom prst="rect">
            <a:avLst/>
          </a:prstGeom>
          <a:ln w="0">
            <a:noFill/>
          </a:ln>
        </p:spPr>
      </p:pic>
      <p:cxnSp>
        <p:nvCxnSpPr>
          <p:cNvPr id="748" name="Rechte verbindingslijn met pijl 6"/>
          <p:cNvCxnSpPr/>
          <p:nvPr/>
        </p:nvCxnSpPr>
        <p:spPr>
          <a:xfrm>
            <a:off x="2484000" y="2707920"/>
            <a:ext cx="2375280" cy="289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49" name="Rechte verbindingslijn met pijl 7"/>
          <p:cNvCxnSpPr/>
          <p:nvPr/>
        </p:nvCxnSpPr>
        <p:spPr>
          <a:xfrm flipV="1">
            <a:off x="2626920" y="4841280"/>
            <a:ext cx="2313720" cy="103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50" name="Tekstvak 9"/>
          <p:cNvSpPr/>
          <p:nvPr/>
        </p:nvSpPr>
        <p:spPr>
          <a:xfrm>
            <a:off x="53964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meüi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kelijk in te drukk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limm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kstvak 10"/>
          <p:cNvSpPr/>
          <p:nvPr/>
        </p:nvSpPr>
        <p:spPr>
          <a:xfrm>
            <a:off x="792000" y="531972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eft langer in de darm gez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eende-analy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racties diervoeder analys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3FA2-D07C-4B3A-8318-98BABAF71C3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Afbeelding 5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67989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9:58:02Z</dcterms:created>
  <dc:creator>Martin Drenth</dc:creator>
  <dc:description/>
  <dc:language>en-US</dc:language>
  <cp:lastModifiedBy>Kelly van Gorp</cp:lastModifiedBy>
  <dcterms:modified xsi:type="dcterms:W3CDTF">2019-11-07T19:16:51Z</dcterms:modified>
  <cp:revision>137</cp:revision>
  <dc:subject/>
  <dc:title>Gebruik van Powerpoint sjablonen</dc:title>
</cp:coreProperties>
</file>