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3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10.png" ContentType="image/png"/>
  <Override PartName="/ppt/media/image11.png" ContentType="image/png"/>
  <Override PartName="/ppt/media/image19.jpeg" ContentType="image/jpeg"/>
  <Override PartName="/ppt/media/image20.jpeg" ContentType="image/jpeg"/>
  <Override PartName="/ppt/media/image3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21.jpeg" ContentType="image/jpeg"/>
  <Override PartName="/ppt/media/image9.png" ContentType="image/png"/>
  <Override PartName="/ppt/media/image22.jpeg" ContentType="image/jpeg"/>
  <Override PartName="/ppt/media/image12.png" ContentType="image/png"/>
  <Override PartName="/ppt/media/image23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1BB9-0E2D-41D8-9E61-D88CC870F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CF57-BC44-4549-A258-4C32CC5DC9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nk ontwikkelcentrum bij dit thema: (Voeding basis varke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s://contentplatform.ontwikkelcentrum.nl/CMS/CDS/Ontwikkelcentrum/Published%20content/Kenniskiem/98507%20Voeding%20basis%20varkens/98507/98507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ijdelijke aanduiding voor koptekst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/ sec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ijdelijke aanduiding voor datum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5CA7-6E60-4C84-87E1-D06B2AD3609B}" type="datetime">
              <a:rPr b="0" lang="nl-BE" sz="1200" spc="-1" strike="noStrike">
                <a:solidFill>
                  <a:srgbClr val="000000"/>
                </a:solidFill>
                <a:latin typeface="Arial"/>
                <a:ea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ijdelijke aanduiding voor voettekst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Author Name Surname /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ijdelijke aanduiding voor dianumm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E2DC-1C58-47E3-BE62-F97F1AE48394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erdere enzymen zijn: trypsine, chymotrypsine, amylase, lip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426F-EF1D-4551-B964-F53629A82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00AD5-212C-4F27-9DC0-296AF8F44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947B2-5A4B-42F6-A235-D990AD05930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F7006-DB38-48E3-8C77-C23AAD52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C33E5-6890-4661-ADE5-78D35392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D1ED5-2BB7-4753-BD75-491E116C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B7BEF-E4E3-4085-BB69-8A2F1981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18DCB-32B7-4532-80EF-323EB0E2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2C595-B364-4FE7-AEF2-927A042F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E5E5B-7F32-46D9-B797-4E03410E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A069D-2324-4BF3-B111-D075FB07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CBFD6-A40E-460D-B021-44FA0124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8AC49-8223-466D-A0D9-FE18C63F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50AA8-91F5-4DD2-961E-A6D665DEDF4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91525-5962-4DCE-80E0-780078CE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0EF9C-6CDB-40B5-BA60-2792B7FB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3AF3C-6BF5-450A-8A76-9A15000E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7E7BA-761B-41DA-AE29-AC50A44D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491FB-0727-423D-A87A-4FB1BD54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32618-216E-4177-8590-CE49C01F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8A16E-FD18-4138-932C-F66BB8A2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CB370-8448-48DF-A09E-58143586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22CC7-A1FB-43AC-B828-80085972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D0B89-420E-42AF-8093-F69B992EF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609A8-833C-46C8-8D06-8FF99C6CB60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D16E7-6E7E-46C5-AEC0-D77BB053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1DC81-0831-447C-81D6-464F62F6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D9ADB-544F-4C6F-926E-4515894C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53556-56D6-4CD6-BB90-64920A10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966FB-2B9E-4181-9E96-22E6AADD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C1311-CF12-4C35-B7CE-3B3FAE88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94061-71A8-4EEE-8D55-F6A75F16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A87FD-8369-41D9-94AB-DEE240D6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77355-A134-4FA1-8E50-4975E6F1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FEE2A-75B7-413A-B520-294F4D6E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D1F25-1589-4D7C-BBC8-27CDA28BB15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6307C-DB4F-4667-96FC-8E1ED5C3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71572-CDD5-43D6-AADD-D0151322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6DB9E-D86E-411A-BE6B-6E169B95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B2D43-ECF5-4ED4-BC3D-286579A40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4D99A-79B3-4703-A894-1C9B8646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B8366-40DA-4FD1-BAA9-6899A2B8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E59EB-68B2-4AA2-92F6-187EB0FB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6EE7F-4DAC-4EE2-9C76-A038D869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EDF5D-F757-49D0-8BBB-1B7BB48F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D8EE4-4A33-464F-BD61-FBB3E024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ADF2F-D935-4BF2-B698-1EA754D0A5F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55A7D-1398-4A36-8FD1-45182793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4608B-09D6-43FD-AED7-A67B3900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32765-12C4-4ED4-9FBF-CCCED85C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5429F-B9F2-4064-9D92-CAF34628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4BA9F-E60B-4BAF-B804-95970A0F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F6A18-5834-4EC4-B4F3-10E17A1B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BC7FB-08A0-4EA1-A1FA-0BF949E3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7A2A7-12B7-4E14-8952-39874ED8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02EDF-7FDE-4914-909B-319A8409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43876-20D7-413C-A803-B30E9B77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C73FB-B3B1-4A0C-8C7C-EF25995E763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690AA-B6DA-4093-B8E2-88932824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57BF5-3136-431F-8762-2A5B5750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7DBC3-A3A2-4F06-9A17-846267F1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804AE-FE81-4B00-9941-7D667ECC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CD0BD-F3BC-4D57-87E6-3FC19C43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0B7C8-35D8-443C-B503-6690E818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0185A-0427-42BB-91C9-7A00BBDE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326D2-694F-4F89-9CC3-ABC760CE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C192D-1255-4D4D-9714-BB282DC5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C60FC-B466-4C4E-B13D-877CBB1A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8E2E4-76F3-40E0-8F5B-0E8BFF1EBBD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D66FF-54BA-4873-8B08-B48B79E5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15F8E-5C82-4DCC-8880-BE00B1A9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D43E3-09CF-42D4-9A8E-8FF60CF0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08728-41BA-4877-8B68-B6B7648D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6A31D-F851-4A4F-98B1-6DFC1450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A323E-43FC-40C7-BFAB-7253EA5D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21D23-0B38-4567-A5B2-0AB54D56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C3B14-16CF-42A2-B6D6-1B2E338D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81396-BDE0-4F29-A16F-F08BE5224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0812F-1FFE-46B5-BE05-C71A8BBE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C4C4E-05DB-496F-8230-48B6D918771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F5195-9F5D-48D7-8AF1-B0943F31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8F3A5-DC75-4AF5-98D6-C2676923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09826-E07D-4C91-B523-0318E0E7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A8335-2E74-44C5-95A0-983F23AA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44A94-E50C-453B-8845-2AE836F6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03196-4AC3-4FF7-8152-300EC5B9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0A9A1-98BA-4407-8EB0-0138189A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6C8F1-644D-4175-919A-559C39A5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6C21E-577C-4F1D-B96D-DFFFE987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A8DB7-655B-45FA-B7B5-91DA41A5C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486CD-B732-4F8B-B420-073803185DB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3DD40-F4BF-4D4E-AC5F-45DD31A3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349E3-4778-4B4A-9CF2-F6B1AF77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0A710-E840-4623-A188-623C2260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4D90F-C233-462F-943A-A18F1B54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9286B-802F-4416-BABC-5704EC09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18785-CAC2-40C2-84C5-D0232A96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2F267-C3B7-46A8-973D-5F1FCF28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5EAE7-2436-4704-8447-BEF50B79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430A6-1045-45E6-B1A8-186F37F2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7E647-7F5B-47A8-8A91-264BA1EC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0BFCD-57DF-4ECC-B37D-E3E950E7B33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AF7F1-7139-4713-9DAC-8C38D911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24763-4EEE-4305-A649-40A4BD29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9F2E0-4358-417D-A7BB-63AEA59F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E8EC5C-FF80-4A2B-8FE3-B1811852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0C6F19-21CB-4DA4-BB19-D146A972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EE802D-1555-408E-A5E7-766E2EB1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AEFA29-4B00-4B54-8C2E-11612ED0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1B444C-CDAA-4844-84C4-D5C16276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234E22-6485-449B-9245-1428EF8C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89B81E-BC87-4F88-877B-DA32BD9A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806E9-7A31-49FD-82F0-0793B98751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3C3E5-4D00-4747-9DED-918A594D8C5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25827C-9B3A-4239-B161-DE9619A1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C8B6C1-01F5-403F-A095-CD82D02C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F2C29D-0715-43B2-8FC8-862EA250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7875EA-DFB4-40D6-A9E1-35DE20E3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5F3AFB-7BC2-4D32-AC35-85480625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CBCCA-76BD-461F-8EE5-F1463A4A5A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D3C2D-AB83-47D9-8C6E-3CB11A6AAA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7DA47-A153-401E-8C09-A19880E36A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1A6C5-4A75-45DC-BFCF-27C2AA6CE9E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BD72-7619-4848-931F-2698B4D9A7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62A8-63C4-4B2A-9208-3D63CD0265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A075-3687-4E7E-B1AA-C99507187C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B151-BA21-470D-BBDD-B968EF1634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3A95-9AF3-4D05-A243-6D5198580D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6E997-4C11-4F12-959D-F84E2CE5DCA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853F-C2F4-41C0-B360-FE5C5CE6B6A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4570-9FE5-4F7E-9D90-FCD54F5143B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8E02-022F-48EF-B763-94276580CC4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E1FD-ECD6-4587-8D29-E5A68EC53C5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03A2-85A4-4CB5-B10A-06237BB004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4D37-97BC-488B-B241-F5D9CF8F6C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E661-0A41-4A9C-9128-3526C210BE5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CC0A-E9FB-4378-A598-637D5168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B7AE-CD4F-4795-8F8F-F100DE7D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ED4D-4B77-4528-89E2-04900CF5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4456E-BC1E-4B77-9584-1D5FED34A3F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FBAA-5999-402A-A1C4-B8BB89CA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9D7E-194C-4FBF-8850-8812C02A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79FF-31D4-46A8-8D43-E5F0DCBF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63DE-8DC1-4BE6-A084-B6B16FAF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A517-263E-4F52-A62B-4494BC0C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1A3E-E866-46DD-9465-2CF0BB57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A5ED-9857-4C4E-95ED-1CEC23BB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058A-B0CB-4CF1-A768-41CA646C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612B-F70D-48E2-9599-2001B71B2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83420-6633-4D0E-9B8A-3D16550ABFB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35D7F-9115-4C1D-92A2-34984DDBD0F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C12C1-65F2-4F8E-92F7-EE68D57867D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23E41-4598-4EAE-89EE-DCE7E7FF0F0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E49FF-CD3D-4EA3-AAD0-BFAB6C1E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88EE2-DE41-4D91-ACFE-9D71B2B7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E9477-DA71-413D-B137-51FDBFB2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F1D88-6E20-43F4-80CA-C0240F90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EC531-C9C5-4857-A663-BA4EC2D7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178D2-CFED-475F-91FA-A66DFB50591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67DDA-50A2-47D6-8BA9-42A242E0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B5F9C-82F1-4520-A6F7-3CE83798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91F3E-4BFE-4007-953D-585919AB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514C4-EA9B-4DBF-9464-112EDF5D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D1A0A-BF5F-4A21-A9A8-6254E454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95E37-E631-468F-9ED4-EF145C5D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82EFC-BD42-4331-A04E-0DF99EDD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34175-23F8-4097-B849-2B30FF3A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84FE1-7294-4974-9879-A4F4288D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67709-2FAC-4D0E-A316-B85F5680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1356-F7B3-456B-8C9B-79332A2C28B4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15AC-EF3E-47B5-A7CB-80C4C99B152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5FF1-55F0-475C-9B48-52B0FD7CDE7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722B-455C-4AC1-A919-77870DAF9B1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DA7F-D84A-48A5-98BA-6CAC54C7B1C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55BA-EDAE-4F49-8374-A1F6B6484AE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0813-5FAF-4646-A745-AB76B23220E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54F2-4334-4D54-ACDD-1CB23898B25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5170-05B0-4B46-8210-D2E0FA4FAD6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E5F5-4421-4330-9965-DF0286AE142F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2F01-C4D5-4C8A-A9AC-68FC107A7EEA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86D3-4D8C-43B5-8CAC-FA607F48C0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EBF8-D44D-465E-BE90-725FA0AACD42}" type="datetime2">
              <a:rPr b="1" lang="nl-NL" sz="1200" spc="-1" strike="noStrike">
                <a:solidFill>
                  <a:srgbClr val="ffffff"/>
                </a:solidFill>
                <a:latin typeface="Verdana"/>
              </a:rPr>
              <a:t>donderdag 30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8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508A-E537-469E-BB55-6D90CA2B4602}" type="datetime2">
              <a:rPr b="1" lang="nl-NL" sz="1200" spc="-1" strike="noStrike">
                <a:solidFill>
                  <a:srgbClr val="ffffff"/>
                </a:solidFill>
                <a:latin typeface="Verdana"/>
              </a:rPr>
              <a:t>donderdag 30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2354-F4AB-44EE-9217-758CA4F6D9C5}" type="datetime2">
              <a:rPr b="1" lang="nl-NL" sz="1200" spc="-1" strike="noStrike">
                <a:solidFill>
                  <a:srgbClr val="ffffff"/>
                </a:solidFill>
                <a:latin typeface="Verdana"/>
              </a:rPr>
              <a:t>donderdag 30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69FD-74BF-40F8-A143-17F8217A8F72}" type="datetime2">
              <a:rPr b="0" lang="nl-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onderdag 30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C8FD-336D-4AE3-953B-8FD271509E8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ABD6-B4DA-424B-B90E-E597D3B7953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835280" y="1125000"/>
            <a:ext cx="572760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nl-NL" sz="6000" spc="-1" strike="noStrike">
                <a:solidFill>
                  <a:srgbClr val="000000"/>
                </a:solidFill>
                <a:latin typeface="Arial"/>
                <a:ea typeface="Arial"/>
              </a:rPr>
              <a:t>Thema 3</a:t>
            </a:r>
            <a:br>
              <a:rPr sz="5900"/>
            </a:br>
            <a:r>
              <a:rPr b="0" lang="nl-NL" sz="5900" spc="-1" strike="noStrike">
                <a:solidFill>
                  <a:srgbClr val="000000"/>
                </a:solidFill>
                <a:latin typeface="Arial"/>
                <a:ea typeface="Arial"/>
              </a:rPr>
              <a:t>Voeding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V21-31-4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N. Wolfs</a:t>
            </a: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NW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K. Van Gorp</a:t>
            </a: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K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aterbehoef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rken drinkt +/- 10% van het lichaamsgewicht op een da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rken drinkt 2,5x zoveel als het ee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6B36-F945-4B07-A3D6-C99EA0D1929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Afbeelding 4" descr=""/>
          <p:cNvPicPr/>
          <p:nvPr/>
        </p:nvPicPr>
        <p:blipFill>
          <a:blip r:embed="rId1"/>
          <a:stretch/>
        </p:blipFill>
        <p:spPr>
          <a:xfrm>
            <a:off x="1116000" y="3068640"/>
            <a:ext cx="730584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aterbehoef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934560" y="981000"/>
            <a:ext cx="6634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inkbak vs. Drinknipp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ordelen?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adele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F185-1432-488D-99D1-C7E536FAE1C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Afbeelding 4" descr=""/>
          <p:cNvPicPr/>
          <p:nvPr/>
        </p:nvPicPr>
        <p:blipFill>
          <a:blip r:embed="rId1"/>
          <a:stretch/>
        </p:blipFill>
        <p:spPr>
          <a:xfrm>
            <a:off x="2832120" y="1454040"/>
            <a:ext cx="6324480" cy="2853000"/>
          </a:xfrm>
          <a:prstGeom prst="rect">
            <a:avLst/>
          </a:prstGeom>
          <a:ln w="0">
            <a:noFill/>
          </a:ln>
        </p:spPr>
      </p:pic>
      <p:pic>
        <p:nvPicPr>
          <p:cNvPr id="764" name="Afbeelding 5" descr=""/>
          <p:cNvPicPr/>
          <p:nvPr/>
        </p:nvPicPr>
        <p:blipFill>
          <a:blip r:embed="rId2"/>
          <a:stretch/>
        </p:blipFill>
        <p:spPr>
          <a:xfrm>
            <a:off x="565200" y="4398840"/>
            <a:ext cx="2133720" cy="2184480"/>
          </a:xfrm>
          <a:prstGeom prst="rect">
            <a:avLst/>
          </a:prstGeom>
          <a:ln w="0">
            <a:noFill/>
          </a:ln>
        </p:spPr>
      </p:pic>
      <p:pic>
        <p:nvPicPr>
          <p:cNvPr id="765" name="Afbeelding 6" descr=""/>
          <p:cNvPicPr/>
          <p:nvPr/>
        </p:nvPicPr>
        <p:blipFill>
          <a:blip r:embed="rId3"/>
          <a:stretch/>
        </p:blipFill>
        <p:spPr>
          <a:xfrm>
            <a:off x="3030480" y="4400640"/>
            <a:ext cx="230832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amenstelling vo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123560" y="907560"/>
            <a:ext cx="6635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orbeeld:</a:t>
            </a:r>
            <a:br>
              <a:rPr sz="2800"/>
            </a:br>
            <a:br>
              <a:rPr sz="2800"/>
            </a:br>
            <a:r>
              <a:rPr b="0" i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 brijvoer zit veel water en weinig droge stof. (In verhouding 23% droge stof)</a:t>
            </a:r>
            <a:br>
              <a:rPr sz="2800"/>
            </a:br>
            <a:r>
              <a:rPr b="0" i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r… varken drinkt 2,5x zoveel als eten.. Du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7C01-4A8C-46B0-8E4F-2F9D7386C49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Afbeelding 4" descr=""/>
          <p:cNvPicPr/>
          <p:nvPr/>
        </p:nvPicPr>
        <p:blipFill>
          <a:blip r:embed="rId1"/>
          <a:stretch/>
        </p:blipFill>
        <p:spPr>
          <a:xfrm>
            <a:off x="3708360" y="3206880"/>
            <a:ext cx="43830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dermidd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468000" y="1197000"/>
            <a:ext cx="8218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Kracht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uikers, eiwitten, zetmeel, mineral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chtrijke voeders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&lt;85% DS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enkelvoudig voer = 1 produc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mengvoer = samengesteld in fabriek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remix + melasse + grondstoff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brok/voe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rij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ater + voedermiddel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‘voedermiddelen’ zoal; mengvoer, maar ook humane consumptie resten;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kaaswei, bierborstel, aardappelstoomschille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4C99-84C6-402D-979F-4CA492C8DE6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ligbox met uit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tation met individuele dierherke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oogvoerbak met onbeperkte voed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Lange troggen voor droogvoer of brijvo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68B8-EA16-44E5-8A13-9898168DA34D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714240" y="836640"/>
            <a:ext cx="7715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erligbox met uitloop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eugen worden opgesloten tijdens et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De gehele groep krijgt dezelfde voergi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eugen met aantal worpen, drachtigheidsstadium en conditie bij elkaar zetten. 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ordeel: Individueel controle en voeren mogelijk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adeel: weinig gelegenheid tot vertonen van natuurlijk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C265-D36B-49FC-8398-2CE8C16DF2B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Afbeelding 5" descr="Afbeelding met binnen, metaal, staand, gebouw&#10;&#10;Automatisch gegenereerde beschrijving"/>
          <p:cNvPicPr/>
          <p:nvPr/>
        </p:nvPicPr>
        <p:blipFill>
          <a:blip r:embed="rId1"/>
          <a:stretch/>
        </p:blipFill>
        <p:spPr>
          <a:xfrm>
            <a:off x="4140360" y="4043520"/>
            <a:ext cx="396864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1187280" y="1197000"/>
            <a:ext cx="7499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tation met individuele dierherke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Transponder om dier te identificer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Systeem herkent transponder en geeft de juiste hoeveelheid voeding per zeug.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Zeugen eten na elkaar, niet tegelijk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1349-F7F6-4A86-8186-C1A393CE9E0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Afbeelding 5" descr="Afbeelding met binnen, hond, dier, zoogdier&#10;&#10;Automatisch gegenereerde beschrijving"/>
          <p:cNvPicPr/>
          <p:nvPr/>
        </p:nvPicPr>
        <p:blipFill>
          <a:blip r:embed="rId1"/>
          <a:srcRect l="8262" t="12191" r="21653" b="0"/>
          <a:stretch/>
        </p:blipFill>
        <p:spPr>
          <a:xfrm>
            <a:off x="3924360" y="3648240"/>
            <a:ext cx="4257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1116000" y="120348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oogvoerbak met onbeperkte voedering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onbeperkt voeren (ad-libitum)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onbeperkt gepalleteerd vo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5443-38CD-4103-9CC9-CE7D42C433B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Afbeelding 5" descr="Afbeelding met dier, binnen, zwijn, schapen&#10;&#10;Automatisch gegenereerde beschrijving"/>
          <p:cNvPicPr/>
          <p:nvPr/>
        </p:nvPicPr>
        <p:blipFill>
          <a:blip r:embed="rId1"/>
          <a:stretch/>
        </p:blipFill>
        <p:spPr>
          <a:xfrm>
            <a:off x="2692440" y="2997360"/>
            <a:ext cx="521964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Lange troggen voor droogvoer of brij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Zeugen/varkens eten tegelijkertijd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Beperkt 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Stabiele productiegroepen noodzakelij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DC6F-572F-4D26-9CDE-8727D184458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Afbeelding 5" descr="Afbeelding met binnen, bed, zitten, gebouw&#10;&#10;Automatisch gegenereerde beschrijving"/>
          <p:cNvPicPr/>
          <p:nvPr/>
        </p:nvPicPr>
        <p:blipFill>
          <a:blip r:embed="rId1"/>
          <a:stretch/>
        </p:blipFill>
        <p:spPr>
          <a:xfrm>
            <a:off x="79200" y="3502080"/>
            <a:ext cx="3780000" cy="2620800"/>
          </a:xfrm>
          <a:prstGeom prst="rect">
            <a:avLst/>
          </a:prstGeom>
          <a:ln w="0">
            <a:noFill/>
          </a:ln>
        </p:spPr>
      </p:pic>
      <p:pic>
        <p:nvPicPr>
          <p:cNvPr id="792" name="Afbeelding 7" descr="Afbeelding met binnen, gebouw, bruin, klein&#10;&#10;Automatisch gegenereerde beschrijving"/>
          <p:cNvPicPr/>
          <p:nvPr/>
        </p:nvPicPr>
        <p:blipFill>
          <a:blip r:embed="rId2"/>
          <a:stretch/>
        </p:blipFill>
        <p:spPr>
          <a:xfrm>
            <a:off x="4140360" y="3495600"/>
            <a:ext cx="475596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en per dier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Opfokzeugen en be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u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ig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leesvark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E305-DA12-4F17-834E-8452F0E2CB9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053800" y="369720"/>
            <a:ext cx="66452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hou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619280" y="1420920"/>
            <a:ext cx="6634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Spijsverteringsstel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Vert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M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Samenstelling vo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Waterbehoef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Voedermidde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Voersyste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Voeren per diergro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1240" indent="-341280">
              <a:lnSpc>
                <a:spcPct val="9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DF9E-8AE3-4C20-B229-385DEBD1609B}" type="slidenum">
              <a:rPr b="0" lang="nl-NL" sz="1100" spc="-1" strike="noStrike">
                <a:solidFill>
                  <a:srgbClr val="57585a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4"/>
          <p:cNvSpPr/>
          <p:nvPr/>
        </p:nvSpPr>
        <p:spPr>
          <a:xfrm>
            <a:off x="-368280" y="6546960"/>
            <a:ext cx="8748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E886-B645-4670-853D-74BECA500C7D}" type="slidenum">
              <a:rPr b="0" lang="nl-NL" sz="1100" spc="-1" strike="noStrike">
                <a:solidFill>
                  <a:srgbClr val="57585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3"/>
          <p:cNvSpPr/>
          <p:nvPr/>
        </p:nvSpPr>
        <p:spPr>
          <a:xfrm>
            <a:off x="642960" y="214200"/>
            <a:ext cx="6400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979280" y="231480"/>
            <a:ext cx="66452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en per dier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611280" y="843120"/>
            <a:ext cx="7354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fokzeugen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oel: sterk dier neerzetten d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timale voortplantingsresultat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haald.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240/260 dagen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dekrijp &amp; 120 kg.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Letten op vervetting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Opfokzeugenvoer (vanaf 20 kg)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Specifiek gelten opfokvoer (vanaf 40 kg)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 (eiwitbehoefte gelt &lt; vleesvarken)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70 – 110 kg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opfokvoer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&gt;110 kg drachtvoer</a:t>
            </a:r>
            <a:br>
              <a:rPr sz="2200"/>
            </a:br>
            <a:br>
              <a:rPr sz="2200"/>
            </a:b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ren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Opfokvoer, of combi van dracht&amp;lacto voer.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Extra zink: i.v.m. uitscheiden sperma. </a:t>
            </a:r>
            <a:br>
              <a:rPr sz="2200"/>
            </a:b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as drachtvoer als beer volledig volgroeid is!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3931-8122-4337-8E3F-3B38FF68719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Afbeelding 5" descr="Afbeelding met dier, binnen, zoogdier, bruin&#10;&#10;Automatisch gegenereerde beschrijving"/>
          <p:cNvPicPr/>
          <p:nvPr/>
        </p:nvPicPr>
        <p:blipFill>
          <a:blip r:embed="rId1"/>
          <a:stretch/>
        </p:blipFill>
        <p:spPr>
          <a:xfrm>
            <a:off x="6302520" y="3789360"/>
            <a:ext cx="2806560" cy="1663560"/>
          </a:xfrm>
          <a:prstGeom prst="rect">
            <a:avLst/>
          </a:prstGeom>
          <a:ln w="0">
            <a:noFill/>
          </a:ln>
        </p:spPr>
      </p:pic>
      <p:pic>
        <p:nvPicPr>
          <p:cNvPr id="800" name="Afbeelding 7" descr="Afbeelding met zwijn, dier, gras, zoogdier&#10;&#10;Automatisch gegenereerde beschrijving"/>
          <p:cNvPicPr/>
          <p:nvPr/>
        </p:nvPicPr>
        <p:blipFill>
          <a:blip r:embed="rId2"/>
          <a:stretch/>
        </p:blipFill>
        <p:spPr>
          <a:xfrm>
            <a:off x="5302080" y="878040"/>
            <a:ext cx="349272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en per dier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826560" y="1197000"/>
            <a:ext cx="7859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ug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oel: gezonde, sterke, goed producerende zeugen.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Onderhoudsbehoefte afhankelijk van gewicht.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Extra voedingsstoffen en eiwitten bij dracht en lactatie.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Insemineren tot werp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dracht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Tijdens het zog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lacto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Guste zeug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bronstvoer, lacto, biggen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(koolhydraten), dextros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eicellen + aantal cellen stijgt. (flush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DEFD-FB7B-4AF0-BBDC-0A033CDD8DDD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Afbeelding 4" descr=""/>
          <p:cNvPicPr/>
          <p:nvPr/>
        </p:nvPicPr>
        <p:blipFill>
          <a:blip r:embed="rId1"/>
          <a:stretch/>
        </p:blipFill>
        <p:spPr>
          <a:xfrm>
            <a:off x="2771640" y="2382840"/>
            <a:ext cx="56880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en per dier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636120" y="974880"/>
            <a:ext cx="5040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gg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Biest (36 uur) en melk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Overgang vezels en vast voer (maag-darmstelsel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bij +/- 2 weken leeftijd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melkkorrel / kruimel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enkele dagen voor spen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biggenkorrel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na spenen (28 dagen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biggenvoer (droog of brijvo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64EA-45CA-4EFA-A74A-1ED496C85CA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Afbeelding 6" descr="Afbeelding met binnen, bed, neerleggen, hond&#10;&#10;Automatisch gegenereerde beschrijving"/>
          <p:cNvPicPr/>
          <p:nvPr/>
        </p:nvPicPr>
        <p:blipFill>
          <a:blip r:embed="rId1"/>
          <a:stretch/>
        </p:blipFill>
        <p:spPr>
          <a:xfrm>
            <a:off x="5219640" y="1052640"/>
            <a:ext cx="3741840" cy="2446200"/>
          </a:xfrm>
          <a:prstGeom prst="rect">
            <a:avLst/>
          </a:prstGeom>
          <a:ln w="0">
            <a:noFill/>
          </a:ln>
        </p:spPr>
      </p:pic>
      <p:pic>
        <p:nvPicPr>
          <p:cNvPr id="809" name="Afbeelding 8" descr="Afbeelding met frietjes, fruit, noot, zitten&#10;&#10;Automatisch gegenereerde beschrijving"/>
          <p:cNvPicPr/>
          <p:nvPr/>
        </p:nvPicPr>
        <p:blipFill>
          <a:blip r:embed="rId2"/>
          <a:stretch/>
        </p:blipFill>
        <p:spPr>
          <a:xfrm>
            <a:off x="4475160" y="4792680"/>
            <a:ext cx="2736720" cy="1817640"/>
          </a:xfrm>
          <a:prstGeom prst="rect">
            <a:avLst/>
          </a:prstGeom>
          <a:ln w="0">
            <a:noFill/>
          </a:ln>
        </p:spPr>
      </p:pic>
      <p:pic>
        <p:nvPicPr>
          <p:cNvPr id="810" name="Afbeelding 10" descr="Afbeelding met hond, binnen, tafel, gebouw&#10;&#10;Automatisch gegenereerde beschrijving"/>
          <p:cNvPicPr/>
          <p:nvPr/>
        </p:nvPicPr>
        <p:blipFill>
          <a:blip r:embed="rId3"/>
          <a:srcRect l="19762" t="17497" r="19762" b="11235"/>
          <a:stretch/>
        </p:blipFill>
        <p:spPr>
          <a:xfrm>
            <a:off x="1187280" y="4792680"/>
            <a:ext cx="27370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en per dier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324000" y="1052640"/>
            <a:ext cx="6634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leesvark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Spieren en vleesaanzet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eiwitt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Snelle groei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Voederconversie belangrijk! (VC)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Let op vervetten!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Kleur: biggen eten eerder uit een opvallende bak!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Troglengte van 35 cm per varken.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Meerfasen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Borg zit sneller aan VC dan ge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9814-E484-4C64-B504-ED242DCA6A1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Afbeelding 4" descr=""/>
          <p:cNvPicPr/>
          <p:nvPr/>
        </p:nvPicPr>
        <p:blipFill>
          <a:blip r:embed="rId1"/>
          <a:stretch/>
        </p:blipFill>
        <p:spPr>
          <a:xfrm>
            <a:off x="2705040" y="981000"/>
            <a:ext cx="61149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sstel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826560" y="213372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g-darm stel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861F-71FE-43AE-B0E9-2C7A9CAB36E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Afbeelding 4" descr=""/>
          <p:cNvPicPr/>
          <p:nvPr/>
        </p:nvPicPr>
        <p:blipFill>
          <a:blip r:embed="rId1"/>
          <a:stretch/>
        </p:blipFill>
        <p:spPr>
          <a:xfrm>
            <a:off x="4622760" y="1111320"/>
            <a:ext cx="41720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skan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983880" y="1426680"/>
            <a:ext cx="6635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ond en wroetschijf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roetschijf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kraakbe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aarnaast een goed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reukorgaa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ondholte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eeksel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enzym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mylase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lwassen gebit: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44 tanden en kiezen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CFCE-7DDC-4562-960A-533A43AA619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Afbeelding 4" descr=""/>
          <p:cNvPicPr/>
          <p:nvPr/>
        </p:nvPicPr>
        <p:blipFill>
          <a:blip r:embed="rId1"/>
          <a:stretch/>
        </p:blipFill>
        <p:spPr>
          <a:xfrm>
            <a:off x="5580000" y="1281240"/>
            <a:ext cx="2884680" cy="2147760"/>
          </a:xfrm>
          <a:prstGeom prst="rect">
            <a:avLst/>
          </a:prstGeom>
          <a:ln w="0">
            <a:noFill/>
          </a:ln>
        </p:spPr>
      </p:pic>
      <p:pic>
        <p:nvPicPr>
          <p:cNvPr id="733" name="Afbeelding 5" descr=""/>
          <p:cNvPicPr/>
          <p:nvPr/>
        </p:nvPicPr>
        <p:blipFill>
          <a:blip r:embed="rId2"/>
          <a:stretch/>
        </p:blipFill>
        <p:spPr>
          <a:xfrm>
            <a:off x="5729400" y="4049640"/>
            <a:ext cx="29574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skan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lokdarm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70 cm lang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eristaltische bewegingen en slijmprodu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g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5 à 8 liter inhoud,   maagsapklieren,  zoutzuur (HCL)  pH = 2 à 3</a:t>
            </a:r>
            <a:br>
              <a:rPr sz="2800"/>
            </a:br>
            <a:r>
              <a:rPr b="0" i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epsin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splitsing eiwi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uur doodt bacterië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tress verstoort slijmproducti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maagzwer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ruwvoer geve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6B52-8EC4-4CB9-9232-2470325A50D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skan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1098720" y="992160"/>
            <a:ext cx="7572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unne darm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rokken voedsel afgebroken tot voedingsstoffen. Darmwand laat voedingsstoffen door naar het lichaam.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12 vingerige darm (60 cm)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erdere enzymen en galsappen komen samen.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dunne darm (18 me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kke darm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blinde darm (4 meter)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absorptie wat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werking darmbacterië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fermentati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zels erg belangrijk!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endeldarm, laatste stuk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vorming mest.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54AC-BCE6-41ED-97B1-0D73F1F05BEA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er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250560" y="1203480"/>
            <a:ext cx="5329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rken = geen herkauw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us… moeite met ruwe celstof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 wordt bewerkt (ontsluiten)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r…. bij veel vezels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fermentatie in de dikke dar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Ruwvoer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gaat langzaam door darm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verzadigd gevoel + verhoogt weerstan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482A-A658-4EBC-BC27-8929C04208A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Afbeelding 4" descr=""/>
          <p:cNvPicPr/>
          <p:nvPr/>
        </p:nvPicPr>
        <p:blipFill>
          <a:blip r:embed="rId1"/>
          <a:stretch/>
        </p:blipFill>
        <p:spPr>
          <a:xfrm>
            <a:off x="5614920" y="3462480"/>
            <a:ext cx="315612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at zie je aan de mest?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rantsoen goed afgestemd, ja of ne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482F-419E-43CC-92DE-BF5379301C7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Afbeelding 4" descr=""/>
          <p:cNvPicPr/>
          <p:nvPr/>
        </p:nvPicPr>
        <p:blipFill>
          <a:blip r:embed="rId1"/>
          <a:stretch/>
        </p:blipFill>
        <p:spPr>
          <a:xfrm>
            <a:off x="3995640" y="2346480"/>
            <a:ext cx="4349880" cy="3314520"/>
          </a:xfrm>
          <a:prstGeom prst="rect">
            <a:avLst/>
          </a:prstGeom>
          <a:ln w="0">
            <a:noFill/>
          </a:ln>
        </p:spPr>
      </p:pic>
      <p:cxnSp>
        <p:nvCxnSpPr>
          <p:cNvPr id="748" name="Rechte verbindingslijn met pijl 6"/>
          <p:cNvCxnSpPr/>
          <p:nvPr/>
        </p:nvCxnSpPr>
        <p:spPr>
          <a:xfrm>
            <a:off x="2484000" y="2707920"/>
            <a:ext cx="2375280" cy="289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749" name="Rechte verbindingslijn met pijl 7"/>
          <p:cNvCxnSpPr/>
          <p:nvPr/>
        </p:nvCxnSpPr>
        <p:spPr>
          <a:xfrm flipV="1">
            <a:off x="2626920" y="4841280"/>
            <a:ext cx="2313720" cy="1035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750" name="Tekstvak 9"/>
          <p:cNvSpPr/>
          <p:nvPr/>
        </p:nvSpPr>
        <p:spPr>
          <a:xfrm>
            <a:off x="539640" y="24210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meüi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kelijk in te drukk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limm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kstvak 10"/>
          <p:cNvSpPr/>
          <p:nvPr/>
        </p:nvSpPr>
        <p:spPr>
          <a:xfrm>
            <a:off x="792000" y="5319720"/>
            <a:ext cx="19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eft langer in de darm geze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amenstelling vo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468000" y="1197000"/>
            <a:ext cx="8218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eende-analys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fracties diervoeder analyse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2B7E-A5C1-4681-AC63-25FA7B80F32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Afbeelding 5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679896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09:58:02Z</dcterms:created>
  <dc:creator>Martin Drenth</dc:creator>
  <dc:description/>
  <dc:language>en-US</dc:language>
  <cp:lastModifiedBy>Kelly van Gorp</cp:lastModifiedBy>
  <dcterms:modified xsi:type="dcterms:W3CDTF">2019-11-07T19:16:51Z</dcterms:modified>
  <cp:revision>137</cp:revision>
  <dc:subject/>
  <dc:title>Gebruik van Powerpoint sjablonen</dc:title>
</cp:coreProperties>
</file>