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7.jpeg" ContentType="image/jpeg"/>
  <Override PartName="/ppt/media/image18.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26.wmf" ContentType="image/x-wmf"/>
  <Override PartName="/ppt/media/image1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17.png" ContentType="image/png"/>
  <Override PartName="/ppt/media/image14.png" ContentType="image/png"/>
  <Override PartName="/ppt/media/image24.png" ContentType="image/png"/>
  <Override PartName="/ppt/media/image1.png" ContentType="image/png"/>
  <Override PartName="/ppt/media/image3.png" ContentType="image/png"/>
  <Override PartName="/ppt/media/image4.jpeg" ContentType="image/jpeg"/>
  <Override PartName="/ppt/media/image2.png" ContentType="image/png"/>
  <Override PartName="/ppt/media/image25.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6C43-3A68-470B-B454-C69B56163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127F-1409-4C0C-98AA-526AA64D49A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9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7FCD-6D9D-49AE-A912-2B7F72425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9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3B1F-1E6F-4BF1-8274-AA3CDDCDB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9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9E34-396E-4DDA-81E7-FCB3C2601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9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571B-4966-4D56-9233-58FD81C2B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6324-1907-428E-9FD4-FF2BCF3E4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E0CC-2F02-4FB8-9E57-53EDA81C3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7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DF09-21DD-49EF-8B7B-1113044C0196}"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7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7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CD00-7FE9-415F-B044-C5F5AA48E74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87E1-D2D1-4ECB-AA42-F405D8D8F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8870-2082-4CEF-AB6D-EC6983D1E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9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1843-786E-4B49-AF33-8697BC7D1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F44F-151D-4956-A5DB-7270748D8554}"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8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845C-CE51-43F6-A63F-92498FA149F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ED5C-1633-4097-89B1-3BE6C6C91299}"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8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703A-F630-4010-ACEA-EE2978369DB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C8D0-663E-40FC-B458-820C600BA0AC}"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9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9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E4AD-2607-46AB-BF4D-19A1F6E2329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9127-5534-4757-9108-913ECF7FBA23}"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9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3A1C-309F-4509-8E95-3E1F9F25B43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90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90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A609-E00F-46EA-95BE-58B4D85311D9}"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90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1D0C-365D-4AC4-862F-050534F05EF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9BA22-28EE-4EFE-8AEE-C2DA8017B6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1C3CB46-E5D0-4302-A79E-61C45CE4242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7899DC-01C1-4BC1-A908-20EC2A9648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2ED6A-875B-41F3-9A64-395CBD5931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73405C-DA4C-45BA-A28D-04DFD2CD05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E973A-270A-4E1D-A723-1B2C1D6248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4E6FC9-7C60-4743-BDCA-98C129C5E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55E03D-6F82-4B22-B141-FD596BBDE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655FC1-97FD-40D9-AC6E-218123BBF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57C518-CF48-402A-8131-F0E489B6E1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D70CA4-A5E8-4CD0-9912-B5E25DC377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35A533-9277-4DF7-904A-2CDC475B8A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B17AF76-091F-4FD8-B6BF-DD01C590EE5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DD87A5-96D3-48DF-BEB3-BCE707B544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844CF4-39AA-4568-99C1-079E8893DA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DC3612-DCCF-4644-BB03-57A4D2E62B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35C481-9BC4-498D-8E03-AA7F0CDD03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3EB07A-EE37-42FC-B109-9B72236131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E836A-9A5D-462B-9C8D-CF983499BF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96C18-39EA-47AF-B795-5B6B58E317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915B2A-756A-4ECC-ADE1-EC3FEA9A5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9314C9-7AE6-47CF-842B-DBA58AC500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BED977-5473-4FA0-B6D8-9181B8BB1A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236632D-9706-4C59-A243-489E697C7E5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55E54B-6ADF-4EF7-8B48-846F828EB2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DC55D9-7FF0-4F77-9F2E-A96BD0B9E7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BE15DF-FE09-45A0-917F-1B4F881C09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D117E5-C010-4A30-AA8A-EE0163A3BF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FC672-FA52-4070-8092-DD8520920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2A0819-ADAC-41F5-B9B0-AA15A4994E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2BA025-EA10-447A-85A3-5116ABAA7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60014-C2CF-4924-A273-0C7050F55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E51D0F-7960-4681-914E-F581C3ECE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1083F8-6B25-47D7-93F0-06EE5B7D34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9E7421-7C18-4C95-B61C-3A8E4E0A36E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A2EEF3-C379-4481-A05B-7C23E2E3D3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AE885C-F8C0-4934-87DF-FA730AD445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B9577A-BFC2-470C-88F2-72D481008E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5F223A-5B94-4D4E-95E2-61D68A7173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82A9B4-0C15-40E6-882A-586FFFDBB3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71C0FD-3E73-4B5F-BABF-F6E1AB922C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904AA4-4798-4FC7-8894-676AEACF0E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3E4AD-5E44-447E-9048-EE9E5DC707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331941-34C8-4AF0-8F54-36FD95188C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5DCA03-3AC5-4653-AD54-DA62C5CD33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1EE713E-597A-447D-9F20-BA08F5E2984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95276C-2D52-4916-9537-3F54712DC2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7D15E5-1BC8-4A0A-A403-29B9052F98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58969B-8893-45E4-B459-D4A541C79F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CB53E9-57EF-401C-AAE0-2FAF8CC98D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15868B-6AEE-4D22-A494-DB3AF4B0A0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A89321-E760-4670-83EF-31A047C7EE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6F58A7-ED49-4A9A-992A-134890F73C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F2D77B-66CE-4CBB-889E-E9B5B736EE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50EE32-B5F4-4A85-BCD6-C6CF8AFD83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01C08E-7C35-4020-AF6B-898B42618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E217B5A-6122-44BC-8CDC-10371FE93F2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EC50D7-EB44-4EB3-B08B-015BFA2BAF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AE8B7E-D4D2-49CB-8878-087F31860A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ED4203-0B1B-4CEE-85AC-E342652FB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2B558A-33A7-4B64-9880-20604FFE04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E94076-408F-4FE7-9C95-3951D90F7B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B78D50-CDA7-4E99-B983-72586503CA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E748F3-5F78-49BE-9010-BDB9A70370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5105DC-DD9B-4A93-9020-F87B365AEA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378523-9881-4ED2-B838-81B4363BCE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E88475-179A-4C2C-807F-8FF7C50A17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6A61511-7651-4B25-A560-E69945939FE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BBAA93-60DF-4E54-A4DB-B69D395C43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7734BE-B8EC-4EA7-88F3-4EDBF6253C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C5B6B8-4E53-4ECE-9BEB-7EE2A2A765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F6F0A9-521B-4A0D-970C-E937C243EC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1B823F-61B0-41DF-815C-10DEE88FA3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24DF3C-F744-48DA-8C07-1BCE0FB32E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13CE53-1BC3-47D7-B92C-0E92B52BCB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FE50E8-976C-4A31-BFA2-F316A5C47D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CC75F0-DA87-456A-B687-9F443E8A9F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8E8A19-CA3E-48BF-B598-C52E2F73FA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B4A2269-4F93-471F-963F-7DF78F0A986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1F2E63-7836-4593-BB10-C5C24C71D3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1D2189-AA44-4255-9E4D-1495008B23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6EC804-8A2E-4E08-86AA-5BDC5D873A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8A6538-D5D0-484D-A4B3-A1A3B9576F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CF43A5-21AB-4C3E-9B49-859D1931E5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9B02BC-F6BF-444A-B866-88573B9951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D1E00A-B195-4E8C-9A64-A46CA7D62A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8A5650-6C56-4377-A506-163340A831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AAF21D-3D4C-4021-B740-FA21403D6A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88272F-7ADE-494B-A7E9-6756C8725E5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8D5DC9A-4FAA-4FE7-8028-ABA473D7A5B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8F497C-2201-49EA-9833-4EEE30C7EE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AFF4A20-C07A-4539-869F-9FF28BF917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7F2414-32DB-43C5-ABC5-269203C952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9DDB12-A2AD-46EF-B73D-6A155D60D9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9A233A-827D-4762-A80A-1485A1FE0E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6F8A5B-3E11-4138-875A-80560706ED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FB01D3-875D-444E-86C8-2DD90B00CC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C0348D-3660-4613-9506-488A545557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7D4162-AE64-498A-8A26-59DAD214DA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CC8535-E411-438E-9AB7-784EAE8A7F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DF8B15-ED56-4A1B-98E1-B64717D8DDB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CE8BB1-96F9-451F-A1DD-692C775874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AB932E3-9C30-450E-AE91-0AB90C4B64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B49DCD2-1F3E-421F-9887-3F14C07DA0E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D4555D-41E6-4FBA-B248-7CBE4AE7A88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928253-4230-4A28-9343-10A9686ED6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6F9A0F-A1D1-4007-B26F-2E0675CE42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0E7BAD-26F7-4990-B0CA-FFE7DD713C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F15F4A-7BA3-4378-B821-762B672304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6B292D8-D776-431D-9E84-76D3654D66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62A018-1A8B-40B9-9F1D-693AAC2A5B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BD1ECA2-EE1E-432B-8181-6FCDFF4ABF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F173228-0995-459E-AF67-7135AF8A6A9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64411A-5C50-4B5B-958F-83574AD12B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CCCBAD-24C4-4A62-B74F-D0B8A7CD90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10BF53-CE2D-45EB-B2F4-42EC909F40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CACE3FE-2252-4E8F-81E3-BBE9A9E4FFF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AEED28A-7552-40B3-9F7F-7EA211F74BD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26EEC6B-F8A1-445F-97BE-6CE5788A8D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4C2FB1C-0657-4BBC-BEAD-CD4397DC45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A3997D9-4310-4F4F-9D39-4F26030F90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7FA8B06-21C0-4BB0-A49C-E827BC15A8D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6BD80F-8F0B-4CAC-8F51-31E7D68CA5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8296C71-CF3F-4943-BC46-02668FD22F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9B4F60C-19BD-4A1E-955D-DADA27FF46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ADCB519-A1CE-40CC-A54F-9F01344253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16FF321C-3104-41D2-BBDC-E9D7CA5D5F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8AD72A2-F90A-469C-BCA9-86475081DE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758753B-2E09-4F8F-9EE8-1F7030CB77A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B48F06E-A4D3-44B7-8A15-4419080F346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B413589-3544-453A-B648-1762AEEF9F9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B6464D8-3110-4026-81F2-B218789080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4DFC932-E219-456F-BCAA-2A90E903E6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CEE2151-B713-4ED8-9E27-2F6C0F476F2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4775673-AE75-4415-ACEB-1EDD8804C2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0268F-9C6E-4E97-8FC5-12F005994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1DDD4-D24C-4A63-95D3-C1A0D1EF8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D9AFB-56A6-4A65-B2A4-0222F7B55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DC249FA-A165-4539-B8A4-157586FB35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C70ED-A900-4275-B35C-2A7D13FDB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45E31-4A5E-4D2D-9371-EBE8DCB78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C600A-256D-4F2E-B6A7-79786138E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B818D-4CE5-4A92-8F95-59D4F020D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7BD71-AC42-44FA-9EBE-6102E207F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2BBFF-8042-4AD3-B605-D872053E5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B2F04-6FC0-48D9-B47E-6033C409B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DCA77-F575-4587-97A7-DC43AE0B7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D814D-8C73-4DBA-96EE-A663FD39B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1819560-0421-4E22-B957-0BCF10D279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1CD1DEF-6B8D-48E4-BF5B-065B01773EF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43FE20-8F26-44BB-B1D9-7C93B86FF2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890314D-80B6-4474-BA37-31C894FADE1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EF3D3E-003D-4C28-B602-EFACB1D530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352AA-B98A-4032-B0B4-177D9B7306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5E5E04-517E-4A74-BCB2-76E9B81821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E0B3F-6CBD-4B60-BFCC-5E9E496A33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3C1C2B-5B6A-4B33-8B0B-F819E45DD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F050154-9B3A-48EA-868F-201AFEDA16E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119445-41C0-4AE1-B151-1E3CA42D5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EF18A-E43C-41A8-A98A-E986170A7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AE366-2255-4D3F-9CDA-22CE55892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CC458-CE98-4350-94F8-E45E214CE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12F096-10AC-436A-93AF-D48E88B03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A3374D-BEAA-4583-9617-F155811FD8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C38C4D-6018-4432-9C69-F493F42278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34235D-6BFA-4922-B036-1715356C58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C70A66-7D67-4176-862F-B770F45C8A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135D64-B333-41A4-BE14-CEF082A431E3}"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91A2-2C07-4E89-B240-01B149DA6642}"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9A1E-8233-4D8C-BF5F-B3996301359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A90B-C67E-4A1B-9C88-E421FB960D4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9F41-58AF-40D9-AE90-D969B0B1E31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7275-851E-40F4-ACBA-881F301B76D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74D9-04A8-43BF-8DD2-6E859ECC962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EF6D-DE8C-4863-9FD2-503330BA2F8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AC2D-D8FB-481E-9EB8-5A142FF8E27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A521-1F46-4A17-BBA0-62903D6D1AE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BADD-019B-40A5-81A3-C7153B295BEC}"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4C44-3A8A-4B9C-872C-F170A4D52643}"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1986-B2C3-4FB8-A999-B3802EC14E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B207-2544-46F8-8D4B-D7AFBB3092E6}"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856D-951C-4345-9631-F82BF8772573}"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7E63-048E-4B5C-99E1-E32D06EB074C}"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77A2-2112-47AF-85D3-BEE7E48B5D69}" type="datetime2">
              <a:rPr b="0" lang="nl-NL" sz="1200" spc="-1" strike="noStrike">
                <a:solidFill>
                  <a:srgbClr val="898989"/>
                </a:solidFill>
                <a:latin typeface="Times New Roman"/>
                <a:ea typeface="Arial"/>
              </a:rPr>
              <a:t>woensdag 29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970A-2DD3-49A9-815F-CA2B6DFDEE2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06A9-915D-4E5C-9FF5-B16C1E4064F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9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9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padlet.com/kvangorp/svgtuv6ag9og7jvk"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66" name="Tijdelijke aanduiding voor inhoud 4" descr=""/>
          <p:cNvPicPr/>
          <p:nvPr/>
        </p:nvPicPr>
        <p:blipFill>
          <a:blip r:embed="rId1"/>
          <a:stretch/>
        </p:blipFill>
        <p:spPr>
          <a:xfrm>
            <a:off x="900000" y="1220760"/>
            <a:ext cx="7344000" cy="3957840"/>
          </a:xfrm>
          <a:prstGeom prst="rect">
            <a:avLst/>
          </a:prstGeom>
          <a:ln w="0">
            <a:noFill/>
          </a:ln>
        </p:spPr>
      </p:pic>
      <p:sp>
        <p:nvSpPr>
          <p:cNvPr id="76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B88C-EC7E-4E61-A1B8-F87673998D1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8"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03E1-19E6-45AA-8D21-43415E2FBE7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EC48-E1C4-4B3C-AAFE-9246486837B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4"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75"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4647-098F-4981-8F92-2619712DCC3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8"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9"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ADB9-3F51-45EB-B6ED-8FA034E6869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2"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83"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20B5-8584-43F3-81CF-AFD4E77D357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6"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7" name="Afbeelding 4" descr=""/>
          <p:cNvPicPr/>
          <p:nvPr/>
        </p:nvPicPr>
        <p:blipFill>
          <a:blip r:embed="rId1"/>
          <a:stretch/>
        </p:blipFill>
        <p:spPr>
          <a:xfrm>
            <a:off x="658800" y="1989000"/>
            <a:ext cx="8028000" cy="4030920"/>
          </a:xfrm>
          <a:prstGeom prst="rect">
            <a:avLst/>
          </a:prstGeom>
          <a:ln w="0">
            <a:noFill/>
          </a:ln>
        </p:spPr>
      </p:pic>
      <p:sp>
        <p:nvSpPr>
          <p:cNvPr id="788"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9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C0B3-49DB-4E79-9087-232B91DB6C6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1"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92" name="Afbeelding 4" descr=""/>
          <p:cNvPicPr/>
          <p:nvPr/>
        </p:nvPicPr>
        <p:blipFill>
          <a:blip r:embed="rId1"/>
          <a:stretch/>
        </p:blipFill>
        <p:spPr>
          <a:xfrm>
            <a:off x="658800" y="1989000"/>
            <a:ext cx="8028000" cy="4030920"/>
          </a:xfrm>
          <a:prstGeom prst="rect">
            <a:avLst/>
          </a:prstGeom>
          <a:ln w="0">
            <a:noFill/>
          </a:ln>
        </p:spPr>
      </p:pic>
      <p:pic>
        <p:nvPicPr>
          <p:cNvPr id="793"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2CC5-26A8-4D15-A88B-B110E67BAC3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6"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07F0-6F0B-4825-A39C-E9C87792797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9"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0" name="Afbeelding 1" descr=""/>
          <p:cNvPicPr/>
          <p:nvPr/>
        </p:nvPicPr>
        <p:blipFill>
          <a:blip r:embed="rId1"/>
          <a:stretch/>
        </p:blipFill>
        <p:spPr>
          <a:xfrm>
            <a:off x="398520" y="1625760"/>
            <a:ext cx="8715240" cy="4873320"/>
          </a:xfrm>
          <a:prstGeom prst="rect">
            <a:avLst/>
          </a:prstGeom>
          <a:ln w="0">
            <a:noFill/>
          </a:ln>
        </p:spPr>
      </p:pic>
      <p:sp>
        <p:nvSpPr>
          <p:cNvPr id="801"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06C6-90A1-496D-B5F4-D77EC5F92E6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805"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9031-B587-420C-A18E-75D8EA0B3B15}"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29C3-4B19-4166-A31D-C081009371BC}"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2F4B-CBE8-482B-921C-ABCD4B20AF7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D5B8-D620-4B59-AC17-CC463799515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AD57-2253-4231-9085-21CFCAC3777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303D-DA8A-478B-9748-32453C4A306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7" name="Tekstvak 6"/>
          <p:cNvSpPr/>
          <p:nvPr/>
        </p:nvSpPr>
        <p:spPr>
          <a:xfrm>
            <a:off x="4226040" y="2451240"/>
            <a:ext cx="114624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ks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txBox="1"/>
          <p:nvPr/>
        </p:nvSpPr>
        <p:spPr>
          <a:xfrm>
            <a:off x="684360" y="1166760"/>
            <a:ext cx="5975280" cy="9367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ea typeface="Arial"/>
              </a:rPr>
              <a:t>Welke diergroepen zijn er?</a:t>
            </a:r>
            <a:br>
              <a:rPr sz="2200"/>
            </a:br>
            <a:r>
              <a:rPr b="0" lang="nl-NL" sz="2200" spc="-1" strike="noStrike">
                <a:solidFill>
                  <a:srgbClr val="000000"/>
                </a:solidFill>
                <a:latin typeface="Arial"/>
                <a:ea typeface="Arial"/>
              </a:rPr>
              <a:t>Welke routes leggen ze af binnen het bedrijf?</a:t>
            </a:r>
            <a:endParaRPr b="0" lang="en-US" sz="2200" spc="-1" strike="noStrike">
              <a:solidFill>
                <a:srgbClr val="000000"/>
              </a:solidFill>
              <a:latin typeface="Calibri"/>
            </a:endParaRPr>
          </a:p>
        </p:txBody>
      </p:sp>
      <p:sp>
        <p:nvSpPr>
          <p:cNvPr id="819" name="Tekstvak 9"/>
          <p:cNvSpPr/>
          <p:nvPr/>
        </p:nvSpPr>
        <p:spPr>
          <a:xfrm>
            <a:off x="6553080" y="3365640"/>
            <a:ext cx="18558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kstvak 10"/>
          <p:cNvSpPr/>
          <p:nvPr/>
        </p:nvSpPr>
        <p:spPr>
          <a:xfrm>
            <a:off x="2895480" y="376092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raamhok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kstvak 11"/>
          <p:cNvSpPr/>
          <p:nvPr/>
        </p:nvSpPr>
        <p:spPr>
          <a:xfrm>
            <a:off x="873000" y="25272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kstvak 12"/>
          <p:cNvSpPr/>
          <p:nvPr/>
        </p:nvSpPr>
        <p:spPr>
          <a:xfrm>
            <a:off x="2941560" y="5432400"/>
            <a:ext cx="18576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speende biggen afd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kstvak 13"/>
          <p:cNvSpPr/>
          <p:nvPr/>
        </p:nvSpPr>
        <p:spPr>
          <a:xfrm>
            <a:off x="5940360" y="56610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leesvark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25" name="Rechte verbindingslijn met pijl 16"/>
          <p:cNvCxnSpPr/>
          <p:nvPr/>
        </p:nvCxnSpPr>
        <p:spPr>
          <a:xfrm>
            <a:off x="5562720" y="2768760"/>
            <a:ext cx="1218240" cy="437040"/>
          </a:xfrm>
          <a:prstGeom prst="straightConnector1">
            <a:avLst/>
          </a:prstGeom>
          <a:ln w="38160">
            <a:solidFill>
              <a:srgbClr val="4a7ebb"/>
            </a:solidFill>
            <a:miter/>
            <a:tailEnd len="med" type="triangle" w="med"/>
          </a:ln>
        </p:spPr>
      </p:cxnSp>
      <p:cxnSp>
        <p:nvCxnSpPr>
          <p:cNvPr id="826"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27" name="Rechte verbindingslijn met pijl 21"/>
          <p:cNvCxnSpPr/>
          <p:nvPr/>
        </p:nvCxnSpPr>
        <p:spPr>
          <a:xfrm flipH="1">
            <a:off x="3801600" y="4583160"/>
            <a:ext cx="23040" cy="682920"/>
          </a:xfrm>
          <a:prstGeom prst="straightConnector1">
            <a:avLst/>
          </a:prstGeom>
          <a:ln w="38160">
            <a:solidFill>
              <a:srgbClr val="4a7ebb"/>
            </a:solidFill>
            <a:miter/>
            <a:tailEnd len="med" type="triangle" w="med"/>
          </a:ln>
        </p:spPr>
      </p:cxnSp>
      <p:cxnSp>
        <p:nvCxnSpPr>
          <p:cNvPr id="828"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29"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30"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31" name="Rechte verbindingslijn met pijl 31"/>
          <p:cNvCxnSpPr/>
          <p:nvPr/>
        </p:nvCxnSpPr>
        <p:spPr>
          <a:xfrm flipH="1" flipV="1">
            <a:off x="1801440" y="3379320"/>
            <a:ext cx="1008720" cy="1896480"/>
          </a:xfrm>
          <a:prstGeom prst="straightConnector1">
            <a:avLst/>
          </a:prstGeom>
          <a:ln w="38160">
            <a:solidFill>
              <a:srgbClr val="4a7ebb"/>
            </a:solidFill>
            <a:miter/>
            <a:tailEnd len="med" type="triangle" w="med"/>
          </a:ln>
        </p:spPr>
      </p:cxnSp>
      <p:sp>
        <p:nvSpPr>
          <p:cNvPr id="832" name="Tekstvak 33"/>
          <p:cNvSpPr/>
          <p:nvPr/>
        </p:nvSpPr>
        <p:spPr>
          <a:xfrm>
            <a:off x="3844440" y="46767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33"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34" name="Tekstvak 36"/>
          <p:cNvSpPr/>
          <p:nvPr/>
        </p:nvSpPr>
        <p:spPr>
          <a:xfrm>
            <a:off x="3902400" y="32400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3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28D9-5768-4BF1-A8D8-6500D06838E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3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7944-D158-4B1C-B1BC-0A535484DE1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Per diergroep schrijf je getallen/begrippen etc op. </a:t>
            </a:r>
            <a:endParaRPr b="0" lang="en-US" sz="2800" spc="-1" strike="noStrike">
              <a:solidFill>
                <a:srgbClr val="000000"/>
              </a:solidFill>
              <a:latin typeface="Calibri"/>
            </a:endParaRPr>
          </a:p>
        </p:txBody>
      </p:sp>
      <p:sp>
        <p:nvSpPr>
          <p:cNvPr id="84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3331B-5461-46F0-9CAC-59D252678EA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anvulling factsheet</a:t>
            </a:r>
            <a:endParaRPr b="0" lang="en-US" sz="2800" spc="-1" strike="noStrike">
              <a:solidFill>
                <a:srgbClr val="000000"/>
              </a:solidFill>
              <a:latin typeface="Calibri"/>
            </a:endParaRPr>
          </a:p>
        </p:txBody>
      </p:sp>
      <p:sp>
        <p:nvSpPr>
          <p:cNvPr id="84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BA558-F578-46BF-978E-34C11EF9E8E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8" name="Tekstvak 6"/>
          <p:cNvSpPr/>
          <p:nvPr/>
        </p:nvSpPr>
        <p:spPr>
          <a:xfrm>
            <a:off x="4361040" y="1855800"/>
            <a:ext cx="2192040" cy="146556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ekstal</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Duur cyclus</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p:txBody>
      </p:sp>
      <p:sp>
        <p:nvSpPr>
          <p:cNvPr id="849" name=""/>
          <p:cNvSpPr txBox="1"/>
          <p:nvPr/>
        </p:nvSpPr>
        <p:spPr>
          <a:xfrm>
            <a:off x="684360" y="1166760"/>
            <a:ext cx="5975280" cy="93672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Vul de diergroepen aan met informatie zoals: </a:t>
            </a:r>
            <a:br>
              <a:rPr sz="1500"/>
            </a:br>
            <a:r>
              <a:rPr b="0" lang="nl-NL" sz="1500" spc="-1" strike="noStrike">
                <a:solidFill>
                  <a:srgbClr val="000000"/>
                </a:solidFill>
                <a:latin typeface="Arial"/>
                <a:ea typeface="Arial"/>
              </a:rPr>
              <a:t>- aantal dagen dat het dier hier is</a:t>
            </a:r>
            <a:br>
              <a:rPr sz="1500"/>
            </a:br>
            <a:r>
              <a:rPr b="0" lang="nl-NL" sz="1500" spc="-1" strike="noStrike">
                <a:solidFill>
                  <a:srgbClr val="000000"/>
                </a:solidFill>
                <a:latin typeface="Arial"/>
                <a:ea typeface="Arial"/>
              </a:rPr>
              <a:t>- voersystemen/huisvestingsmanieren</a:t>
            </a:r>
            <a:br>
              <a:rPr sz="1500"/>
            </a:br>
            <a:r>
              <a:rPr b="0" lang="nl-NL" sz="1500" spc="-1" strike="noStrike">
                <a:solidFill>
                  <a:srgbClr val="000000"/>
                </a:solidFill>
                <a:latin typeface="Arial"/>
                <a:ea typeface="Arial"/>
              </a:rPr>
              <a:t>- belangrijke kengetallen en begrippen</a:t>
            </a:r>
            <a:endParaRPr b="0" lang="en-US" sz="1500" spc="-1" strike="noStrike">
              <a:solidFill>
                <a:srgbClr val="000000"/>
              </a:solidFill>
              <a:latin typeface="Calibri"/>
            </a:endParaRPr>
          </a:p>
        </p:txBody>
      </p:sp>
      <p:sp>
        <p:nvSpPr>
          <p:cNvPr id="850" name="Tekstvak 9"/>
          <p:cNvSpPr/>
          <p:nvPr/>
        </p:nvSpPr>
        <p:spPr>
          <a:xfrm>
            <a:off x="6553080" y="3365640"/>
            <a:ext cx="1855800" cy="173988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kstvak 10"/>
          <p:cNvSpPr/>
          <p:nvPr/>
        </p:nvSpPr>
        <p:spPr>
          <a:xfrm>
            <a:off x="2895480" y="376092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raamhokken</a:t>
            </a:r>
            <a:br>
              <a:rPr sz="1800"/>
            </a:b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2" name="Tekstvak 11"/>
          <p:cNvSpPr/>
          <p:nvPr/>
        </p:nvSpPr>
        <p:spPr>
          <a:xfrm>
            <a:off x="873000" y="25272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3" name="Tekstvak 12"/>
          <p:cNvSpPr/>
          <p:nvPr/>
        </p:nvSpPr>
        <p:spPr>
          <a:xfrm>
            <a:off x="2519280" y="5681520"/>
            <a:ext cx="23940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speende big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4" name="Tekstvak 13"/>
          <p:cNvSpPr/>
          <p:nvPr/>
        </p:nvSpPr>
        <p:spPr>
          <a:xfrm>
            <a:off x="5940360" y="56610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leesvarkens</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cxnSp>
        <p:nvCxnSpPr>
          <p:cNvPr id="855"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56" name="Rechte verbindingslijn met pijl 16"/>
          <p:cNvCxnSpPr/>
          <p:nvPr/>
        </p:nvCxnSpPr>
        <p:spPr>
          <a:xfrm>
            <a:off x="6821640" y="2684160"/>
            <a:ext cx="799200" cy="440280"/>
          </a:xfrm>
          <a:prstGeom prst="straightConnector1">
            <a:avLst/>
          </a:prstGeom>
          <a:ln w="38160">
            <a:solidFill>
              <a:srgbClr val="4a7ebb"/>
            </a:solidFill>
            <a:miter/>
            <a:tailEnd len="med" type="triangle" w="med"/>
          </a:ln>
        </p:spPr>
      </p:cxnSp>
      <p:cxnSp>
        <p:nvCxnSpPr>
          <p:cNvPr id="857"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58" name="Rechte verbindingslijn met pijl 21"/>
          <p:cNvCxnSpPr/>
          <p:nvPr/>
        </p:nvCxnSpPr>
        <p:spPr>
          <a:xfrm flipH="1">
            <a:off x="3715920" y="5006520"/>
            <a:ext cx="23040" cy="685080"/>
          </a:xfrm>
          <a:prstGeom prst="straightConnector1">
            <a:avLst/>
          </a:prstGeom>
          <a:ln w="38160">
            <a:solidFill>
              <a:srgbClr val="4a7ebb"/>
            </a:solidFill>
            <a:miter/>
            <a:tailEnd len="med" type="triangle" w="med"/>
          </a:ln>
        </p:spPr>
      </p:cxnSp>
      <p:cxnSp>
        <p:nvCxnSpPr>
          <p:cNvPr id="859"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60"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61"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62" name="Rechte verbindingslijn met pijl 31"/>
          <p:cNvCxnSpPr/>
          <p:nvPr/>
        </p:nvCxnSpPr>
        <p:spPr>
          <a:xfrm flipH="1" flipV="1">
            <a:off x="2182320" y="3886920"/>
            <a:ext cx="627840" cy="1388520"/>
          </a:xfrm>
          <a:prstGeom prst="straightConnector1">
            <a:avLst/>
          </a:prstGeom>
          <a:ln w="38160">
            <a:solidFill>
              <a:srgbClr val="4a7ebb"/>
            </a:solidFill>
            <a:miter/>
            <a:tailEnd len="med" type="triangle" w="med"/>
          </a:ln>
        </p:spPr>
      </p:cxnSp>
      <p:sp>
        <p:nvSpPr>
          <p:cNvPr id="863" name="Tekstvak 33"/>
          <p:cNvSpPr/>
          <p:nvPr/>
        </p:nvSpPr>
        <p:spPr>
          <a:xfrm>
            <a:off x="3772440" y="51292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64"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65" name="Tekstvak 36"/>
          <p:cNvSpPr/>
          <p:nvPr/>
        </p:nvSpPr>
        <p:spPr>
          <a:xfrm>
            <a:off x="3734280" y="333216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8E57-AF7B-44D4-8D26-30E6B665F75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6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orkennis: Wat weet je al?</a:t>
            </a:r>
            <a:endParaRPr b="0" lang="en-US" sz="2800" spc="-1" strike="noStrike">
              <a:solidFill>
                <a:srgbClr val="000000"/>
              </a:solidFill>
              <a:latin typeface="Calibri"/>
            </a:endParaRPr>
          </a:p>
        </p:txBody>
      </p:sp>
      <p:sp>
        <p:nvSpPr>
          <p:cNvPr id="726" name=""/>
          <p:cNvSpPr txBox="1"/>
          <p:nvPr/>
        </p:nvSpPr>
        <p:spPr>
          <a:xfrm>
            <a:off x="7238520" y="2355480"/>
            <a:ext cx="2133720" cy="22575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C812-5ECB-480F-BAB6-7C7FA6364FB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28" name="Picture 2" descr="QR-code voor deze padlet"/>
          <p:cNvPicPr/>
          <p:nvPr/>
        </p:nvPicPr>
        <p:blipFill>
          <a:blip r:embed="rId1"/>
          <a:stretch/>
        </p:blipFill>
        <p:spPr>
          <a:xfrm>
            <a:off x="5668920" y="981000"/>
            <a:ext cx="3141720" cy="3140280"/>
          </a:xfrm>
          <a:prstGeom prst="rect">
            <a:avLst/>
          </a:prstGeom>
          <a:ln w="0">
            <a:noFill/>
          </a:ln>
        </p:spPr>
      </p:pic>
      <p:sp>
        <p:nvSpPr>
          <p:cNvPr id="729" name="Tekstvak 4"/>
          <p:cNvSpPr/>
          <p:nvPr/>
        </p:nvSpPr>
        <p:spPr>
          <a:xfrm>
            <a:off x="900000" y="1628640"/>
            <a:ext cx="4392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an de QR code of ga naar:</a:t>
            </a:r>
            <a:br>
              <a:rPr sz="1800"/>
            </a:br>
            <a:r>
              <a:rPr b="0" lang="nl-NL" sz="1800" spc="-1" strike="noStrike" u="sng">
                <a:solidFill>
                  <a:srgbClr val="0000ff"/>
                </a:solidFill>
                <a:uFillTx/>
                <a:latin typeface="Arial"/>
                <a:hlinkClick r:id="rId2"/>
              </a:rPr>
              <a:t>https://padlet.com/kvangorp/svgtuv6ag9og7jv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t weet je al van de varkenshouderij?</a:t>
            </a:r>
            <a:br>
              <a:rPr sz="1800"/>
            </a:br>
            <a:br>
              <a:rPr sz="1800"/>
            </a:br>
            <a:r>
              <a:rPr b="0" lang="nl-NL" sz="1800" spc="-1" strike="noStrike">
                <a:solidFill>
                  <a:srgbClr val="000000"/>
                </a:solidFill>
                <a:latin typeface="Arial"/>
              </a:rPr>
              <a:t>Welke vaktermen of begrippen ken je al  binnen de varkenshouderij? </a:t>
            </a:r>
            <a:br>
              <a:rPr sz="1800"/>
            </a:br>
            <a:br>
              <a:rPr sz="1800"/>
            </a:br>
            <a:br>
              <a:rPr sz="1800"/>
            </a:br>
            <a:r>
              <a:rPr b="0" lang="nl-NL" sz="1800" spc="-1" strike="noStrike">
                <a:solidFill>
                  <a:srgbClr val="000000"/>
                </a:solidFill>
                <a:latin typeface="Arial"/>
              </a:rPr>
              <a:t>Herken je een term of begrip? Geef deze dan een duimpje omhoog! </a:t>
            </a:r>
            <a:br>
              <a:rPr sz="1800"/>
            </a:br>
            <a:br>
              <a:rPr sz="1800"/>
            </a:br>
            <a:r>
              <a:rPr b="0" lang="nl-NL" sz="1800" spc="-1" strike="noStrike">
                <a:solidFill>
                  <a:srgbClr val="000000"/>
                </a:solidFill>
                <a:latin typeface="Arial"/>
              </a:rPr>
              <a:t>Is de term nieuw of onbekend? Geef dit dan een duimpje omlaag!</a:t>
            </a:r>
            <a:endParaRPr b="0" lang="en-US" sz="1800" spc="-1" strike="noStrike">
              <a:solidFill>
                <a:srgbClr val="000000"/>
              </a:solidFill>
              <a:latin typeface="Arial"/>
            </a:endParaRPr>
          </a:p>
        </p:txBody>
      </p:sp>
      <p:pic>
        <p:nvPicPr>
          <p:cNvPr id="730" name="Picture 4" descr="Duim omhoog Emoji 👍"/>
          <p:cNvPicPr/>
          <p:nvPr/>
        </p:nvPicPr>
        <p:blipFill>
          <a:blip r:embed="rId3"/>
          <a:stretch/>
        </p:blipFill>
        <p:spPr>
          <a:xfrm>
            <a:off x="5052960" y="4135320"/>
            <a:ext cx="957240" cy="957240"/>
          </a:xfrm>
          <a:prstGeom prst="rect">
            <a:avLst/>
          </a:prstGeom>
          <a:ln w="0">
            <a:noFill/>
          </a:ln>
        </p:spPr>
      </p:pic>
      <p:pic>
        <p:nvPicPr>
          <p:cNvPr id="731" name="Picture 6" descr="👎 duim omlaag - Emoji Betekenis"/>
          <p:cNvPicPr/>
          <p:nvPr/>
        </p:nvPicPr>
        <p:blipFill>
          <a:blip r:embed="rId4"/>
          <a:stretch/>
        </p:blipFill>
        <p:spPr>
          <a:xfrm>
            <a:off x="5064120" y="5321160"/>
            <a:ext cx="977760" cy="97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33" name="Onlinemedia 4" descr=""/>
          <p:cNvPicPr/>
          <p:nvPr/>
        </p:nvPicPr>
        <p:blipFill>
          <a:blip r:embed="rId1"/>
          <a:stretch/>
        </p:blipFill>
        <p:spPr>
          <a:xfrm>
            <a:off x="0" y="1212840"/>
            <a:ext cx="9144000" cy="5143680"/>
          </a:xfrm>
          <a:prstGeom prst="rect">
            <a:avLst/>
          </a:prstGeom>
          <a:ln w="0">
            <a:noFill/>
          </a:ln>
        </p:spPr>
      </p:pic>
      <p:sp>
        <p:nvSpPr>
          <p:cNvPr id="7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1139-AA45-48C6-9822-E1686C61596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33"/>
                    </p:tgtEl>
                  </p:cond>
                </p:stCondLst>
                <p:childTnLst>
                  <p:par>
                    <p:cTn id="8" nodeType="clickEffect" fill="hold">
                      <p:stCondLst>
                        <p:cond evt="onClick">
                          <p:tgtEl>
                            <p:spTgt spid="73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36"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5C6B-E3B0-41CC-99B7-FC48EA4BE0DD}"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8"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FC6E-4CBB-439B-8B6C-25B08EEE3653}"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9"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0"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42"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5ADD-2EAE-43C0-BF44-DEE0F88E8043}"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4"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DD57-2E04-4406-8D54-E16767A2B4B8}"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5"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6"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8"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B8F9-3579-4C8C-A59A-32C08A0FC75D}"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0"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889F-A379-4E13-98F2-75AAC4D81F79}"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1"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2"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4"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3788-F068-4B4B-B9FB-24D50D8F9097}"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6"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97C1-7B75-42F3-B637-70CF8F7D0742}"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7"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8"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60"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068D-8748-41C2-8980-9174EA82CAEF}"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62"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556A-F172-4167-9E83-72454D0367C6}"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63"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4"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22-11-20T15:17:03Z</dcterms:modified>
  <cp:revision>98</cp:revision>
  <dc:subject/>
  <dc:title>Gebruik van Powerpoint sjablonen</dc:title>
</cp:coreProperties>
</file>