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0197-D3B3-4136-A35E-BC1A10DDB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FFAD-F597-481A-B375-327FF1081E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2D42-21A6-4888-B9B5-5EF326257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DDFD-0145-454A-93A1-C452135C3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6BEA-63BD-49CB-94AE-8BA47613C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071B-AFB1-45A8-A3A7-ED5B6030F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7780-AE01-4BB9-BFC0-5B7E8A47D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F1A5-D265-45B0-B03A-B03840B61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18AE-2D97-4722-AA7E-D070F830DB5D}"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F21A-D624-4027-8AF8-DA971FF6215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A90F-D9CB-4DAA-A17F-B78F3D44C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7F2F-D376-4C03-8362-F14A0AEC3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0333-30C5-4763-8E68-83C531D9568D}"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7948-7559-4325-BF34-7CCE17D9457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4DF3-1853-4744-B084-8645835CCFE9}"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297D-10CF-43B3-AE42-8B5AFFA9AA2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0A8E-4F54-4997-BF8A-903EF716843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04A2-6A94-4F44-9BCE-78007BDFA37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EFEA-2309-4F6C-A554-DB27E54FC018}"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5422-A589-44D4-9B54-1B13F270E10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6D4C-C145-4AFF-82CF-F83ABDA48494}" type="datetime">
              <a:rPr b="0" lang="nl-BE" sz="1200" spc="-1" strike="noStrike">
                <a:solidFill>
                  <a:srgbClr val="000000"/>
                </a:solidFill>
                <a:latin typeface="Arial"/>
                <a:ea typeface="Arial"/>
              </a:rPr>
              <a:t>30/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4795-743B-4778-B347-F99A411F78F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5C73-EC19-4247-AB4A-C56F457C4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2036D-79F4-44E2-9D26-7E883B5956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A621DEA-C23E-416B-9B7F-EAE88131574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7A4BA-A39B-4E86-9C9F-C801279E5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84BE86-AA4F-4D85-89DC-3729B156E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D6B1D-49F7-404C-B1D6-FCCEE9450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882E3-F3B7-4FE3-899E-BD9EFD79D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71DC8-0F8D-4F68-9D77-C2432F046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32C26-8BBE-4EF1-8856-EC3357397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744F65-40FB-4E29-92B8-88627D724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F7F823-B680-495B-9D0B-4043C196C1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66B508-A86E-4F68-8C40-C2FDFCC44F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ED721E-ECA4-41FC-9EDF-736F606E68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55E2EBE-9A96-4E54-BFE8-02908F0C39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EFE34-6ABF-43E7-AD2D-F0DDC5F65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5D7BC-61D2-4882-AA7B-55155DFAC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786FF-0914-4EB4-880E-32380157B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FF561-B198-4CBE-8961-48F5D421C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2C96D-5783-4BF7-9F9A-1DA7AF70F7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00275-CAE7-454B-A21D-F78D94DF4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D35C6-E348-4A50-8369-BF3D84673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89B24-5DF2-4EE4-A927-5A437EAEA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83B83-352C-45BC-8415-8D92BC448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A15706-0403-42A7-B169-89DA9C0438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AB3F5BE-2E94-4655-B0EE-7B91C078F2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C20797-00F3-4430-8876-5A9542A0F8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F6692D-3EC0-4F54-831E-350C27936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B4FCE2-10B5-4E5D-BD4E-7312701E8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6FCE2-7D45-477A-908F-3EDFC03D8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7AB83-98FC-44FD-B3B2-F20950126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2E5A6-B18B-4FED-A43B-240221757A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527445-122F-4A90-ADC7-ACD6B18C4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F06DB-BD41-43F9-92FF-523F4D7EE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DD5FD-BD55-47B5-B613-3CDC059FB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B9BF5-298C-49F1-A7A3-FB647F6D9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28941E-CF0B-4516-8208-CB2DD4B849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0569E-C13F-4F1C-89F2-E76391A76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D4789C-CB9C-4CFD-9D91-36C08205A8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246553-1264-49C8-94DD-03C0A537F8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69457-4F4F-4FFF-8F1B-5677003FE5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A1110-1F75-40D0-8432-8B20D1EB21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E1B80E-11DE-4848-A2C7-6D7C6212F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5B10E-62F3-48B9-9279-DD466EAC9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9C825-623C-497D-B91D-BF76B7577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60B6C-B65E-415B-B8DE-481B6C5793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43DD1-4DBA-4BA0-9DA3-EBD63F5E5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50E73C9-178D-4A18-83D1-D41612F6E6B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53140-D2D1-4C45-AFA8-6B18868EA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ED72C-FCBA-4875-B8F4-E8AA11087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98763-953E-44E1-980F-8D68B7680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596F2-6F46-4D63-A8A2-5AC173D3B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A6F47-F4D3-462D-ABEA-8B4848C599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162E83-D87A-46D9-90EA-E35989AD48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3FD22-0934-49BD-80CA-A8F87618C7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AE960-1ED3-4688-A210-32D61BD6C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598CC8-E145-44BD-AA4A-3930CC979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540A6F-A26C-423C-ABCF-1BB2A889C7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F49E22-4046-406E-9142-888D6E2B0B3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33C3A3-E432-4E21-85DB-55D0B1AEF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E9039-CD37-4A8A-90EB-C26080F5FD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C77EA-1893-472A-8445-185D0B7C2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4C30B-7ECB-4D43-95F9-1225B442E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D01C32-EA5B-4119-9C4E-786BF6B0D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231AA6-3BF3-4C79-88E2-9D916F5362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27F2AD-3FC9-4844-9C9F-B6F01F0734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540DD3-FDF2-43CE-8BBD-E69BED4B73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B826EE-94DB-4A34-8470-F9505F9A4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F97E3F-96E1-4A0E-AEA9-BB470104C0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C1D1BF-EC9D-457B-83B5-9789EAA2524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2B660D-109C-448A-8DB6-10FEE645E7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110922-F9F7-49A1-85CD-FDAB3E9A5F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FA59C1-B917-42F5-948D-CAE630C138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D38E82-90CD-4A12-8490-829978B677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88F7C9-C276-4876-A996-22EB28852B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67681C-6FC3-4F1A-A4DE-C5838F879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1894BF-228E-4F52-837F-7FFC05986D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480802-C0B8-4533-89F3-2A1EF9B565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BD7CB2-AEF8-4DAA-8A55-B83B9DAF35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523F05-C3EE-4F2A-BFA5-F88BCE26FE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2E2D4FB-0425-4A8A-B367-DC2781E2023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84C0C0-3BB3-4095-AC60-39D092D9AD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D9639C-542F-4E82-9578-1B64F79D21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13ED9C-38D5-476B-95EE-7B78743F03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7F2195-DA0B-4D41-AD68-13C686FBEA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EAC916-3948-402F-A8DD-C35D48853A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DBAA74-957F-402C-AB96-27022F5CC7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23063-8016-44CE-AB38-CFC9164DD5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8BC715-AB4B-4A58-A893-C7FC4427EE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195C35-A0BC-42B7-A9CB-2014A2F0A5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4AF804-DFAC-4A7E-8A0F-16E817D9F8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08E10AA-F017-4605-AAC5-FCEAD26D55C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430DE7-3EF5-4E92-9E60-A89095A651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281ADE-9281-4096-8B6D-720C2A1B1F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788200-8295-4021-AD0A-5D5EA3DE24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4184BA-9807-4B7B-B48C-C5D18B9C06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E93D6C-FB86-42EB-8A11-3BF90DCADC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005012-85CE-4B2A-A679-C2B8C4CC48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0F3704-50C4-4B69-911B-C20D5B96CA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515D5B-04A6-4697-B65A-762B1850E3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DFC935-ACEC-44AC-9877-AC044B0E70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D440F-3E17-495E-BEBC-2A16999742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E5006D-EE23-4B6A-8350-0CCC104BF8B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36D034-EAB1-4831-9CBD-179FC46995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10C6DD-D264-4BD0-8E4B-0C6EC9BA9D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327111-544A-47D9-AD93-9CC8320263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3BB683-EDE1-496C-B1B2-776130AC4D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95059F-7D15-40CF-8758-2C4604FAD4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0E778A-D780-401C-ABD6-874CAB9B97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250AAC-A580-4191-BB34-1DDC34F9D2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AF015D-DB39-4876-9A1C-CDC6E008D6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1B3156-25D5-4004-8433-34238AE663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07080C-B437-48A7-9C8B-94FBFD280E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E87B2D-E10D-47F8-AFA2-C830DFB67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007ED4-11E6-4D79-B8A4-D55C810007C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F7ABB1-8623-45F1-9BEB-44437B0D52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F58175-961D-4C45-968E-ECD6F0CD3A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161538-5763-4275-9968-2BE05E0877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598168-A62B-4B02-9C5E-15799E77183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5FC6F5-BFD3-4578-8B49-467A277A55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8A4025-C929-4857-B889-6BB8ECE6C6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A117B1-5ACA-485C-8505-BD8716A1B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8CC4DB-5CEE-4CF7-9CFA-509ACF3932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C72B316-9990-4F66-AF38-67BFEA94DF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ED5177-4D81-4CB1-A7B8-EB7F683BEE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325CE9-30B3-44C1-AEB7-BD50D042A2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753A3DC-8110-4409-BF8F-43E4CC74E6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73F9B7-91FE-4926-AFE3-BD381CE07C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C26C8D91-19DD-49ED-B233-3C49E66DD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C73E3F-A9E9-446F-A1E0-5AAB31F40C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AFFD1AC-C0A1-47C1-9F3B-7283A95775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2AFAC9-F67D-49F1-A3EF-2E334B929A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A144C4-B64A-40CB-957D-B72B8E95EE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D900F0-5FEA-4C87-858B-5A124F90F4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2DA041-5C6D-4A4A-98E4-01D1486E18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8E48826-3A51-46BA-BCC8-F44CA9358B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E28176B-D1A1-41B5-AD88-178B5707E0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6E510-578F-407A-9D87-1A3196DE7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D9195-6487-45F2-A1B1-53EBC9D94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5E12A-D3A0-4E10-8BCB-3E7214A9D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00E320-F6AE-41D9-8A9F-CFEE8B15E3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3D731-4644-482E-85CC-6C17C1C3C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B168A-353C-4344-B45B-21C997C88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51B36-7A07-491B-9EA4-E1108E2C7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C2D0B-9074-4E57-A79C-2D81EF2C6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50FE7-3434-4C8E-99BA-286E90751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94D6-176A-4ACE-B637-DABDAFC1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3BE64-B497-4C59-A361-D48AFBE3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7D342-4781-42C6-B77B-B6EFDDF84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92A47-F48C-4715-8000-AB3CD4359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A9D7698-D307-49A6-AE38-9FAC82F6EA6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443676E-2308-45F1-AE69-64C5EB53996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E0556F-8D3D-4582-B276-0FC40872C3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F88D39-23BC-4418-83D1-5F71B2E829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141950-97C0-4C18-994D-8A09A6D55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EC67D-C318-4AD5-B40D-1E77A3BA1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4154B-A05B-4FD7-9119-C88DDD327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F1947-3316-4326-A8AD-0630CD8EF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465AB-C2AC-4F6A-903A-5C7395DD7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FA41CC-1D60-4406-B7FA-164AD717AB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2A5F6-2C0C-4DC9-9AF3-75A133B82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262F9-4918-4E3D-B10C-CA4CA77DF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1B6F7-5E60-4C82-B586-CA91B9AD4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3FC18-16FD-4A4D-826A-A964261A3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A3C6E-517F-48EE-8638-87A0478BA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24B21-AAE6-4DA0-BC52-47C1B735C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4FFE2-828F-4B21-AA43-88B9F760B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A6A1C6-9C84-4675-A890-19B9C5F4FB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E63FA-A3E8-48BE-A432-12F31710D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E7CF1-4041-455F-9821-1723EB04633E}"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B1FC-0611-497C-AB48-5767BDFFD4C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3707-BFC8-4074-A304-C90ADDCF1B7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B3A5-DBAA-421D-9B81-D187FDDAC3A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D4FE-280E-4AF2-9F40-B17E796F13D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0A28-36B9-4CD9-82D1-C59D5DB2B9E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1312-F3CB-4AC7-925A-9C8F52A49A2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745F-249D-4642-9951-9860EBFF0C2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4DF9-23E4-4C5D-AD9C-62DE0907265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4192-8DA3-4C6F-9626-95B3E54337F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550C-B9A5-498D-9AB1-9315F0ABFB4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7B56-EEE1-4CF4-8CF6-F9B47CB0623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D726-C462-42EF-9FAB-B78E553821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8989-6AB0-4381-97D4-804DCADDB75C}"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5CE2-05FA-407D-A749-F489843436D5}"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9EC1-079B-4544-8276-463CF2A7DAD4}" type="datetime2">
              <a:rPr b="1" lang="nl-NL" sz="1200" spc="-1" strike="noStrike">
                <a:solidFill>
                  <a:srgbClr val="ffffff"/>
                </a:solidFill>
                <a:latin typeface="Verdana"/>
              </a:rPr>
              <a:t>donderdag 30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ED9C-5ED2-4647-AB96-D75D2C7E7C77}" type="datetime2">
              <a:rPr b="0" lang="nl-NL" sz="1200" spc="-1" strike="noStrike">
                <a:solidFill>
                  <a:srgbClr val="898989"/>
                </a:solidFill>
                <a:latin typeface="Times New Roman"/>
                <a:ea typeface="Arial"/>
              </a:rPr>
              <a:t>donderdag 30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48B9-5B05-4DD4-9418-003DCE64CA5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E552-D167-41C1-A421-0D6CAE2CBF8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E81A-7268-4D7F-A23B-8F8247A50FC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F7D7-C6F1-49E7-BB94-136A0AA1A67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7DB2-2C2D-4CB9-AF9C-88974D6710B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250E-2DA3-4199-A962-E538F48D298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AF95-DEB1-4EC3-8452-BAC374EF9C7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4B9E-C8BC-48D3-9765-6533A27D133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6EA6-9140-4416-BD1D-E52DD4E1C8E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75DA-448E-4A36-BF9F-F8ADEE9C80D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77D4-BFD3-428C-BEFD-F5042C624DB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3902-ED4D-45ED-A27B-A68C147D735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7530-4134-47A3-85BE-F53CEB086FC6}"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04F0-805D-4070-85B3-ABA839AF2A51}"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94A6-84EC-4F65-83CC-2F897BB2017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AE18-1127-4F33-A479-C4EBAB1D2C5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241A-25A7-471E-9AE7-2F360CEA213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5C17-83F2-4B0E-8300-CAB38F5E2ED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E3BD-E571-4E4A-9876-4A99A045250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3FAD-8D39-493B-A79D-09E6F4C92AF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2BD0-FF1D-4A75-A916-C8AA864CBEC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7B63-3068-490B-B191-9A06169304A4}"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FD3D-194D-4351-A821-BC8D58E98520}"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2CA5-445D-4C0F-A978-D648A53E6D9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A8FC-0E62-4913-A961-1278ED8EB43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27BA-FA2A-41B6-8CD2-2145353D7D0B}"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E749-AB52-4BC6-BF35-3842E560E6C9}"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9BD8-D62A-424A-9939-E8C90047615B}"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28D6-8C59-4397-8430-3B5C5BDBE4F6}"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1981-7098-438B-B21C-AE686DD1982C}"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386D-A65C-4F89-BB30-5C9B7C35FF6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