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3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D054-AD94-4AE9-BF07-B74F3BAC2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D496-08F3-4E1F-B0C2-C3AC20E6EA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 ontwikkelcentrum bij dit thema: (Voeding basis vark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s://contentplatform.ontwikkelcentrum.nl/CMS/CDS/Ontwikkelcentrum/Published%20content/Kenniskiem/98507%20Voeding%20basis%20varkens/98507/98507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ijdelijke aanduiding voor koptekst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/ sec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ijdelijke aanduiding voor datum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CF62-6789-447D-99B3-E4040E8E1462}" type="datetime">
              <a:rPr b="0" lang="nl-BE" sz="1200" spc="-1" strike="noStrike">
                <a:solidFill>
                  <a:srgbClr val="000000"/>
                </a:solidFill>
                <a:latin typeface="Arial"/>
                <a:ea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ijdelijke aanduiding voor voettekst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Author Name Surname /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ijdelijke aanduiding voor dianumm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B437-1B20-4EC6-91BE-9E16B9830B9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erdere enzymen zijn: trypsine, chymotrypsine, amylase, lip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EFE6-A49C-47E1-B6E2-89C78AFF7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B7F9-3518-4509-AB2F-CBDFC8B34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AC5D-8195-4BD8-83EA-BE3A81F324C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F73A0-80AF-4087-A97A-66A05BA7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2FF74-D0EB-453C-A538-FEB09357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89FB2-912A-47CB-ADEC-9B510DC4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1A563-3069-4076-BA35-E9428582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7A33D-B2C9-44E4-9AA1-D44C662D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62EB2-B7C4-49C8-830F-2DB0E5A0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BD39B-6C27-4DBA-8BF7-EB990129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69173-BFB2-4EE3-9424-DA398930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59D94-67AA-4CE2-89AA-53B53937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C03FC-F3CD-492E-9345-593EBBDD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3371-7CC3-45A4-B477-6F63DA5BF51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DD3DC-7206-40B3-B0D3-5651FE77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29D96-F303-4A50-8675-11E815F1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A691B-6887-4C72-B70E-2F25C185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413FE-EB6F-403A-8776-2C5ABE36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87F29-9D89-4890-84C8-DDBABADC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19AF9-6C30-4718-92F1-7A1D76E2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560C1-B736-46E6-A746-2BA43BB6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5B84B-994F-4144-A24E-0DCB7FEC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E5CE8-7DEA-4F17-9686-DB08B6F8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CDAA8-FFA5-4ED5-9387-E8B5B643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A826-2BAF-4DE4-9F92-DF5EE32274F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C668C-D9FC-46CA-B7F2-3D829975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4470A-90E1-436D-BAAB-37449BFC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D734A-FC45-4FA3-8982-860D23FD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FD46B-F8A7-4B72-885F-ECD8B8E8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3BD29-9D64-4F28-AE6A-8B2B5198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D4727-1676-46BE-B548-C654607A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DA7BE-0C60-457F-AFAC-D82D0438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59B21-0619-425D-BAB2-C266D9FA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0A5F8-F306-4754-B117-D703EE4B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CBC8E-DC08-45B7-9C6A-5C4FB0B2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E81A0-245A-4375-8BF0-11F8AC482A5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72990-EAC8-4BD4-BE5E-81DDB2FB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E46B0-962B-485A-999C-954D1C01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7AA1E-7C55-43B5-968D-1BDE80EE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D6EA3-05D1-41B5-ADEF-B200DADD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884A9-629C-4775-A6C3-6CBFCEB9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8B652-2698-4314-BAFB-CFC03DC8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37C2B-02FB-49BD-BEF9-199B96E0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EAFE2-FFDA-4844-AEC9-F9626947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2BD61-61CE-4916-A039-8AD1A11A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B399F-5880-447E-AE1D-1D7CB2EB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A86C-1FF4-40A5-989C-6F63B404554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E19F6-31B8-4991-99F6-88F4DA21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24D4F-E823-40FD-8A7E-5DE8F4A2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74F28-70EE-4C5E-AB56-EDD9275F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2F860-8CD4-4B9B-985F-EC2DEA59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1F5E6-D101-4CEB-9CD0-1036DDB0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CA3FC-E224-49B4-895B-A46F7646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E0DBA-68FD-4650-B233-2DC03827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3D883-ABAA-4224-B6DC-B07CB811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0EF3F-3BB9-4461-8C6A-8BFEDCC5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2451A-93B1-4EC3-B3C6-C6FA8B5E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1381-E89A-4522-883A-B931E842A6B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81CE0-FB59-4D44-9F94-77F34984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F0130-A017-4651-9577-21AF72A7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54FD4-A51D-4852-BC53-F772BB4D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1F5CC-D5E8-40DD-95FA-3FFB5F87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08356-72C5-4AE2-8E3E-F4A9CB8B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96D2A-132B-4BCF-8334-A5BC01D2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113B4-945B-447E-8704-6C6FA1F3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6D800-E624-434D-BD4A-16B191A7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CD19E-79F4-4C6D-9455-3EB794BA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837CD-D30E-42AC-8922-D33A6A22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6F22-455D-4782-B071-39CF318D591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1574D-610A-429F-BC0A-BAA0FF93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A31C0-D84E-4E09-AC4C-ABE7409A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C0C24-7CFA-4093-B95C-7FF08D3C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5B566-CE5F-4CA9-B2F4-3641C247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A2ACC-95D9-4E9E-857C-37CF156D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3690F-EC87-47ED-A007-951CBF9E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B5743-17B0-46A7-953E-CCC2AAA2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2A635-6C92-4B4D-99B3-FC27C759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0BD89-2B9B-464A-BBB1-5ED9E4C6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A463E-388A-4BBD-B2B2-09C74BFD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9EEB2-63DE-4892-8B3C-D8A92E23070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12FE4-9443-4643-9B4C-65565733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359D5-C042-4CC1-BF35-9121D7FA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82EC1-5F26-4D81-A612-D18D5CB5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06FFF-B334-4829-ADC2-253D6E92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DDA5B-35AB-49F6-8FD0-3AAF765E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D846B-63F4-40BF-A294-36A024E1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60DF8-CE8B-463D-8DF1-F6C016F8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C3D62-F96D-43C8-BB1B-DF4D54F2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AED34-1A40-499B-957B-CAC50A44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1530A-7C6C-4615-8CD2-B362E439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36B0-9A0F-46F5-883E-55143282399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8D186-72BB-43AD-B8AB-0A441BCB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01F73-D5D7-4ECF-AD26-034EC272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CADA9-B690-40AE-9EE2-8900F123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CB6E7-9645-40B7-B145-DB58C8CF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CD337-439E-4233-8DA1-867A6CB5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EB3B6-8996-43D2-A072-DE370E4F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BA280-9512-45E5-A51A-4E85AD81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BAFA0-24C3-4906-A5CD-DE89B767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29EBD-2120-4AAF-BFB2-BEC3D625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F991C-D780-4879-80C5-AD503444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9305-1B12-41DD-8C21-928D0EE153E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47567-7B2A-4FEF-9E66-88F57AF2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94E94-988D-438A-994E-89742EEF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100A8-263D-4775-A517-6D18F137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4B06B-43BE-418C-AF6A-397351DA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EED30-C720-4DE3-BBC8-BC67F893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F669E-03A6-45D6-B439-2DA2D69E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68A74-5EF7-4A55-8C5A-C831922C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EBB70-02A1-47ED-A8EE-58527AC1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9B0A0-E955-4E1A-9D80-1C2041D0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08537-F4BC-4658-93D1-D45D0562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6CC0-BC03-4EE2-B9FE-EDEB8B666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0D71-F08F-45EC-A56E-CA2131F3415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F17AF-75A1-4416-B186-C3F8ED96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3F95D1-C37A-48AD-8BA2-A31531AB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49B59-F4BA-4EBC-BE41-A2965BB4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56D6A-A7E6-4BCC-9D6B-9744407C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3C169-3C8E-47F2-971A-B4F99FBB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AD53-392D-4CC0-96C0-428821B36C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13A10-5A63-4A16-8B13-88FF7070FD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7853-9F8E-4E4F-87C1-71C009EC0B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34B0-BFAE-4300-81B8-953EB6404A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436-2EA0-4E8E-BF08-FCF83CB60A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D71-8A08-4F43-94A0-28DC97133E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66E-48C1-4264-81BD-4FB3F6C84D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E53-6053-42C4-A495-123653CE7D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244-4C33-4258-86BA-99C6B023B9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E2FF-33E6-4155-AD3A-C645C0D223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6BE-E8B4-4D11-9FC0-6E307A36AA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00E-1AA7-47EC-86C3-9E454FD9A7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59F-8987-443E-9B02-F174FBE0D3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076-8793-4529-BF03-A020963085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C70-D1BE-407A-A5F9-2EB08193FA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5B4-6F3C-42C0-8938-5083E11A1A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470-2CD3-4BC2-A7BB-9209FE1409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162A-86A3-456E-9A69-27E977A6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82DD-571B-4F98-BDC1-08469EE7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502B-8D94-421F-B5CD-B38EFC4A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AE6D-C3F8-4F31-9BA4-2921827E71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D695-11E3-401F-8F46-ABC1B75F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9F81-242C-4BAD-A978-2C307E27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D181-F037-4BA3-B1AA-ECD3DDB6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0D2A-0870-4591-B315-2004C411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E2C1-1515-475D-A64D-DAA8A34B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60E3-51F2-4BD4-9CA4-3C696037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9F93-5AB9-4DE0-8E96-46309935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D357-7295-422A-B565-9776F828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E6D8-EB23-4501-8D7E-A48E4519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BA6C-E04C-4C85-AB24-C7C60E09A01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A12E-05EC-45A6-8232-8DE45851E01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93F2-AA22-4AE8-BE20-08E0E6614A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F124-5274-446B-952B-E47B9095B44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057E8-9593-4904-AEA5-C5731999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EFA68-6FA4-4491-BFFA-5704D98D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D3B67-D0B6-464F-802A-37A3214C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859BF-3C80-4C09-85BD-79AC7FC7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1EF24-A954-429C-AE91-48D13B2C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7277-9095-4C54-A850-284877E0BF5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C0FC7-D6CB-4C0A-AB97-C4FE5E35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F43B7-5E91-4B0D-826C-4801BF9A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BBD18-1584-44D3-B178-71B20354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ABA72-62B9-4400-B9F0-0A5C9416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827EE-83DE-4E6B-B8F1-E868C70D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B611A-C057-48F3-92CE-26C68677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9C50B-92B8-4316-A03C-03852BB9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10EE0-199B-473A-9494-FCBA5E2E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1FA2A-B738-401B-8BDA-74E4E0A2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634CD-A091-45F0-80CC-F00751A7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2CF0-DDC4-406A-9D71-37F7B208CF6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8EAE-0380-4E7D-9279-C087594BE3A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2231-2906-4254-BF5D-AC04EB26169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35E0-56A4-45AD-A9FF-C51CB36874B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731B-92F0-4FE3-A9D4-866EB85E79D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0240-23C3-430C-BE2B-8EF460370FE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39AE-FDB6-4DC5-9852-9A4E96DD555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B60B-9E38-4819-87CA-EA3FE8E5CC7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99D8-D894-4A76-9598-429A150B289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F523-A101-437C-9B68-B3F228F889E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7DB6-6321-4703-8956-8AC57A72A7DB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6B60-DDA6-45FF-BA0F-915B065440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B02A-E173-45DC-9E2A-95CF9519E40F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donderdag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8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F433-D5DC-433D-990E-96CD14BFE361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donderdag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FA1E-F242-4085-9190-C9B116E11922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donderdag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881A-9E92-49B0-AC6A-DBFF14521C43}" type="datetime2">
              <a:rPr b="0" lang="nl-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donderdag 30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5DFF-3690-468D-B183-7B746A0DCE4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4968-3DA6-4337-8203-93A7968463B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835280" y="1125000"/>
            <a:ext cx="57276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nl-NL" sz="6000" spc="-1" strike="noStrike">
                <a:solidFill>
                  <a:srgbClr val="000000"/>
                </a:solidFill>
                <a:latin typeface="Arial"/>
                <a:ea typeface="Arial"/>
              </a:rPr>
              <a:t>Thema 3</a:t>
            </a:r>
            <a:br>
              <a:rPr sz="5900"/>
            </a:br>
            <a:r>
              <a:rPr b="0" lang="nl-NL" sz="5900" spc="-1" strike="noStrike">
                <a:solidFill>
                  <a:srgbClr val="000000"/>
                </a:solidFill>
                <a:latin typeface="Arial"/>
                <a:ea typeface="Arial"/>
              </a:rPr>
              <a:t>Voeding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V21-31-4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N. Wolfs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N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K. Van Gorp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K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behoe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drinkt +/- 10% van het lichaamsgewicht op een d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drinkt 2,5x zoveel als het 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488B-E2C3-49AB-9B3E-F372D0B3C98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Afbeelding 4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73058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behoe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934560" y="981000"/>
            <a:ext cx="6634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inkbak vs. Drinknip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ordelen?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del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36EF-DFD7-4AE9-B151-0E9E73D9127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Afbeelding 4" descr=""/>
          <p:cNvPicPr/>
          <p:nvPr/>
        </p:nvPicPr>
        <p:blipFill>
          <a:blip r:embed="rId1"/>
          <a:stretch/>
        </p:blipFill>
        <p:spPr>
          <a:xfrm>
            <a:off x="2832120" y="1454040"/>
            <a:ext cx="6324480" cy="2853000"/>
          </a:xfrm>
          <a:prstGeom prst="rect">
            <a:avLst/>
          </a:prstGeom>
          <a:ln w="0">
            <a:noFill/>
          </a:ln>
        </p:spPr>
      </p:pic>
      <p:pic>
        <p:nvPicPr>
          <p:cNvPr id="764" name="Afbeelding 5" descr=""/>
          <p:cNvPicPr/>
          <p:nvPr/>
        </p:nvPicPr>
        <p:blipFill>
          <a:blip r:embed="rId2"/>
          <a:stretch/>
        </p:blipFill>
        <p:spPr>
          <a:xfrm>
            <a:off x="565200" y="4398840"/>
            <a:ext cx="2133720" cy="2184480"/>
          </a:xfrm>
          <a:prstGeom prst="rect">
            <a:avLst/>
          </a:prstGeom>
          <a:ln w="0">
            <a:noFill/>
          </a:ln>
        </p:spPr>
      </p:pic>
      <p:pic>
        <p:nvPicPr>
          <p:cNvPr id="765" name="Afbeelding 6" descr=""/>
          <p:cNvPicPr/>
          <p:nvPr/>
        </p:nvPicPr>
        <p:blipFill>
          <a:blip r:embed="rId3"/>
          <a:stretch/>
        </p:blipFill>
        <p:spPr>
          <a:xfrm>
            <a:off x="3030480" y="4400640"/>
            <a:ext cx="23083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amenstelling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23560" y="90756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orbeeld:</a:t>
            </a:r>
            <a:br>
              <a:rPr sz="2800"/>
            </a:b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brijvoer zit veel water en weinig droge stof. (In verhouding 23% droge stof)</a:t>
            </a: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… varken drinkt 2,5x zoveel als eten.. Du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B542-2782-48DE-B142-9A489CB190C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Afbeelding 4" descr=""/>
          <p:cNvPicPr/>
          <p:nvPr/>
        </p:nvPicPr>
        <p:blipFill>
          <a:blip r:embed="rId1"/>
          <a:stretch/>
        </p:blipFill>
        <p:spPr>
          <a:xfrm>
            <a:off x="3708360" y="3206880"/>
            <a:ext cx="4383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dermid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46800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cht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uikers, eiwitten, zetmeel, mineral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chtrijke voeder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&lt;85% DS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enkelvoudig voer = 1 produc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mengvoer = samengesteld in fabriek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remix + melasse + grondstoff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brok/voe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rij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 + voedermiddel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‘voedermiddelen’ zoal; mengvoer, maar ook humane consumptie resten;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aaswei, bierborstel, aardappelstoomschill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CA1E-E0E4-4E2C-BE2E-34312C76D5F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tation met individuele dierherke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oogvoerbak met onbeperkte voe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ange troggen voor droogvoer of brijvo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5B0F-B651-4608-A39C-619408F906E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714240" y="836640"/>
            <a:ext cx="771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ugen worden opgesloten tijdens e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De gehele groep krijgt dezelfde voergi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ugen met aantal worpen, drachtigheidsstadium en conditie bij elkaar zetten. 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deel: Individueel controle en voeren mogelij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deel: weinig gelegenheid tot vertonen van natuurlijk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B757-16CA-4EED-81A5-C0380E7ABA3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Afbeelding 5" descr="Afbeelding met binnen, metaal, staand, gebouw&#10;&#10;Automatisch gegenereerde beschrijving"/>
          <p:cNvPicPr/>
          <p:nvPr/>
        </p:nvPicPr>
        <p:blipFill>
          <a:blip r:embed="rId1"/>
          <a:stretch/>
        </p:blipFill>
        <p:spPr>
          <a:xfrm>
            <a:off x="4140360" y="4043520"/>
            <a:ext cx="39686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187280" y="119700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tation met individuele dierherke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ransponder om dier te identificer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ysteem herkent transponder en geeft de juiste hoeveelheid voeding per zeug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Zeugen eten na elkaar, niet tegelij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826A-5A43-47A1-912D-B5802F05BD2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Afbeelding 5" descr="Afbeelding met binnen, hond, dier, zoogdier&#10;&#10;Automatisch gegenereerde beschrijving"/>
          <p:cNvPicPr/>
          <p:nvPr/>
        </p:nvPicPr>
        <p:blipFill>
          <a:blip r:embed="rId1"/>
          <a:srcRect l="8262" t="12191" r="21653" b="0"/>
          <a:stretch/>
        </p:blipFill>
        <p:spPr>
          <a:xfrm>
            <a:off x="3924360" y="3648240"/>
            <a:ext cx="4257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116000" y="120348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oogvoerbak met onbeperkte voederin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beperkt voeren (ad-libitum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beperkt gepalleteerd vo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D797-5223-48B6-83B7-62499B204B5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Afbeelding 5" descr="Afbeelding met dier, binnen, zwijn, schapen&#10;&#10;Automatisch gegenereerde beschrijving"/>
          <p:cNvPicPr/>
          <p:nvPr/>
        </p:nvPicPr>
        <p:blipFill>
          <a:blip r:embed="rId1"/>
          <a:stretch/>
        </p:blipFill>
        <p:spPr>
          <a:xfrm>
            <a:off x="2692440" y="2997360"/>
            <a:ext cx="52196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ange troggen voor droogvoer of brij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Zeugen/varkens eten tegelijkertijd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Beperkt 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tabiele productiegroepen noodzakelij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4154-E81D-48CF-89F6-74B959FC621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Afbeelding 5" descr="Afbeelding met binnen, bed, zitten, gebouw&#10;&#10;Automatisch gegenereerde beschrijving"/>
          <p:cNvPicPr/>
          <p:nvPr/>
        </p:nvPicPr>
        <p:blipFill>
          <a:blip r:embed="rId1"/>
          <a:stretch/>
        </p:blipFill>
        <p:spPr>
          <a:xfrm>
            <a:off x="79200" y="3502080"/>
            <a:ext cx="3780000" cy="2620800"/>
          </a:xfrm>
          <a:prstGeom prst="rect">
            <a:avLst/>
          </a:prstGeom>
          <a:ln w="0">
            <a:noFill/>
          </a:ln>
        </p:spPr>
      </p:pic>
      <p:pic>
        <p:nvPicPr>
          <p:cNvPr id="792" name="Afbeelding 7" descr="Afbeelding met binnen, gebouw, bruin, klein&#10;&#10;Automatisch gegenereerde beschrijving"/>
          <p:cNvPicPr/>
          <p:nvPr/>
        </p:nvPicPr>
        <p:blipFill>
          <a:blip r:embed="rId2"/>
          <a:stretch/>
        </p:blipFill>
        <p:spPr>
          <a:xfrm>
            <a:off x="4140360" y="3495600"/>
            <a:ext cx="47559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pfokzeugen en b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u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ig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B331-9B76-44EC-A43E-6DF76222946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053800" y="369720"/>
            <a:ext cx="66452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ho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619280" y="1420920"/>
            <a:ext cx="6634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Spijsverteringsste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er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M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Samenstelling vo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Waterbehoef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dermidd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rsyste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ren per dier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1240" indent="-34128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626A-DBC3-4B4B-929B-CB751EC7A415}" type="slidenum">
              <a:rPr b="0" lang="nl-NL" sz="1100" spc="-1" strike="noStrike">
                <a:solidFill>
                  <a:srgbClr val="57585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-368280" y="6546960"/>
            <a:ext cx="8748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EACD-4BDF-411D-9EE8-58BF3BE0A46F}" type="slidenum">
              <a:rPr b="0" lang="nl-NL" sz="1100" spc="-1" strike="noStrike">
                <a:solidFill>
                  <a:srgbClr val="57585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642960" y="214200"/>
            <a:ext cx="6400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979280" y="231480"/>
            <a:ext cx="6645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611280" y="843120"/>
            <a:ext cx="7354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fokzeug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oel: sterk dier neerzetten d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timale voortplantingsresultat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haald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240/260 dagen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dekrijp &amp; 120 kg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Letten op vervetting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Opfokzeugenvoer (vanaf 20 kg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Specifiek gelten opfokvoer (vanaf 40 kg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(eiwitbehoefte gelt &lt; vleesvarken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70 – 110 kg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opfokvoe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&gt;110 kg drachtvoer</a:t>
            </a:r>
            <a:br>
              <a:rPr sz="2200"/>
            </a:b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Opfokvoer, of combi van dracht&amp;lacto voer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Extra zink: i.v.m. uitscheiden sperma. </a:t>
            </a: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s drachtvoer als beer volledig volgroeid is!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19D3-0BF9-463E-A2AA-B26E8E9B412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Afbeelding 5" descr="Afbeelding met dier, binnen, zoogdier, bruin&#10;&#10;Automatisch gegenereerde beschrijving"/>
          <p:cNvPicPr/>
          <p:nvPr/>
        </p:nvPicPr>
        <p:blipFill>
          <a:blip r:embed="rId1"/>
          <a:stretch/>
        </p:blipFill>
        <p:spPr>
          <a:xfrm>
            <a:off x="6302520" y="3789360"/>
            <a:ext cx="2806560" cy="1663560"/>
          </a:xfrm>
          <a:prstGeom prst="rect">
            <a:avLst/>
          </a:prstGeom>
          <a:ln w="0">
            <a:noFill/>
          </a:ln>
        </p:spPr>
      </p:pic>
      <p:pic>
        <p:nvPicPr>
          <p:cNvPr id="800" name="Afbeelding 7" descr="Afbeelding met zwijn, dier, gras, zoogdier&#10;&#10;Automatisch gegenereerde beschrijving"/>
          <p:cNvPicPr/>
          <p:nvPr/>
        </p:nvPicPr>
        <p:blipFill>
          <a:blip r:embed="rId2"/>
          <a:stretch/>
        </p:blipFill>
        <p:spPr>
          <a:xfrm>
            <a:off x="5302080" y="878040"/>
            <a:ext cx="34927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826560" y="1197000"/>
            <a:ext cx="7859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ug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oel: gezonde, sterke, goed producerende zeugen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derhoudsbehoefte afhankelijk van gewicht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Extra voedingsstoffen en eiwitten bij dracht en lactatie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Insemineren tot werp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dracht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ijdens het zo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lacto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Guste zeug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bronstvoer, lacto, biggen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(koolhydraten), dextros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icellen + aantal cellen stijgt. (flush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1979-DFCB-47CD-9BA4-9B077CD6936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Afbeelding 4" descr=""/>
          <p:cNvPicPr/>
          <p:nvPr/>
        </p:nvPicPr>
        <p:blipFill>
          <a:blip r:embed="rId1"/>
          <a:stretch/>
        </p:blipFill>
        <p:spPr>
          <a:xfrm>
            <a:off x="2771640" y="2382840"/>
            <a:ext cx="5688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636120" y="974880"/>
            <a:ext cx="5040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g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iest (36 uur) en mel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Overgang vezels en vast voer (maag-darmstelsel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ij +/- 2 weken leef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melkkorrel / kruim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enkele dagen voor spe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biggenkorr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na spenen (28 dagen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biggenvoer (droog of brijvo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8183-F222-40BA-8BB9-68439B10A1A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Afbeelding 6" descr="Afbeelding met binnen, bed, neerleggen, hond&#10;&#10;Automatisch gegenereerde beschrijving"/>
          <p:cNvPicPr/>
          <p:nvPr/>
        </p:nvPicPr>
        <p:blipFill>
          <a:blip r:embed="rId1"/>
          <a:stretch/>
        </p:blipFill>
        <p:spPr>
          <a:xfrm>
            <a:off x="5219640" y="1052640"/>
            <a:ext cx="3741840" cy="2446200"/>
          </a:xfrm>
          <a:prstGeom prst="rect">
            <a:avLst/>
          </a:prstGeom>
          <a:ln w="0">
            <a:noFill/>
          </a:ln>
        </p:spPr>
      </p:pic>
      <p:pic>
        <p:nvPicPr>
          <p:cNvPr id="809" name="Afbeelding 8" descr="Afbeelding met frietjes, fruit, noot, zitten&#10;&#10;Automatisch gegenereerde beschrijving"/>
          <p:cNvPicPr/>
          <p:nvPr/>
        </p:nvPicPr>
        <p:blipFill>
          <a:blip r:embed="rId2"/>
          <a:stretch/>
        </p:blipFill>
        <p:spPr>
          <a:xfrm>
            <a:off x="4475160" y="4792680"/>
            <a:ext cx="2736720" cy="1817640"/>
          </a:xfrm>
          <a:prstGeom prst="rect">
            <a:avLst/>
          </a:prstGeom>
          <a:ln w="0">
            <a:noFill/>
          </a:ln>
        </p:spPr>
      </p:pic>
      <p:pic>
        <p:nvPicPr>
          <p:cNvPr id="810" name="Afbeelding 10" descr="Afbeelding met hond, binnen, tafel, gebouw&#10;&#10;Automatisch gegenereerde beschrijving"/>
          <p:cNvPicPr/>
          <p:nvPr/>
        </p:nvPicPr>
        <p:blipFill>
          <a:blip r:embed="rId3"/>
          <a:srcRect l="19762" t="17497" r="19762" b="11235"/>
          <a:stretch/>
        </p:blipFill>
        <p:spPr>
          <a:xfrm>
            <a:off x="1187280" y="4792680"/>
            <a:ext cx="2737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24000" y="1052640"/>
            <a:ext cx="6634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pieren en vleesaanze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iwitt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nelle groei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Voederconversie belangrijk! (VC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Let op vervetten!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Kleur: biggen eten eerder uit een opvallende bak!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roglengte van 35 cm per varken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Meerfasen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Borg zit sneller aan VC dan g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80BF-B5A9-4765-BC79-E7B398E559B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Afbeelding 4" descr=""/>
          <p:cNvPicPr/>
          <p:nvPr/>
        </p:nvPicPr>
        <p:blipFill>
          <a:blip r:embed="rId1"/>
          <a:stretch/>
        </p:blipFill>
        <p:spPr>
          <a:xfrm>
            <a:off x="2705040" y="981000"/>
            <a:ext cx="61149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stel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826560" y="213372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-darm stel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70FA-7046-4926-A3AF-3BD3DFC5D66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Afbeelding 4" descr=""/>
          <p:cNvPicPr/>
          <p:nvPr/>
        </p:nvPicPr>
        <p:blipFill>
          <a:blip r:embed="rId1"/>
          <a:stretch/>
        </p:blipFill>
        <p:spPr>
          <a:xfrm>
            <a:off x="4622760" y="1111320"/>
            <a:ext cx="4172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983880" y="142668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ond en wroetschijf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roetschijf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kraakbe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aarnaast een goed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reukorgaa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ondholt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eeksel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nzym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mylas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lwassen gebit: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44 tanden en kieze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7BFF-EAC7-4640-BD63-D96687D7A4E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Afbeelding 4" descr=""/>
          <p:cNvPicPr/>
          <p:nvPr/>
        </p:nvPicPr>
        <p:blipFill>
          <a:blip r:embed="rId1"/>
          <a:stretch/>
        </p:blipFill>
        <p:spPr>
          <a:xfrm>
            <a:off x="5580000" y="1281240"/>
            <a:ext cx="2884680" cy="2147760"/>
          </a:xfrm>
          <a:prstGeom prst="rect">
            <a:avLst/>
          </a:prstGeom>
          <a:ln w="0">
            <a:noFill/>
          </a:ln>
        </p:spPr>
      </p:pic>
      <p:pic>
        <p:nvPicPr>
          <p:cNvPr id="733" name="Afbeelding 5" descr=""/>
          <p:cNvPicPr/>
          <p:nvPr/>
        </p:nvPicPr>
        <p:blipFill>
          <a:blip r:embed="rId2"/>
          <a:stretch/>
        </p:blipFill>
        <p:spPr>
          <a:xfrm>
            <a:off x="5729400" y="4049640"/>
            <a:ext cx="29574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lokdarm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70 cm lan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staltische bewegingen en slijmprodu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5 à 8 liter inhoud,   maagsapklieren,  zoutzuur (HCL)  pH = 2 à 3</a:t>
            </a: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psin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splitsing eiw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uur doodt bacterië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ress verstoort slijmproducti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maagzwer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ruwvoer gev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E12B-2599-4F8D-948E-F51E6A306A7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098720" y="992160"/>
            <a:ext cx="75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nn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rokken voedsel afgebroken tot voedingsstoffen. Darmwand laat voedingsstoffen door naar het lichaam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12 vingerige darm (60 cm)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erdere enzymen en galsappen komen samen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dunne darm (18 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kk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linde darm (4 meter)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absorptie wat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werking darmbacterië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fermenta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zels erg belangrijk!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endeldarm, laatste stuk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vorming mest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7F2C-8552-464E-B6E0-FAD66F1D11F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250560" y="1203480"/>
            <a:ext cx="5329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= geen herkauw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us… moeite met ruwe celstof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 wordt bewerkt (ontsluiten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…. bij veel vezel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fermentatie in de dikke dar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Ruwvoer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gaat langzaam door darm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verzadigd gevoel + verhoogt weerstan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7648-84E7-429E-8AB5-B0C46990875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Afbeelding 4" descr=""/>
          <p:cNvPicPr/>
          <p:nvPr/>
        </p:nvPicPr>
        <p:blipFill>
          <a:blip r:embed="rId1"/>
          <a:stretch/>
        </p:blipFill>
        <p:spPr>
          <a:xfrm>
            <a:off x="5614920" y="3462480"/>
            <a:ext cx="315612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 zie je aan de mest?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rantsoen goed afgestemd, ja of ne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0AE1-2359-449D-BD7D-C244133CA3E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Afbeelding 4" descr=""/>
          <p:cNvPicPr/>
          <p:nvPr/>
        </p:nvPicPr>
        <p:blipFill>
          <a:blip r:embed="rId1"/>
          <a:stretch/>
        </p:blipFill>
        <p:spPr>
          <a:xfrm>
            <a:off x="3995640" y="2346480"/>
            <a:ext cx="4349880" cy="3314520"/>
          </a:xfrm>
          <a:prstGeom prst="rect">
            <a:avLst/>
          </a:prstGeom>
          <a:ln w="0">
            <a:noFill/>
          </a:ln>
        </p:spPr>
      </p:pic>
      <p:cxnSp>
        <p:nvCxnSpPr>
          <p:cNvPr id="748" name="Rechte verbindingslijn met pijl 6"/>
          <p:cNvCxnSpPr/>
          <p:nvPr/>
        </p:nvCxnSpPr>
        <p:spPr>
          <a:xfrm>
            <a:off x="2484000" y="2707920"/>
            <a:ext cx="2375280" cy="289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49" name="Rechte verbindingslijn met pijl 7"/>
          <p:cNvCxnSpPr/>
          <p:nvPr/>
        </p:nvCxnSpPr>
        <p:spPr>
          <a:xfrm flipV="1">
            <a:off x="2626920" y="4841280"/>
            <a:ext cx="2313720" cy="1035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750" name="Tekstvak 9"/>
          <p:cNvSpPr/>
          <p:nvPr/>
        </p:nvSpPr>
        <p:spPr>
          <a:xfrm>
            <a:off x="539640" y="2421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meüi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kelijk in te drukk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limm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kstvak 10"/>
          <p:cNvSpPr/>
          <p:nvPr/>
        </p:nvSpPr>
        <p:spPr>
          <a:xfrm>
            <a:off x="792000" y="531972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eft langer in de darm gez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amenstelling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6800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eende-analys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fracties diervoeder analys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C9CF-EBE6-40CB-A89B-5C9E0EFEFBC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Afbeelding 5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679896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09:58:02Z</dcterms:created>
  <dc:creator>Martin Drenth</dc:creator>
  <dc:description/>
  <dc:language>en-US</dc:language>
  <cp:lastModifiedBy>Kelly van Gorp</cp:lastModifiedBy>
  <dcterms:modified xsi:type="dcterms:W3CDTF">2019-11-07T19:16:51Z</dcterms:modified>
  <cp:revision>137</cp:revision>
  <dc:subject/>
  <dc:title>Gebruik van Powerpoint sjablonen</dc:title>
</cp:coreProperties>
</file>