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26.wmf" ContentType="image/x-wmf"/>
  <Override PartName="/ppt/media/image1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17.png" ContentType="image/png"/>
  <Override PartName="/ppt/media/image14.png" ContentType="image/png"/>
  <Override PartName="/ppt/media/image24.png" ContentType="image/png"/>
  <Override PartName="/ppt/media/image1.png" ContentType="image/png"/>
  <Override PartName="/ppt/media/image3.png" ContentType="image/png"/>
  <Override PartName="/ppt/media/image4.jpeg" ContentType="image/jpeg"/>
  <Override PartName="/ppt/media/image2.png" ContentType="image/png"/>
  <Override PartName="/ppt/media/image25.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151A-B57F-44B1-A448-B190D78ED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0701-061C-4F22-AE87-CF36C02F7C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9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BE73-3103-47D9-88F8-EF4DC09BD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9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EA5F-350A-4603-9F3C-5E5C35FC8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9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72DB-9505-45AB-B9A3-861450BA2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9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D304-8712-4796-9561-E96B3BD54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0A7C-71FB-4ACF-B567-7CE6B01C2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109A-E9C9-4850-BA3E-223431421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7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8710-9F82-43D4-8020-7CA368067127}"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7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7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D425-098A-4B98-9998-ED04205CC6E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DC56-6858-4705-80BB-689034E2F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F1B3-1ECC-49A1-9C3B-AB69AFBD8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9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4AB8-2141-49F7-9020-49DC985BD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ABA0-877F-481D-9C74-2051FF6832DE}"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8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EBD7-E0F0-45DF-BA83-B1F14691E8F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5DD2-DE63-45E2-A8F3-8781EE376AE7}"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8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6BE0-24C2-4243-B0F1-226CC62D4C5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6DFC-9861-4A3D-A77D-D3B6F7A9D2CB}"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9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9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71A3-4DB6-4E1C-9384-C5670C1C4EC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8228-A17D-4922-96DA-DC241F8CCBE8}"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9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E76D-832B-4C0B-8730-ED7120059A3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90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90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282E-A1B4-4A69-BBBA-EC578C04E75D}"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90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2310-AAA3-4ADB-B237-30DE6D46820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826D7-501C-4955-9A0F-AB548AAD69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076F69-A082-40CA-9070-180CFC10F40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C3FC6-9D07-4A63-800C-393A07810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B0FB40-0C01-421D-9D78-74E880C96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9D1D6-309D-454B-A32C-1F7BADBE8C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B6EF5-08E9-47DA-A1E9-F0FF39E11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633B09-7539-44D2-A663-249ADB1DA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19594-DEF9-4FDC-A183-064306EF2D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7A35B-1064-4365-A3F8-3A4A11634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AECB82-1FF4-4913-B9D2-E69AE3686A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5D1083-4C97-4936-AA1F-59AF399D91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73CF80-2990-4DA6-8296-73F81AB7E5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FB90321-A19D-4AB6-B450-35958FDDA2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59C3B-A19C-42DF-9053-F159FF8BFF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2041D9-60D5-4F6A-8E27-530EE3887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42664E-1EA3-4480-88B9-2CED710AB5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18FF8-4889-40B5-8546-6E8AA3817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0314FE-6E8A-416C-806C-1B049EF83B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EFB4B-12D7-4D35-AE64-4BAC4CCB6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D95CA-BEFF-4AB6-BACE-23AE984F73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96B02-FEF4-4C5A-8D05-A0E92F7F0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FE9509-978A-4DCD-9E8A-BFBA0181E3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36E4EC-1C21-4CF8-85DC-22DE9322EA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7E1BB1C-D6AF-4FEA-9943-931681F086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168CDF-F15E-45B3-99FF-58CB728878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6CA85F-7E98-44C6-BE36-1865361D6D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C1BE0A-2F92-4AB9-B823-E88A1E9C31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3D67BF-D1CF-4BDC-84DF-A9D850B23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F1608-F23E-40AE-957C-999CF23C6B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180809-44EB-46A9-BA86-3948D6D36A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7D58E-8AF3-44B2-B6AA-695131541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58781B-3C70-4274-BF2F-C8A2A0571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F1A097-0114-4F4B-97D1-3F161DB6A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6135E-83B9-4B30-9D0E-658F60021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327086-11DC-4915-9020-A8A28BE8BD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1B61B9-4CCE-42BC-8702-ACD52B6F4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656DFA-1B78-43AA-868E-51B58253BF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DABF2D-6ECD-4AF5-8A28-3DAD9C961E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AF5627-E8CF-4D41-AF35-D4557933E3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A8803-A8A1-47E5-A471-050455C7AE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A9BC67-E9A1-462C-98B5-166190714C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A24E0E-798D-4C64-A233-7D2F0BBC5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9A4C30-67B0-41A1-AD85-5528B893C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4C335-D259-4AAF-8A5F-4644BDF89C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924A3-E183-4ABF-B689-400FD4A9A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54ACE59-B183-4A0E-9E9A-632C99038E1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A54BBC-7BBE-4F5D-8851-F2FF23ED7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71C33-EAA8-470C-A8D9-780CC06D80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D1F84D-60CB-4599-BC01-C4C65F489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379A33-5AD3-4BE8-A659-DF50D6C3D4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CA2B9A-3974-4A93-8764-37A5F355F2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05BD80-EF80-448A-B981-9FF9A59E51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448112-9279-403E-BD57-7CFE302A6E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02302E-E167-4E6E-99AD-0433DF3FC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CAC411-CE74-4657-8C1D-A04D143763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D4B21-A42E-491E-98E7-FB8D04779B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0BC774B-91C4-4360-8705-B3719D1C4D1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68C5DD-E0CF-4CCD-9C5F-0283CAB52D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D177E9-8D38-499D-86AA-BF59A3B5D5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189A4-2E65-4FC5-B27A-170545761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8257CE-234B-40EF-9567-A9E667D9B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8ED6D7-C308-4367-98BC-81251AB4A3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B487DE-26BE-4361-A47F-FA487A4A08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C5E549-97E2-4F0B-AE65-AC78ADFAB9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6F58DE-E473-4579-87E8-DA8A5D4918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1BDFF7-D4D4-4C68-B503-44194CABA5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1DB96C-A430-486F-B1A2-5C60B5D83F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E54B9F-5512-4D4A-B363-32D62B0AA2C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7CB3CA-3351-4E8F-A706-AA8A1713C1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9B0DD4-9251-4027-B80D-8BA6EFD5A1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FFAA02-2072-4BA8-A291-71B36DA2AE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48B861-4644-4DD7-A75B-B5D703F328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F6A960-AC20-4261-A07B-5E149AFE7A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AF1D41-E489-4965-98F6-B8AA2D059B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DBE069-88B3-4DC8-AF81-6E786439D2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08BB40-034A-4CB0-8B1E-1B9D0F20D7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BE0D89-9C61-406B-B5B6-35861E0E56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00E404-20B2-48B5-A292-073510AE2F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0F6A7B0-F878-4D7C-95B7-4E02E18714C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124F4F-1167-4B76-AA30-B13C12F7B2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328702-C616-490D-AF89-FC940D833C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9AD942-7C24-48B6-8942-20DA4D65F4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3EE784-B540-4EA5-9805-6E9D3ED7F1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23A1B6-61D7-43A5-90B5-AA691641CA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A14870-9ECE-4E1F-833A-C902598CC3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DC6DDE-D3A2-49CA-B039-8D9284F783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2A6F84-7DC9-4477-9722-4D946248DC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9ECAA6-9B11-42A7-96E3-E6699FA75A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6D0031-A035-4DD4-8362-D74C710439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EABF454-CC9E-473E-BC9C-DA7D325B648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B17D97-14E7-41FD-8FCA-D06C392946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66EC98-10A4-4872-ACA2-4C98247F4B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1D9132-6523-4821-BC9E-6DF1FDF9A9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5E6693-DD55-4C3C-B74D-E64AB6AE5D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F35E3F-3D21-4C6C-A555-A25DD266F4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993015-78C5-4E62-9658-129FD34A80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6C6196-1053-46F1-9AD9-D612EAFB7A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28B637-A933-4A3F-B3C2-C724F42AAF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4AA48D-E52C-4DA3-B2E4-9EA06AD6AB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4279D2-E3E3-42C7-B05D-4A494AD903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0271967-80F6-484E-AB64-3A2A5D23AEC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2D59F2-3F0F-42FD-9C31-634D73C86B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0D5863-AB89-4D96-BB63-2EE38EABB6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15FF85-5AA9-459E-AC1C-77507774942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C635627-7D0C-46FE-A96B-CE33122C1E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7985CD-164A-4CC8-8F42-4CEC3CA946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DF79A1-A069-48E2-BF59-1542699869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2DA241-CD74-423B-875F-C0047E6297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942C09-BE11-4342-959E-81B68FB06B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CF180F-EBE4-4814-8654-0AA0601629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B5506A-18FB-4E89-9CE5-8914931723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7B485EF-A129-48D6-8378-C9827FCEED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1FC156-4ED1-42A8-B0D6-B56F8532355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C60BDA-0D11-45BE-9CE1-8D51B9BBEA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259577-E238-4F02-BCD4-B4309BACAA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AAEFE7-337F-40A1-9B17-C5D946212A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BDC54C-2A88-4585-A6FC-0DCF0912074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CF0CEF-DC95-42F6-A6A4-31909CFAB3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9E2DEA-F95A-465B-9894-BC4CAF75E6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6C665B2-4043-4339-B8E0-80D0C26455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D550DD3-35BA-40EB-8BF9-EAE72E0EE2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C7F76D9-2B76-46BB-AC11-EE234F089F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5479E3-1FB5-4C33-8470-1EC0533031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755E8B2-F3D9-49EB-B2CA-91B9C0A673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582BD83-ED43-4819-95EE-E16D36CBF9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5D26145-8447-4103-BE5F-412C0F5942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F525492-CC25-414F-BB91-DE285822FC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9FF9DA2-98DA-40C7-B0D1-B48AF46FC8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46A4377-E4C1-41D3-9054-F2CAAA4202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7C48D0-2A19-484B-9641-B947705830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3C21290-4C62-4D56-BBB5-66DFB0DDD0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76D00A-61FD-4F10-BB04-521CC80C2C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A15C719-39B9-44F0-B49E-5E20DD283E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ECE9B9F-771A-4264-A696-2FA07ABE0A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BF054CE-BE1D-4BB7-B868-30DB6D7925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B8D43-4944-4B8C-AEDA-853C4EB42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38EF2-836E-4064-99F8-2E4FA88EF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1CC06-1E4E-404D-8C96-812C9D5FD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79BF513-A568-4755-8B60-77CD0E0B209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32E14-FF11-499D-AF3F-C3A4E92DC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05960-E84B-4F4D-A40F-083AC8DDA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8327C-9487-457A-A328-2D303B0F3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83771-9188-4FCC-91DF-0753A5032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D5596-9BE2-453C-900C-85F7924C9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9E9E9-E3A8-407B-91B1-CACBBFCEE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8CE5C-4DF8-4477-A282-68A292101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2F81D-D630-474A-9906-0016A7C0C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902B2-34B2-4ECA-89A2-B03ADD5E0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956D7AE6-D168-4B0D-A26D-55ED5F3482C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FAB7CD3-7F37-437E-8D93-CC02FEDE9D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9DDEA7-1F6E-49C4-A690-BC1BF434C5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E335DE-D082-4084-A942-10EE7F2B96E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62B206-F1CC-4F45-97EE-7ED1B168F1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A17C3-CC47-4A62-828A-465163BF7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E878A-224D-4BF3-A537-D78EB14FC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7CD09-65F3-4E22-9F18-F610E5B7D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09520-1F67-465C-85F7-436560182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5BECAE-9A96-4762-9BA9-F2DB74DB0C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F236A-6366-4EC2-BAAB-4DB6408D9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1C950-265D-4334-A231-88209DD33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966EB-EC29-4472-81E8-630EF6FF4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B37D6-B76C-4958-81A2-90A45EB78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AEC5F-74A5-4F50-9EFE-80ADCC444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47DB90-3012-4092-AF09-640C251B39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4E551B-AE83-448C-A532-72382E93A0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F9A2C-F59A-4683-9CB4-7550A97674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2A2A9-49A3-4F15-9C44-9FA55754A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B3084C-8605-452E-96B0-6D059DAB9508}"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6EAA-6C29-4D44-9200-44C73E5C17A4}"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CE7F-573B-4BBA-A7E4-BFFB57FB036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9A00-B2AC-49A9-8A46-40AD711F2B8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5F20-E0F7-45CD-B202-87EDE8D61BA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AD0B-0E17-40EA-B34A-57230C19935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1695-4E93-41BA-BF44-49B4760361D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25BC-5754-40F2-AF6A-57806278FDB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4321-3D0A-4274-928F-51D744823B7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C30C-2471-4F53-A241-BA526F06BC9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D005-8682-4C4F-AD83-DEEF84E6ADCC}"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56B0-17FF-42FF-9D05-76004C30DDD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B970-0130-4123-AD0D-24AC797AB2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93AF-CA51-4ADA-8C56-8D249C126AD5}"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F3D6-9D97-4240-AD22-4554B5AD2F53}"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68D7-D51F-4E6D-AF31-636216D3FB23}"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4A07-4436-4550-8F9E-696058591B1E}"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A3B4-2864-4C51-96EA-10D65D8E3D4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6229-EAE0-4ECE-AEBD-2CB127E148F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padlet.com/kvangorp/svgtuv6ag9og7jvk"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66" name="Tijdelijke aanduiding voor inhoud 4" descr=""/>
          <p:cNvPicPr/>
          <p:nvPr/>
        </p:nvPicPr>
        <p:blipFill>
          <a:blip r:embed="rId1"/>
          <a:stretch/>
        </p:blipFill>
        <p:spPr>
          <a:xfrm>
            <a:off x="900000" y="1220760"/>
            <a:ext cx="7344000" cy="3957840"/>
          </a:xfrm>
          <a:prstGeom prst="rect">
            <a:avLst/>
          </a:prstGeom>
          <a:ln w="0">
            <a:noFill/>
          </a:ln>
        </p:spPr>
      </p:pic>
      <p:sp>
        <p:nvSpPr>
          <p:cNvPr id="76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1B81-F505-4742-9F61-BBF85ACB0B8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8"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102C-2D0D-4225-97F0-E26720AA9CA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21F0-70B0-4A12-8EAD-91EE471C39E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4"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75"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5545-30D1-4B8A-9E22-46A080E50C8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8"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9"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F2FE-D021-428D-A6D0-E9B4EA9D689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2"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83"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70C6-BE5E-4AA9-A693-EBA83DA4A8C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6"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7" name="Afbeelding 4" descr=""/>
          <p:cNvPicPr/>
          <p:nvPr/>
        </p:nvPicPr>
        <p:blipFill>
          <a:blip r:embed="rId1"/>
          <a:stretch/>
        </p:blipFill>
        <p:spPr>
          <a:xfrm>
            <a:off x="658800" y="1989000"/>
            <a:ext cx="8028000" cy="4030920"/>
          </a:xfrm>
          <a:prstGeom prst="rect">
            <a:avLst/>
          </a:prstGeom>
          <a:ln w="0">
            <a:noFill/>
          </a:ln>
        </p:spPr>
      </p:pic>
      <p:sp>
        <p:nvSpPr>
          <p:cNvPr id="788"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9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731C-4F17-4A73-96A8-0DB969723C4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1"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92" name="Afbeelding 4" descr=""/>
          <p:cNvPicPr/>
          <p:nvPr/>
        </p:nvPicPr>
        <p:blipFill>
          <a:blip r:embed="rId1"/>
          <a:stretch/>
        </p:blipFill>
        <p:spPr>
          <a:xfrm>
            <a:off x="658800" y="1989000"/>
            <a:ext cx="8028000" cy="4030920"/>
          </a:xfrm>
          <a:prstGeom prst="rect">
            <a:avLst/>
          </a:prstGeom>
          <a:ln w="0">
            <a:noFill/>
          </a:ln>
        </p:spPr>
      </p:pic>
      <p:pic>
        <p:nvPicPr>
          <p:cNvPr id="793"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EC3E-4B44-4A3D-A7A6-1F02FA3F61B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6"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E7F5-CF2E-4EA3-AECF-8E1140793F6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9"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0" name="Afbeelding 1" descr=""/>
          <p:cNvPicPr/>
          <p:nvPr/>
        </p:nvPicPr>
        <p:blipFill>
          <a:blip r:embed="rId1"/>
          <a:stretch/>
        </p:blipFill>
        <p:spPr>
          <a:xfrm>
            <a:off x="398520" y="1625760"/>
            <a:ext cx="8715240" cy="4873320"/>
          </a:xfrm>
          <a:prstGeom prst="rect">
            <a:avLst/>
          </a:prstGeom>
          <a:ln w="0">
            <a:noFill/>
          </a:ln>
        </p:spPr>
      </p:pic>
      <p:sp>
        <p:nvSpPr>
          <p:cNvPr id="801"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D90D-8AD3-49A5-BCFC-816C73A484D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805"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642B-B34E-42BA-9F87-C2DDE68C999C}"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DDDD-BF2D-4D79-A477-35D7D6402626}"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5D12-B2F9-4DC6-B675-646B99E247E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1C0E-9BA7-4808-ACFA-565CDFD3233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E36B-F1C4-4E75-9EC4-F575E5B39DD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5787-DD9C-4D46-87A3-3A795EE1DF0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7" name="Tekstvak 6"/>
          <p:cNvSpPr/>
          <p:nvPr/>
        </p:nvSpPr>
        <p:spPr>
          <a:xfrm>
            <a:off x="4226040" y="2451240"/>
            <a:ext cx="114624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ks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txBox="1"/>
          <p:nvPr/>
        </p:nvSpPr>
        <p:spPr>
          <a:xfrm>
            <a:off x="684360" y="1166760"/>
            <a:ext cx="5975280" cy="9367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ea typeface="Arial"/>
              </a:rPr>
              <a:t>Welke diergroepen zijn er?</a:t>
            </a:r>
            <a:br>
              <a:rPr sz="2200"/>
            </a:br>
            <a:r>
              <a:rPr b="0" lang="nl-NL" sz="2200" spc="-1" strike="noStrike">
                <a:solidFill>
                  <a:srgbClr val="000000"/>
                </a:solidFill>
                <a:latin typeface="Arial"/>
                <a:ea typeface="Arial"/>
              </a:rPr>
              <a:t>Welke routes leggen ze af binnen het bedrijf?</a:t>
            </a:r>
            <a:endParaRPr b="0" lang="en-US" sz="2200" spc="-1" strike="noStrike">
              <a:solidFill>
                <a:srgbClr val="000000"/>
              </a:solidFill>
              <a:latin typeface="Calibri"/>
            </a:endParaRPr>
          </a:p>
        </p:txBody>
      </p:sp>
      <p:sp>
        <p:nvSpPr>
          <p:cNvPr id="819" name="Tekstvak 9"/>
          <p:cNvSpPr/>
          <p:nvPr/>
        </p:nvSpPr>
        <p:spPr>
          <a:xfrm>
            <a:off x="6553080" y="3365640"/>
            <a:ext cx="18558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kstvak 10"/>
          <p:cNvSpPr/>
          <p:nvPr/>
        </p:nvSpPr>
        <p:spPr>
          <a:xfrm>
            <a:off x="2895480" y="376092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raamhok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kstvak 11"/>
          <p:cNvSpPr/>
          <p:nvPr/>
        </p:nvSpPr>
        <p:spPr>
          <a:xfrm>
            <a:off x="873000" y="25272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kstvak 12"/>
          <p:cNvSpPr/>
          <p:nvPr/>
        </p:nvSpPr>
        <p:spPr>
          <a:xfrm>
            <a:off x="2941560" y="5432400"/>
            <a:ext cx="18576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speende biggen af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kstvak 13"/>
          <p:cNvSpPr/>
          <p:nvPr/>
        </p:nvSpPr>
        <p:spPr>
          <a:xfrm>
            <a:off x="5940360" y="56610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leesvark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25" name="Rechte verbindingslijn met pijl 16"/>
          <p:cNvCxnSpPr/>
          <p:nvPr/>
        </p:nvCxnSpPr>
        <p:spPr>
          <a:xfrm>
            <a:off x="5562720" y="2768760"/>
            <a:ext cx="1218240" cy="437040"/>
          </a:xfrm>
          <a:prstGeom prst="straightConnector1">
            <a:avLst/>
          </a:prstGeom>
          <a:ln w="38160">
            <a:solidFill>
              <a:srgbClr val="4a7ebb"/>
            </a:solidFill>
            <a:miter/>
            <a:tailEnd len="med" type="triangle" w="med"/>
          </a:ln>
        </p:spPr>
      </p:cxnSp>
      <p:cxnSp>
        <p:nvCxnSpPr>
          <p:cNvPr id="826"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27" name="Rechte verbindingslijn met pijl 21"/>
          <p:cNvCxnSpPr/>
          <p:nvPr/>
        </p:nvCxnSpPr>
        <p:spPr>
          <a:xfrm flipH="1">
            <a:off x="3801600" y="4583160"/>
            <a:ext cx="23040" cy="682920"/>
          </a:xfrm>
          <a:prstGeom prst="straightConnector1">
            <a:avLst/>
          </a:prstGeom>
          <a:ln w="38160">
            <a:solidFill>
              <a:srgbClr val="4a7ebb"/>
            </a:solidFill>
            <a:miter/>
            <a:tailEnd len="med" type="triangle" w="med"/>
          </a:ln>
        </p:spPr>
      </p:cxnSp>
      <p:cxnSp>
        <p:nvCxnSpPr>
          <p:cNvPr id="828"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29"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30"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31" name="Rechte verbindingslijn met pijl 31"/>
          <p:cNvCxnSpPr/>
          <p:nvPr/>
        </p:nvCxnSpPr>
        <p:spPr>
          <a:xfrm flipH="1" flipV="1">
            <a:off x="1801440" y="3379320"/>
            <a:ext cx="1008720" cy="1896480"/>
          </a:xfrm>
          <a:prstGeom prst="straightConnector1">
            <a:avLst/>
          </a:prstGeom>
          <a:ln w="38160">
            <a:solidFill>
              <a:srgbClr val="4a7ebb"/>
            </a:solidFill>
            <a:miter/>
            <a:tailEnd len="med" type="triangle" w="med"/>
          </a:ln>
        </p:spPr>
      </p:cxnSp>
      <p:sp>
        <p:nvSpPr>
          <p:cNvPr id="832" name="Tekstvak 33"/>
          <p:cNvSpPr/>
          <p:nvPr/>
        </p:nvSpPr>
        <p:spPr>
          <a:xfrm>
            <a:off x="3844440" y="46767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33"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34" name="Tekstvak 36"/>
          <p:cNvSpPr/>
          <p:nvPr/>
        </p:nvSpPr>
        <p:spPr>
          <a:xfrm>
            <a:off x="3902400" y="32400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3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A852-99EF-4BA0-82F0-D0F97A9498A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3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0A7A-3A25-45BA-9F1B-4ADCF2C11DB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Per diergroep schrijf je getallen/begrippen etc op. </a:t>
            </a:r>
            <a:endParaRPr b="0" lang="en-US" sz="2800" spc="-1" strike="noStrike">
              <a:solidFill>
                <a:srgbClr val="000000"/>
              </a:solidFill>
              <a:latin typeface="Calibri"/>
            </a:endParaRPr>
          </a:p>
        </p:txBody>
      </p:sp>
      <p:sp>
        <p:nvSpPr>
          <p:cNvPr id="84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BF55-D442-4891-B572-5D8C1B692F9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anvulling factsheet</a:t>
            </a:r>
            <a:endParaRPr b="0" lang="en-US" sz="2800" spc="-1" strike="noStrike">
              <a:solidFill>
                <a:srgbClr val="000000"/>
              </a:solidFill>
              <a:latin typeface="Calibri"/>
            </a:endParaRPr>
          </a:p>
        </p:txBody>
      </p:sp>
      <p:sp>
        <p:nvSpPr>
          <p:cNvPr id="84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0EB3-EACF-436B-8B23-38ACE7EF4B0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8" name="Tekstvak 6"/>
          <p:cNvSpPr/>
          <p:nvPr/>
        </p:nvSpPr>
        <p:spPr>
          <a:xfrm>
            <a:off x="4361040" y="1855800"/>
            <a:ext cx="2192040" cy="146556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kstal</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Duur cyclus</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p:txBody>
      </p:sp>
      <p:sp>
        <p:nvSpPr>
          <p:cNvPr id="849" name=""/>
          <p:cNvSpPr txBox="1"/>
          <p:nvPr/>
        </p:nvSpPr>
        <p:spPr>
          <a:xfrm>
            <a:off x="684360" y="1166760"/>
            <a:ext cx="5975280" cy="93672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Vul de diergroepen aan met informatie zoals: </a:t>
            </a:r>
            <a:br>
              <a:rPr sz="1500"/>
            </a:br>
            <a:r>
              <a:rPr b="0" lang="nl-NL" sz="1500" spc="-1" strike="noStrike">
                <a:solidFill>
                  <a:srgbClr val="000000"/>
                </a:solidFill>
                <a:latin typeface="Arial"/>
                <a:ea typeface="Arial"/>
              </a:rPr>
              <a:t>- aantal dagen dat het dier hier is</a:t>
            </a:r>
            <a:br>
              <a:rPr sz="1500"/>
            </a:br>
            <a:r>
              <a:rPr b="0" lang="nl-NL" sz="1500" spc="-1" strike="noStrike">
                <a:solidFill>
                  <a:srgbClr val="000000"/>
                </a:solidFill>
                <a:latin typeface="Arial"/>
                <a:ea typeface="Arial"/>
              </a:rPr>
              <a:t>- voersystemen/huisvestingsmanieren</a:t>
            </a:r>
            <a:br>
              <a:rPr sz="1500"/>
            </a:br>
            <a:r>
              <a:rPr b="0" lang="nl-NL" sz="1500" spc="-1" strike="noStrike">
                <a:solidFill>
                  <a:srgbClr val="000000"/>
                </a:solidFill>
                <a:latin typeface="Arial"/>
                <a:ea typeface="Arial"/>
              </a:rPr>
              <a:t>- belangrijke kengetallen en begrippen</a:t>
            </a:r>
            <a:endParaRPr b="0" lang="en-US" sz="1500" spc="-1" strike="noStrike">
              <a:solidFill>
                <a:srgbClr val="000000"/>
              </a:solidFill>
              <a:latin typeface="Calibri"/>
            </a:endParaRPr>
          </a:p>
        </p:txBody>
      </p:sp>
      <p:sp>
        <p:nvSpPr>
          <p:cNvPr id="850" name="Tekstvak 9"/>
          <p:cNvSpPr/>
          <p:nvPr/>
        </p:nvSpPr>
        <p:spPr>
          <a:xfrm>
            <a:off x="6553080" y="3365640"/>
            <a:ext cx="1855800" cy="173988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kstvak 10"/>
          <p:cNvSpPr/>
          <p:nvPr/>
        </p:nvSpPr>
        <p:spPr>
          <a:xfrm>
            <a:off x="2895480" y="376092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raamhokken</a:t>
            </a:r>
            <a:br>
              <a:rPr sz="1800"/>
            </a:b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2" name="Tekstvak 11"/>
          <p:cNvSpPr/>
          <p:nvPr/>
        </p:nvSpPr>
        <p:spPr>
          <a:xfrm>
            <a:off x="873000" y="25272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3" name="Tekstvak 12"/>
          <p:cNvSpPr/>
          <p:nvPr/>
        </p:nvSpPr>
        <p:spPr>
          <a:xfrm>
            <a:off x="2519280" y="5681520"/>
            <a:ext cx="23940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speende big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4" name="Tekstvak 13"/>
          <p:cNvSpPr/>
          <p:nvPr/>
        </p:nvSpPr>
        <p:spPr>
          <a:xfrm>
            <a:off x="5940360" y="56610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leesvarkens</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cxnSp>
        <p:nvCxnSpPr>
          <p:cNvPr id="855"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56" name="Rechte verbindingslijn met pijl 16"/>
          <p:cNvCxnSpPr/>
          <p:nvPr/>
        </p:nvCxnSpPr>
        <p:spPr>
          <a:xfrm>
            <a:off x="6821640" y="2684160"/>
            <a:ext cx="799200" cy="440280"/>
          </a:xfrm>
          <a:prstGeom prst="straightConnector1">
            <a:avLst/>
          </a:prstGeom>
          <a:ln w="38160">
            <a:solidFill>
              <a:srgbClr val="4a7ebb"/>
            </a:solidFill>
            <a:miter/>
            <a:tailEnd len="med" type="triangle" w="med"/>
          </a:ln>
        </p:spPr>
      </p:cxnSp>
      <p:cxnSp>
        <p:nvCxnSpPr>
          <p:cNvPr id="857"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58" name="Rechte verbindingslijn met pijl 21"/>
          <p:cNvCxnSpPr/>
          <p:nvPr/>
        </p:nvCxnSpPr>
        <p:spPr>
          <a:xfrm flipH="1">
            <a:off x="3715920" y="5006520"/>
            <a:ext cx="23040" cy="685080"/>
          </a:xfrm>
          <a:prstGeom prst="straightConnector1">
            <a:avLst/>
          </a:prstGeom>
          <a:ln w="38160">
            <a:solidFill>
              <a:srgbClr val="4a7ebb"/>
            </a:solidFill>
            <a:miter/>
            <a:tailEnd len="med" type="triangle" w="med"/>
          </a:ln>
        </p:spPr>
      </p:cxnSp>
      <p:cxnSp>
        <p:nvCxnSpPr>
          <p:cNvPr id="859"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60"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61"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62" name="Rechte verbindingslijn met pijl 31"/>
          <p:cNvCxnSpPr/>
          <p:nvPr/>
        </p:nvCxnSpPr>
        <p:spPr>
          <a:xfrm flipH="1" flipV="1">
            <a:off x="2182320" y="3886920"/>
            <a:ext cx="627840" cy="1388520"/>
          </a:xfrm>
          <a:prstGeom prst="straightConnector1">
            <a:avLst/>
          </a:prstGeom>
          <a:ln w="38160">
            <a:solidFill>
              <a:srgbClr val="4a7ebb"/>
            </a:solidFill>
            <a:miter/>
            <a:tailEnd len="med" type="triangle" w="med"/>
          </a:ln>
        </p:spPr>
      </p:cxnSp>
      <p:sp>
        <p:nvSpPr>
          <p:cNvPr id="863" name="Tekstvak 33"/>
          <p:cNvSpPr/>
          <p:nvPr/>
        </p:nvSpPr>
        <p:spPr>
          <a:xfrm>
            <a:off x="3772440" y="5129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64"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65" name="Tekstvak 36"/>
          <p:cNvSpPr/>
          <p:nvPr/>
        </p:nvSpPr>
        <p:spPr>
          <a:xfrm>
            <a:off x="3734280" y="33321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D0A6-7E77-4965-A411-98DE0BF3C9D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6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orkennis: Wat weet je al?</a:t>
            </a:r>
            <a:endParaRPr b="0" lang="en-US" sz="2800" spc="-1" strike="noStrike">
              <a:solidFill>
                <a:srgbClr val="000000"/>
              </a:solidFill>
              <a:latin typeface="Calibri"/>
            </a:endParaRPr>
          </a:p>
        </p:txBody>
      </p:sp>
      <p:sp>
        <p:nvSpPr>
          <p:cNvPr id="726" name=""/>
          <p:cNvSpPr txBox="1"/>
          <p:nvPr/>
        </p:nvSpPr>
        <p:spPr>
          <a:xfrm>
            <a:off x="7238520" y="2355480"/>
            <a:ext cx="2133720" cy="22575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3DCC-0252-4389-BAD0-D86CD8F11BB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28" name="Picture 2" descr="QR-code voor deze padlet"/>
          <p:cNvPicPr/>
          <p:nvPr/>
        </p:nvPicPr>
        <p:blipFill>
          <a:blip r:embed="rId1"/>
          <a:stretch/>
        </p:blipFill>
        <p:spPr>
          <a:xfrm>
            <a:off x="5668920" y="981000"/>
            <a:ext cx="3141720" cy="3140280"/>
          </a:xfrm>
          <a:prstGeom prst="rect">
            <a:avLst/>
          </a:prstGeom>
          <a:ln w="0">
            <a:noFill/>
          </a:ln>
        </p:spPr>
      </p:pic>
      <p:sp>
        <p:nvSpPr>
          <p:cNvPr id="729" name="Tekstvak 4"/>
          <p:cNvSpPr/>
          <p:nvPr/>
        </p:nvSpPr>
        <p:spPr>
          <a:xfrm>
            <a:off x="900000" y="1628640"/>
            <a:ext cx="4392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an de QR code of ga naar:</a:t>
            </a:r>
            <a:br>
              <a:rPr sz="1800"/>
            </a:br>
            <a:r>
              <a:rPr b="0" lang="nl-NL" sz="1800" spc="-1" strike="noStrike" u="sng">
                <a:solidFill>
                  <a:srgbClr val="0000ff"/>
                </a:solidFill>
                <a:uFillTx/>
                <a:latin typeface="Arial"/>
                <a:hlinkClick r:id="rId2"/>
              </a:rPr>
              <a:t>https://padlet.com/kvangorp/svgtuv6ag9og7jv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t weet je al van de varkenshouderij?</a:t>
            </a:r>
            <a:br>
              <a:rPr sz="1800"/>
            </a:br>
            <a:br>
              <a:rPr sz="1800"/>
            </a:br>
            <a:r>
              <a:rPr b="0" lang="nl-NL" sz="1800" spc="-1" strike="noStrike">
                <a:solidFill>
                  <a:srgbClr val="000000"/>
                </a:solidFill>
                <a:latin typeface="Arial"/>
              </a:rPr>
              <a:t>Welke vaktermen of begrippen ken je al  binnen de varkenshouderij? </a:t>
            </a:r>
            <a:br>
              <a:rPr sz="1800"/>
            </a:br>
            <a:br>
              <a:rPr sz="1800"/>
            </a:br>
            <a:br>
              <a:rPr sz="1800"/>
            </a:br>
            <a:r>
              <a:rPr b="0" lang="nl-NL" sz="1800" spc="-1" strike="noStrike">
                <a:solidFill>
                  <a:srgbClr val="000000"/>
                </a:solidFill>
                <a:latin typeface="Arial"/>
              </a:rPr>
              <a:t>Herken je een term of begrip? Geef deze dan een duimpje omhoog! </a:t>
            </a:r>
            <a:br>
              <a:rPr sz="1800"/>
            </a:br>
            <a:br>
              <a:rPr sz="1800"/>
            </a:br>
            <a:r>
              <a:rPr b="0" lang="nl-NL" sz="1800" spc="-1" strike="noStrike">
                <a:solidFill>
                  <a:srgbClr val="000000"/>
                </a:solidFill>
                <a:latin typeface="Arial"/>
              </a:rPr>
              <a:t>Is de term nieuw of onbekend? Geef dit dan een duimpje omlaag!</a:t>
            </a:r>
            <a:endParaRPr b="0" lang="en-US" sz="1800" spc="-1" strike="noStrike">
              <a:solidFill>
                <a:srgbClr val="000000"/>
              </a:solidFill>
              <a:latin typeface="Arial"/>
            </a:endParaRPr>
          </a:p>
        </p:txBody>
      </p:sp>
      <p:pic>
        <p:nvPicPr>
          <p:cNvPr id="730" name="Picture 4" descr="Duim omhoog Emoji 👍"/>
          <p:cNvPicPr/>
          <p:nvPr/>
        </p:nvPicPr>
        <p:blipFill>
          <a:blip r:embed="rId3"/>
          <a:stretch/>
        </p:blipFill>
        <p:spPr>
          <a:xfrm>
            <a:off x="5052960" y="4135320"/>
            <a:ext cx="957240" cy="957240"/>
          </a:xfrm>
          <a:prstGeom prst="rect">
            <a:avLst/>
          </a:prstGeom>
          <a:ln w="0">
            <a:noFill/>
          </a:ln>
        </p:spPr>
      </p:pic>
      <p:pic>
        <p:nvPicPr>
          <p:cNvPr id="731" name="Picture 6" descr="👎 duim omlaag - Emoji Betekenis"/>
          <p:cNvPicPr/>
          <p:nvPr/>
        </p:nvPicPr>
        <p:blipFill>
          <a:blip r:embed="rId4"/>
          <a:stretch/>
        </p:blipFill>
        <p:spPr>
          <a:xfrm>
            <a:off x="5064120" y="5321160"/>
            <a:ext cx="977760" cy="97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33" name="Onlinemedia 4" descr=""/>
          <p:cNvPicPr/>
          <p:nvPr/>
        </p:nvPicPr>
        <p:blipFill>
          <a:blip r:embed="rId1"/>
          <a:stretch/>
        </p:blipFill>
        <p:spPr>
          <a:xfrm>
            <a:off x="0" y="1212840"/>
            <a:ext cx="9144000" cy="5143680"/>
          </a:xfrm>
          <a:prstGeom prst="rect">
            <a:avLst/>
          </a:prstGeom>
          <a:ln w="0">
            <a:noFill/>
          </a:ln>
        </p:spPr>
      </p:pic>
      <p:sp>
        <p:nvSpPr>
          <p:cNvPr id="7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8CD9-D0C1-48F0-A859-677633CC6D0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33"/>
                    </p:tgtEl>
                  </p:cond>
                </p:stCondLst>
                <p:childTnLst>
                  <p:par>
                    <p:cTn id="8" nodeType="clickEffect" fill="hold">
                      <p:stCondLst>
                        <p:cond evt="onClick">
                          <p:tgtEl>
                            <p:spTgt spid="73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36"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F030-2241-4D15-A3E7-F864C5CAF038}"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8"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4297-14C6-4B47-B1E7-7B53522EDD3C}"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9"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0"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42"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635E-B386-4B94-BA5C-CE14A71F397E}"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4"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6126-DBB3-4DD3-9E8E-13BFF32131A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5"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8"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DA71-A49D-4C70-A1C2-71559A0B4224}"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0"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4C57-87A7-4ACF-8EBC-881E8E1AFD74}"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1"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2"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4"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5219-633D-4FA0-B0D5-A462B907FC5E}"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6"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4980-D60A-4FD1-B276-A37C3B8AAE26}"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7"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8"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60"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645F-C548-4E76-B520-32D16E4EEC85}"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62"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34A0-52C0-43C3-BEB6-21DEE28AD871}"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63"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4"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22-11-20T15:17:03Z</dcterms:modified>
  <cp:revision>98</cp:revision>
  <dc:subject/>
  <dc:title>Gebruik van Powerpoint sjablonen</dc:title>
</cp:coreProperties>
</file>