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5.jpeg" ContentType="image/jpeg"/>
  <Override PartName="/ppt/media/image23.wmf" ContentType="image/x-wmf"/>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EBD0-5C14-46D9-9F99-52C969AFE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949E-B23D-4811-B580-B9E814B5E3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86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6213-85F0-4D18-AD41-E7AF2427A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86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D0A4-F755-4599-9C46-CDCC89903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8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70F7-BE34-4734-9CAD-E9E55FA4C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79C3-C46D-4DE2-92CD-71CB174C1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F75D-5A19-4F89-B8FF-3059D18C2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DBF6-3E7C-4F2E-88BB-4CCFEC14B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2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B218-8B51-463A-8992-F37A58A789A9}"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2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2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D9DA-3191-41D4-B425-7696A37F7CD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DC8A-A59A-486E-B6FE-5B3035330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8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BC1D-04CF-4E44-8ACE-F48AE0266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C293-5A81-4870-BA15-187458928E12}"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3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127F-3624-4C9A-98DA-3D81FD55792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6540-756B-4E69-9CC9-6700E11C1EA2}"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3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8E28-EDF0-4AF3-AD8E-31200789019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22BF-BD6F-4949-87D8-5328574073FF}"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4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4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CB18-0D99-4617-8381-A0090709ED8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9CA2-2077-4915-B067-BA46B987123A}"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4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EF56-48D5-4FA5-A44C-761AE89FA13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5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5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FDE4-EF86-4EA9-9CD4-64DA0DB38EAA}"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5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6B09-5230-48E9-B0A4-2EB3B2A1E3D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8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184A-5DD7-4A12-86F8-5B0AE3B26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D0EA1-3C2E-4CD9-94C9-A3C23EAA5E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D0028E9-7FDB-4327-A061-7F11C8D06DF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6A69B3-4107-4E05-BDA3-B5FC9832C9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76BABB-67B9-4DD1-B184-9B4237CE5A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3CB273-36FF-4E6B-9095-AB4CA2630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22DCA-C666-41AB-89C2-D129ED79B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1FACF-E01A-4203-9896-4A9FF2AC1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A66CF1-3265-467E-BC72-72DBDAF01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5F3B45-9CA4-440E-8034-F2560727D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25BD32-3308-41B3-9763-4AF13C7E7F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B81EAD-C77D-4AE0-813C-FC09DE7563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891D05-0F2D-4D11-B7E4-A6C85A5E65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3369900-3A65-4E62-A489-6E0ECE511FB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64024-F762-49DB-BB68-A026404533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AD3C6-C905-4C86-A5FA-6B17D48404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F8FD66-2B82-4880-B197-472D61C4B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F65614-9C6A-4A81-B577-C81746FB7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A68ADB-1505-4A21-A4BE-418A13E45E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B4E67-9C86-466D-A3E0-A793F6F204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C27F9A-D774-4EA5-9F68-686E9DE9A5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02534-F12A-478C-95BF-97E513502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82F28A-85BA-4E2A-AF1A-386F549007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E958B1-85FC-41A1-B383-7178D65E92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3A18441-A253-49A5-9BB7-0447D56556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F2174B-3FDF-4D5F-BEB2-4132A1D6BB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10B32E-A3FD-44B6-906E-A35203BF29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FC1D1-E4DC-4443-987E-14603F8E2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E03676-F52C-4C62-9CA8-4576BCF954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A8723D-DD0B-437E-8699-AD10EA7860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F54A7E-67D6-4817-8A0E-FBD8E9BF24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2976BA-185F-472C-A1E6-6091C2A700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5F2CD-BABB-4145-B3F4-EDBEF04B5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E9D07-5136-421B-AEB3-51D0CF884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FB331-6E23-4D30-BFAE-C7C744DCC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1EE464-8601-4B7D-873B-8E92B1EA1FA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89A3D-215A-4CD1-8D9D-24027B2781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6A82E3-908D-42FA-8ABB-9A64280BBC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A8AF46-58DC-4CB6-8925-66C7E65E15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8B95E6-21F7-430C-85D6-F97DC936C3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15AA3-A594-4BB5-ADE2-FC27C170DD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FD6FD7-0DFC-4E9E-91AE-8DB537CA4A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EC7C69-C098-42AC-B486-1633A7237A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926DC6-2DC0-4BC3-B3EE-5F09A607E6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062AFC-A7D5-4B6F-A831-C9029A95AE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C5E972-1658-4046-8A08-2F68B1E524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29B9F4-B06E-4391-9B41-D5DDAB6CFA1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67934-FF26-40D9-9A15-2FF758B15E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DBE16-7B24-4971-B9C5-78F1318696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199059-DC76-48F2-9F8C-21676EDFC0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0C661F-D478-47BE-954F-C6C994039D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4A6F51-BEBC-4953-8CD1-725104FDC4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7EDA7B-2F89-4F19-8A0B-810E436308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E9C763-D4CC-406C-8957-9CA0B7DD80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57CB84-629E-4133-8833-D533149467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89B109-1BC8-482C-AC8A-9DB8EA7E77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DA8FA9-015B-463A-B5A4-11E800F4B7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E4220A9-A38A-4F55-9630-DFBD75150E7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AE9F46-B496-4411-966C-4461DF8E5F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6582B-20C8-43BB-94D0-E31B372235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0A9A49-9174-4E5E-BFB1-6EA077021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C89CA4-8851-4A6C-8CA0-B04252522F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DAA10A-578C-4940-B0AF-1D6E5F993B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5D9AE9-972A-4B7F-B959-EF21D8AF91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734B0C-C8AB-483C-80D2-528050E904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65EB02-E973-44EA-BD8F-A9A3DAFAAF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E26086-7F40-4A14-9B16-2DD54BF836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31B1C1-C5A0-49EB-9AE7-B9B0A3744F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C91F06C-BAE0-4FC2-BA89-AE53EF6D7B0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07D887-7159-4462-A4BC-97AC57712E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444501-0900-49D7-93BD-569826EC11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B9A06D-57E6-4A1D-A1A7-75BB652D66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C5EE73-5ACE-458F-8EAF-4AC398147D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D1B825-82F9-45AB-9E45-DCD97BCBA3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8C9B46-E4A6-40C4-97FD-A17616EA17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93BBAA-0156-4EEE-A896-B917106344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0D41BC-6412-4D7B-9E21-7951BBBAB7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AE0F8F-B63F-405B-9D40-0224CFCCBD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3E296A-1170-43EF-A138-9D70299B2E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F988C47-B6FB-4D55-B718-61C057905F8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D7DA2B-9C05-49D7-A507-2C4E0267CE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285897-3F28-482E-B828-0F27C96722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BF3BC2-7622-4A87-9EC5-28554A87BC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B6736F-7375-4F74-9E2B-8704F08C0A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2FD26D-B0A6-4251-A968-DB5493D2E1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77EBC0-4F67-41D9-9B12-0EBA44C52E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E01E52-0651-48B3-A32E-3122407EB8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DD9B6D-39BD-4CCA-A7FF-763A081837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4F8528-A9B4-484E-AFEF-009166F96A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2E2779-1A5C-4686-869A-FF272EBDC8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FD0654B-9046-4C0B-9AA8-D690D2CF1BC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252E5F-25C3-4E72-A588-F7097F7D1D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4280F8-47C6-4458-93C7-42407813AF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0A03EC-C292-43AA-99BA-3B35F44BFC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02C60E-1F92-4B6B-95E7-D0DB503416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F3FA5D-65AD-49EF-80F0-37B1D06364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75797C-BA17-4F28-97E6-A7348A5899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81E3A4-E8E9-4F3F-B40F-FD64E5861F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71B6DD-B5C6-4275-BF23-5AA8A61715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0B7B87-57B0-4274-B1AF-69F3DF45AA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22C4C4-84D5-48DF-AD4E-F6B8A8F949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4C1A24E-7F45-4623-B259-215EAF3393A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C4A8C3-7076-4C39-BE76-D0F7578B25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EE3631-75B7-4CE3-B5C7-A85197BC1C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3AC2B8-AF7A-4AB8-A6FE-B43D4141AE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AA95E47-5DB9-4DF6-A808-6E18D74B419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774012-2FB2-43C3-BA2D-A8D02496A0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904184-1C9A-4FEF-B8A9-B4AF310033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270AD8-3E95-4D30-911A-0C87D56B0B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39FF01-9A5B-4618-B0BA-B21853CC99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9E91D0-B8B4-48AF-B235-9A2EAB42A2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A5F448-7661-496E-96E3-F86FE503D2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1EE4A1F-14A8-4138-86C8-EA9847000D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33F6AE-0CC5-4E48-8F2C-4EBCE6A919E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1117AF-1354-4F1C-B478-93C2EF35BA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A212B5-A930-4C58-AEF5-D04E27B4C1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B8539A-B2AA-4EC0-ADCD-6942B1922B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9CD3273-F5C8-4FA0-AC4A-C6EFD31379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7617625-45B6-4C44-8526-C9F5FE0766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5BCEA51-5633-4F13-AFAE-B53B0ED04C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5B63533-E915-42A0-9638-13470B7172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864AE9F-B232-4C69-B597-7A6974C755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9085501-6B40-44A7-80CF-99C0030608A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E35812-35F6-4936-AFAD-4E2D704212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13F39CE-A072-4F5B-A5B7-DCFF356A2D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A002804-9BF8-4484-917C-801BC44E8D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C25D08B-6EAE-47A3-8836-3E4D0FA482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25A80C2-53F1-4264-B447-E58D482BD5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327C062-EE85-4AED-B5D5-20DC78E271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D8DBD56-2B8F-4A62-9922-31E675CBB1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50A81AD-6F2F-4A2E-824F-89C3A306D9B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7E87A9-6D20-4072-B2E3-132219E3946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156C2C-863B-4667-83FF-448D066FC2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9136A4F-5B1C-4BBA-B8B0-33ACF8A831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142F97E-6838-4831-87FD-96EB5834A5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3CBE559-C74E-45C7-9312-A20BCE85EE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CEC0C-7746-4B60-8E96-4DAFD45BE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00283-29D1-4442-B5DF-41B83D3F7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0F6BE-00FA-4025-AE3A-4A1080A34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51F64E2-A644-4477-B3A3-866021DB831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5F78E-66CF-4D88-A3E2-E7DC69466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56C5E-0F0B-42BD-B41E-AF6DE2475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743E4-A3FA-48B0-95DD-854BC1B77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2CED7-64C6-48B3-8DF1-4E03016F8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3A3A1-50B7-480E-A680-263D0AF7D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F1987-C9B7-44D4-BB85-B5D2D4D06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CFABB-5700-4F32-A017-C5045BD7B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A2156-D644-45BA-85D5-C3B1E03EF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8344A-1EB8-4C18-A580-D6DE2E081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F5878AD-2000-4923-8AC6-6DB820D39A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1D6E6C3-EE96-422A-B14B-24BAA4822E6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587F76-CAAC-4C2D-9F13-66C33DD418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BAA131-57E9-45AF-AF75-8F8966B083F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5A21B-88B0-444A-8BB8-D1EEBDB05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B4E3D2-B531-418E-95DF-7ACC23F9B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82731-0E3C-4A7A-B993-726B8A149A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6A4036-D9B4-4DFD-8C11-882FA6326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6E684-E53E-4713-B63E-90E5E6534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99AF9DE-128D-4AD1-8463-7B7055EABD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93F987-6E13-4BFA-BFF4-35DCC7CEA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A8F78-5849-49FF-809B-2D221ECAE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C3BE5-A7A6-477F-A939-0D99478FC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DDFFB-FE64-477A-9406-FD92EAC6E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CC54D-931E-46E3-B4C4-DF1A73609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12307D-9DAF-4A04-BF5E-2E03C75C7D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70B50A-9A16-4BA8-AE57-4F61117E39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E3C19F-F0D4-4D7F-9D9E-7F82BBF540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E6D300-08D1-4A6B-B618-38A79554BA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0A048F-96AD-4372-880B-24461BD0CF7A}"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511F-BAB8-4CA9-BFF1-57629FD866AC}"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512F-7C8F-40DB-B571-8107D70840C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2EE8-86FB-48BD-815A-8D9C71D4D4C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AA8C-913D-4177-B3BD-A265311FD7A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19F2-BDBD-4A6E-A6E3-272A68C3B99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21F2-54C6-4B81-9CCF-C58EABDBB4F0}"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26DF-AE9B-4703-8461-CA7775C5A1E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676D-C4D4-402B-A635-006E813620D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0A84-4C00-4EEF-B434-EB9D27A6360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13E9-24E0-4E1A-9EB1-511DC7351897}"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EA4E-3AEE-4AB0-A7ED-E61CF6099C4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F240-6723-41A7-9E91-36CA360493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5668-CEA7-486B-92EF-B4B4AB15C56E}"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2E75-C6EA-491A-805A-A018AAD99024}"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341B-22F4-4E7F-A743-A7205EC69266}"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862B-7BA3-4909-A8F3-0E73BB246038}" type="datetime2">
              <a:rPr b="0" lang="nl-NL" sz="1200" spc="-1" strike="noStrike">
                <a:solidFill>
                  <a:srgbClr val="898989"/>
                </a:solidFill>
                <a:latin typeface="Times New Roman"/>
                <a:ea typeface="Arial"/>
              </a:rPr>
              <a:t>woensdag 29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8531-6FC3-47EB-88A7-09F30EA6F17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0D2C-3BD5-4FD8-9942-B31535E43BA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9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B354-8419-4ACB-9A1A-1ACEEE202BA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4"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488B-6D90-4021-9F87-E4249AD8B42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7"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68"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88AA-BE42-4D11-A8B1-5947897DE6A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2"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4031-1711-4E16-BC86-80D8141EF1A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5"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76"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DE76-4F78-4AFA-8CEF-AC53BA8BDEF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9"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0" name="Afbeelding 4" descr=""/>
          <p:cNvPicPr/>
          <p:nvPr/>
        </p:nvPicPr>
        <p:blipFill>
          <a:blip r:embed="rId1"/>
          <a:stretch/>
        </p:blipFill>
        <p:spPr>
          <a:xfrm>
            <a:off x="658800" y="1989000"/>
            <a:ext cx="8028000" cy="4030920"/>
          </a:xfrm>
          <a:prstGeom prst="rect">
            <a:avLst/>
          </a:prstGeom>
          <a:ln w="0">
            <a:noFill/>
          </a:ln>
        </p:spPr>
      </p:pic>
      <p:sp>
        <p:nvSpPr>
          <p:cNvPr id="781"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F7E6-4959-4176-8A05-BEC7AB65F4E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4"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85" name="Afbeelding 4" descr=""/>
          <p:cNvPicPr/>
          <p:nvPr/>
        </p:nvPicPr>
        <p:blipFill>
          <a:blip r:embed="rId1"/>
          <a:stretch/>
        </p:blipFill>
        <p:spPr>
          <a:xfrm>
            <a:off x="658800" y="1989000"/>
            <a:ext cx="8028000" cy="4030920"/>
          </a:xfrm>
          <a:prstGeom prst="rect">
            <a:avLst/>
          </a:prstGeom>
          <a:ln w="0">
            <a:noFill/>
          </a:ln>
        </p:spPr>
      </p:pic>
      <p:pic>
        <p:nvPicPr>
          <p:cNvPr id="786"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8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279F-15EA-454C-85D5-35BCF612175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9"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A162-015A-4888-8F5A-4829E738933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2"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3" name="Afbeelding 1" descr=""/>
          <p:cNvPicPr/>
          <p:nvPr/>
        </p:nvPicPr>
        <p:blipFill>
          <a:blip r:embed="rId1"/>
          <a:stretch/>
        </p:blipFill>
        <p:spPr>
          <a:xfrm>
            <a:off x="398520" y="1625760"/>
            <a:ext cx="8715240" cy="4873320"/>
          </a:xfrm>
          <a:prstGeom prst="rect">
            <a:avLst/>
          </a:prstGeom>
          <a:ln w="0">
            <a:noFill/>
          </a:ln>
        </p:spPr>
      </p:pic>
      <p:sp>
        <p:nvSpPr>
          <p:cNvPr id="794"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79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AD36-44BB-4144-9990-D1DC1CDC179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7"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798"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BB8F-3815-4152-8CAE-8CE39FA2C47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1"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4A78-E974-4B1D-9044-A08169151B8C}"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F2BF-D0B2-4B0B-A5C2-EB1C68ECB436}"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B230-6FAD-4D2E-9A8C-BD2E29EE25D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0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BFCC-A21C-4321-9D0A-5FE6B659B96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36BA-3D61-4081-AA49-09058B6F35B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p:txBody>
      </p:sp>
      <p:sp>
        <p:nvSpPr>
          <p:cNvPr id="81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0ECE-7C5A-4C1F-ADFF-7DF0A5191D6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1C71-61C7-466D-B3EF-00698401DF5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1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26" name="Onlinemedia 4" descr=""/>
          <p:cNvPicPr/>
          <p:nvPr/>
        </p:nvPicPr>
        <p:blipFill>
          <a:blip r:embed="rId1"/>
          <a:stretch/>
        </p:blipFill>
        <p:spPr>
          <a:xfrm>
            <a:off x="0" y="1212840"/>
            <a:ext cx="9144000" cy="5143680"/>
          </a:xfrm>
          <a:prstGeom prst="rect">
            <a:avLst/>
          </a:prstGeom>
          <a:ln w="0">
            <a:noFill/>
          </a:ln>
        </p:spPr>
      </p:pic>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9077-6B6A-480C-8E75-39075AFDA70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26"/>
                    </p:tgtEl>
                  </p:cond>
                </p:stCondLst>
                <p:childTnLst>
                  <p:par>
                    <p:cTn id="8" nodeType="clickEffect" fill="hold">
                      <p:stCondLst>
                        <p:cond evt="onClick">
                          <p:tgtEl>
                            <p:spTgt spid="726"/>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29"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707B-15A0-457A-8B5D-4B681D747FA8}"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1"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5804-F927-4A68-B7B5-095C99D67A7C}"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2"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35"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0278-909A-407F-B5FF-869775826E36}"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7"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4D0E-B200-4B94-92AF-D81E54327640}"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8"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9"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1"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8292-0231-4E01-ABE8-2394927C4E9C}"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DB2F-B4A7-4821-B8CD-9A85DDCB92E8}"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7"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E87F-0593-41D5-8C17-5D61E3E9A914}"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9"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D1F9-3F52-4EC5-AB27-CECDF60E54FF}"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0"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1"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3"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86DA-0F31-4A31-B7DC-EC2B0D93DA21}"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5"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11CC-D6E8-4063-901B-29B097F8B617}"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6"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59" name="Tijdelijke aanduiding voor inhoud 4" descr=""/>
          <p:cNvPicPr/>
          <p:nvPr/>
        </p:nvPicPr>
        <p:blipFill>
          <a:blip r:embed="rId1"/>
          <a:stretch/>
        </p:blipFill>
        <p:spPr>
          <a:xfrm>
            <a:off x="900000" y="1220760"/>
            <a:ext cx="7344000" cy="3957840"/>
          </a:xfrm>
          <a:prstGeom prst="rect">
            <a:avLst/>
          </a:prstGeom>
          <a:ln w="0">
            <a:noFill/>
          </a:ln>
        </p:spPr>
      </p:pic>
      <p:sp>
        <p:nvSpPr>
          <p:cNvPr id="7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E9BB-4A73-4106-9F24-8421D9CC17D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1"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19-11-07T19:13:19Z</dcterms:modified>
  <cp:revision>94</cp:revision>
  <dc:subject/>
  <dc:title>Gebruik van Powerpoint sjablonen</dc:title>
</cp:coreProperties>
</file>