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2.png" ContentType="image/png"/>
  <Override PartName="/ppt/media/image7.wmf" ContentType="image/x-wmf"/>
  <Override PartName="/ppt/media/image10.png" ContentType="image/png"/>
  <Override PartName="/ppt/media/image5.wmf" ContentType="image/x-wmf"/>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47A77-58FE-4DA4-A859-384BF734BF84}"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52A6C-25C3-4106-95B2-F1EC5D7FB61E}"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1F061-C406-4625-AD50-6AFD2594B253}"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21" name="PlaceHolder 1"/>
          <p:cNvSpPr>
            <a:spLocks noGrp="1"/>
          </p:cNvSpPr>
          <p:nvPr>
            <p:ph type="sldImg"/>
          </p:nvPr>
        </p:nvSpPr>
        <p:spPr>
          <a:xfrm>
            <a:off x="1125360" y="68436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het instellen van de hefinrichting op een bepaalde hoogte wordt onderscheid gemaakt tussen werktuigen die boven of op de grond werken en werktuigen die in de grond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werktuigen op of boven de grond, zoals een gedragen kunstmeststrooier of een zaaimachine, wordt de keuzeknop op positieregeling (symbool van een kunstmeststrooier) ingesteld. Voor werktuigen die in de grond werken zoals een ploeg, wordt de keuzeknop op trekkrachtregeling (symbool van een ploeg) ingesteld. Het is ook mogelijk om de knop op een mengvorm van deze twee regelingen te zetten. Deze zogenaamde mengregeling gebruik je als je een lichte grondbewerking uitvoert zoals eggen of cultivateren, waarbij er niet zo veel gecorrigeerd hoeft te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55536-3B41-4E84-A336-F22CBA54D859}"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dat de keuze tussen positieregeling en trekkrachtregeling is gemaakt kun je met de knop werkhoogte/werk- diepte  de  gewenste  hoogte  of  diepte  instellen.  Bij  de  instelling positieregeling’  kun  je  met  de  knop </a:t>
            </a:r>
            <a:r>
              <a:rPr b="0" i="1" lang="nl-NL" sz="1200" spc="-1" strike="noStrike">
                <a:solidFill>
                  <a:srgbClr val="000000"/>
                </a:solidFill>
                <a:latin typeface="Arial"/>
              </a:rPr>
              <a:t>werkhoogte </a:t>
            </a:r>
            <a:r>
              <a:rPr b="0" lang="nl-NL" sz="1200" spc="-1" strike="noStrike">
                <a:solidFill>
                  <a:srgbClr val="000000"/>
                </a:solidFill>
                <a:latin typeface="Arial"/>
              </a:rPr>
              <a:t>een vaste hoogte van bijvoorbeeld de kunstmeststrooier inste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 instelling ‘trekkrachtregeling’ is de </a:t>
            </a:r>
            <a:r>
              <a:rPr b="0" i="1" lang="nl-NL" sz="1200" spc="-1" strike="noStrike">
                <a:solidFill>
                  <a:srgbClr val="000000"/>
                </a:solidFill>
                <a:latin typeface="Arial"/>
              </a:rPr>
              <a:t>werkdiepte </a:t>
            </a:r>
            <a:r>
              <a:rPr b="0" lang="nl-NL" sz="1200" spc="-1" strike="noStrike">
                <a:solidFill>
                  <a:srgbClr val="000000"/>
                </a:solidFill>
                <a:latin typeface="Arial"/>
              </a:rPr>
              <a:t>afhankelijk van de trekkracht die nodig is om de ploeg door de grond te trek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nop werkhoogte/werkdiepte heeft vaak een schaalverdeling van 1-10. Hiermee kun je de werkhoogte direct goed instellen als je weet op welke stand de knop moet staa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3F8C1-8031-495E-9E92-3F7092AAB752}"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de hefhoogtebegrenzing kan de maximale hefhoogte worden ingesteld. De maximale hefhoogte stel je 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at  door  het  heffen  van  een  werktuig  geen  schade  wordt  veroorzaakt  aan  bijvoorbeeld  de  achterruit, de spatborden of de kruiskoppelingen van de tusse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07F59-BA01-43B3-8FC6-1D9C3C28C7F3}"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jdens het werk, bijvoorbeeld bij het ploegen moet aan het eind van de werkgang de ploeg worden opget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doe je met een werkschakelaar. De werkschakelaar heft de ploeg op tot de maximaal ingestelde hefhoogte. Deze werkschakelaar heeft de standen heffen, neutraal en zakken. Bij sommige trekkers heeft de werkschakelaar alleen de standen heffen en zakken. Vaak zijn er twee lampjes op het bedieningspaneel die aangeven of de hefinrichting op heffen of zakken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nneer je de trekker start is de hefinrichting soms geblokkeerd. De cve moet dan eerst geactiveerd worden. Dit doe je door de werkschakelaar eerst even een keer te bedienen. Deze ingebouwde veiligheid voorkomt dat de hef meteen omhoog gaat wanneer de trekker gestart wordt en de werkschakelaar op heffen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BA651-3903-4C62-8EEA-16D79AAA1B00}"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aalsnelheid is traploos instelbaar met een draaiknop. Bij sommige werktuigen, zoals cultivators, is het handig als ze snel zakken en op werkdiepte komen. Maar bij werktuigen als schudders en cirkelharken of een ploeg is het beter wanneer de hef wat langzamer zakt, omdat ze anders met een noodgang op de grond ploff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aalsnelheid werkt in combinatie met de werkschakelaar. Wanneer de hef geheven wordt gaat dat volgens een vaste snelheid en wanneer de hef daalt gaat dat met de ingestelde daalsnel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raaiknop van de daalsnelheid heeft nog een tweede functie. Dit is de transportbeveiliging. Wanneer de draaiknop in de uiterste stand staat, meestal bij het symbool van een hangslot, zal de hef helemaal niet meer zakken. Zo kan de hefinrichting bij het per ongeluk aanstoten van de werkschakelaar niet zakken tijdens het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1AD6-4368-425D-9F66-C31E79D95CBE}"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69592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Landbouwtrekkers  kunnen  steeds  hogere  transportsnelheden  ontwikkelen  en  de  aangebouwde  werktuigen worden steeds groter en zwaarder. Vooral trekkers met een meerscharige wentelploeg gaan op een hobbelige weg deinen. Hierdoor komen er enorme krachten op het werktuig, de hefinrichting en de vooras. De constructie van trekker en werktuig wordt daarbij behoorlijk op de proef gesteld met als mogelijk gevolg slijtage en breuk. Ook het rijcomfort is niet optimaal. Om dit te voorkomen moet de snelheid verlaagd worden om de combinatie rustig te houden. Bij trekkers met een elektronische hefregeling (EHR) bestaat de mogelijkheid dit deinen tegen te gaan. De krachtmeetpennen meten de door het werktuig uitgeoefende kracht. De hefcilinders laten de hef op het juiste moment zakken om de kracht op te vangen. Je kunt dit vergelijken met het vangen van een ei. Daarbij houd je je hand niet stijf tijdens het vangen maar probeer je mee te bewegen in de richting van het ei. Het schok dempingssysteem treedt automatisch in werking wanneer de hefinrichting in transportstand staat en de rijsnelheid meer dan 8 km per uur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ls bij het deinen het werktuig naar beneden gaat, neemt de kracht op de meetpennen in de trekstangen toe. Dit wordt gemeten en de regelschuif zal via de cve geactiveerd worden. De cve laat de hefstangen zakken over maximaal 4% vanaf de middelste positie. Bij de teruggaande beweging van het werktuig ontstaat een sterke  verlaging  van  de  kracht  op  de  krachtmeetpennen  in  de  trekstangen.  Daardoor  wordt  de  regelschuif opnieuw  aangestuurd.  De  hef  gaat  weer  omhoog  tot  de  oorspronkelijk  ingestelde  waarde.  De  percentages hebben betrekking op de totale hefhoog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 actieve schokdemping zorgt ervoor dat de beweging van het werktuig wordt gesmoord en heeft daarmee indirect effect op de trekker. De krachten op de voor- en achteras hebben minder grote pieken, waardoor de kans op breuk en slijtage wordt verminde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70D9F-123E-415C-8921-802B1F710CA4}"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 actieve schokdemping wordt soms ook een passieve schokdemping toegepast. Hiervoor staat de drukleiding naar de hefcilinders in verbinding met een stikstof-accumulator. Bij een bepaalde snelheid of door een druk op de knop wordt de stikstofaccumulator verbonden met de drukleiding en kunnen de hefcilinders enigszins ‘veren’. Dit relatief eenvoudige systeem is ook uiterst effectief voor het dempen van piekbelastingen in het stangenstelsel van de hefinrichting, die tijdens transport ontsta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nog meer comfort en een nog betere stabiliteit te hebben zijn bij enkele trekkers de voorassen geveerd. Sommige van deze systemen kun je elektronisch in- en uitschakelen. Normaal staat het veersysteem ingescha- keld. Indien gewenst kun je het uitschakelen. Bij snelheden van bijvoorbeeld meer dan 12 km/uur wordt bij sommige trekkers het systeem automatisch ingeschakeld. Je kunt het dan niet meer handmatig uitschakele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27CA3-987D-4744-A847-44782C00D17A}"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333000" y="4343400"/>
            <a:ext cx="626436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oodzaak van het onderhoud van een hydraulieksyste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ydrauliekonderdelen werken met spelingen van enkel microns (1 micron is 0,001mm) verontreinigingen kunnen ernstige schade aanrichten, terwijl water in de onderdelen roest kan doen ontstaan. Roest en vuil kunnen vooral invloed hebben op de afdichting van nauwkeurig passende delen. Hierdoor zullen lekverliezen en warmteontwikkeling groter worden om de ontwikkelde warmte goed te kunnen afvoeren, moet het reservoir voldoende olie bevatten en een eventuele oliekoeler zijn werk naar behoren kunnen doen. Andere werkzaamheden aan het hydraulisch systeem moeten worden overgelaten aan de spec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ED649-8C72-4783-8A2A-7973501DADCE}"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omt alleen het elektronische gedeelte aan de o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elektronisch geregelde hefinrichting heeft drie sensoren. Twee daarvan meten de trekkracht. Deze twee sensoren zitten in dikke pennen, de zogenaamde trekkrachtmeetpennen. Daarnaast is er nog een derde sen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 weten de positiesensor. Deze sensor meet de stand van de hefar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sensoren  leveren  tezamen  de  signalen  aan  de  cve.  Deze  stuurt  het  hydraulische  gedeelte  aan.  Het hydraulisch gedeelte brengt de hefinrichting in de gewenste posit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4187-35B4-46FB-92D7-E4D09B49D4A2}"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333000" y="4343400"/>
            <a:ext cx="6335640" cy="4114800"/>
          </a:xfrm>
          <a:prstGeom prst="rect">
            <a:avLst/>
          </a:prstGeom>
          <a:noFill/>
          <a:ln w="0">
            <a:noFill/>
          </a:ln>
        </p:spPr>
        <p:txBody>
          <a:bodyPr anchor="t">
            <a:noAutofit/>
          </a:bodyPr>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200" spc="-1" strike="noStrike">
                <a:solidFill>
                  <a:srgbClr val="000000"/>
                </a:solidFill>
                <a:latin typeface="Arial"/>
              </a:rPr>
              <a:t>Elektronische hefregeling </a:t>
            </a:r>
            <a:r>
              <a:rPr b="1" lang="nl-NL" sz="1200" spc="-1" strike="noStrike">
                <a:solidFill>
                  <a:srgbClr val="000000"/>
                </a:solidFill>
                <a:latin typeface="Arial"/>
              </a:rPr>
              <a:t>(EHR)</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hefinrichting van een trekker is een belangrijk onderdeel, omdat veel werktuigen daaraan bevestigd worden. Een gemakkelijke en nauwkeurige bediening is dan ook een vereiste.</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veel trekkers wordt het hydraulische hefsysteem van de hefinrichting elektronisch geregeld: </a:t>
            </a:r>
            <a:r>
              <a:rPr b="0" i="1" lang="nl-NL" sz="1200" spc="-1" strike="noStrike">
                <a:solidFill>
                  <a:srgbClr val="000000"/>
                </a:solidFill>
                <a:latin typeface="Arial"/>
              </a:rPr>
              <a:t>EHR </a:t>
            </a:r>
            <a:r>
              <a:rPr b="0" lang="nl-NL" sz="1200" spc="-1" strike="noStrike">
                <a:solidFill>
                  <a:srgbClr val="000000"/>
                </a:solidFill>
                <a:latin typeface="Arial"/>
              </a:rPr>
              <a:t>(elektronische hefregeling).</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lektronische hefregeling heeft de volgende voordelen.</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nl-NL" sz="1200" spc="-1" strike="noStrike">
                <a:solidFill>
                  <a:srgbClr val="000000"/>
                </a:solidFill>
                <a:latin typeface="Arial"/>
              </a:rPr>
              <a:t>	</a:t>
            </a:r>
            <a:r>
              <a:rPr b="0" lang="nl-NL" sz="1200" spc="-1" strike="noStrike">
                <a:solidFill>
                  <a:srgbClr val="000000"/>
                </a:solidFill>
                <a:latin typeface="Arial"/>
              </a:rPr>
              <a:t>De hef kan snel en nauwkeurig bediend worden.</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nl-NL" sz="1200" spc="-1" strike="noStrike">
                <a:solidFill>
                  <a:srgbClr val="000000"/>
                </a:solidFill>
                <a:latin typeface="Arial"/>
              </a:rPr>
              <a:t>	</a:t>
            </a:r>
            <a:r>
              <a:rPr b="0" lang="nl-NL" sz="1200" spc="-1" strike="noStrike">
                <a:solidFill>
                  <a:srgbClr val="000000"/>
                </a:solidFill>
                <a:latin typeface="Arial"/>
              </a:rPr>
              <a:t>Er is geen mechanische verbinding tussen de achterbrug van de trekker en de cabine.</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nl-NL" sz="1200" spc="-1" strike="noStrike">
                <a:solidFill>
                  <a:srgbClr val="000000"/>
                </a:solidFill>
                <a:latin typeface="Arial"/>
              </a:rPr>
              <a:t>	</a:t>
            </a:r>
            <a:r>
              <a:rPr b="0" lang="nl-NL" sz="1200" spc="-1" strike="noStrike">
                <a:solidFill>
                  <a:srgbClr val="000000"/>
                </a:solidFill>
                <a:latin typeface="Arial"/>
              </a:rPr>
              <a:t>Elektronische componenten vergen nagenoeg geen onderhoud.</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nl-NL" sz="1200" spc="-1" strike="noStrike">
                <a:solidFill>
                  <a:srgbClr val="000000"/>
                </a:solidFill>
                <a:latin typeface="Arial"/>
              </a:rPr>
              <a:t>	</a:t>
            </a:r>
            <a:r>
              <a:rPr b="0" lang="nl-NL" sz="1200" spc="-1" strike="noStrike">
                <a:solidFill>
                  <a:srgbClr val="000000"/>
                </a:solidFill>
                <a:latin typeface="Arial"/>
              </a:rPr>
              <a:t>Elektronische componenten zijn weinig onderhevig aan slij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8867-C94A-4861-A6A1-E92FACB2FE96}"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Centrale verwerkingseen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het bedieningspaneel kan de bestuurder de elektronische hefinrichting bedienen. Door de draaiknoppen en de schakelaars te bedienen worden er stroompjes doorgegeven naar de cve. De cve stuurt dan op zijn beurt weer de elektrohydraulische stuurschuiven aa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2ABE-15D5-4068-922D-18543A941392}"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3EC3-CD59-4664-B558-765B23355403}"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trekkrachtmeetpennen verbinden de trekstangen van de hefinrichting met de trekker. De trekkracht- meetpennen zijn hol. Binnenin bevindt zich elektronica. De belasting van de trekkrachtmeetpen kan door deze elektronica gemeten worden. Wanneer er een grondbewerkingswerktuig door de grond getrokken wordt, bij- voorbeeld een ploeg of een cultivator, trekt deze aan de trekstangen en belast zo de trekkrachtmeetpen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belasting van de trekkrachtmeetpennen wordt met een elektrisch signaal doorgegeven aan de c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4C30-34CF-4CED-A0D6-729AE66FBC5F}"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ositiesensor meet de positie van de hefarmen. Om de positie van de hefarmen te mete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sensor door een excentriek verbonden met de hefas. Naarmate de hef hoger staat wordt de sensor verder ingedrukt en geeft hij meer spanning naar de c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1D45D-70EC-400C-AB06-591B4D2DE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FE0CD-4CC3-4B3E-87C6-5FFDEB199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1C690-2DE8-4FCF-9AC0-88CBB3CD5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A3001-592C-43DB-AE47-F200C1FE7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B9AEC-E4C8-4DB8-9251-9C833B827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68F96-7BDF-4FD9-BA4D-9D770CCCA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1B312-A3C7-45D9-8606-0F98EFEA9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BDB7A-4CDA-4E41-8B1A-DEC231F20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369D8-7C52-4BC4-BD3D-66E6191F5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D4D69-E316-4EA8-99F5-99B3347E8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2A88E-B701-47AA-AAA4-BB70685B5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0F65D-67B7-4CB2-A297-75B0EF00C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BD4C4-E2AE-425C-AA58-8C4F1384D570}" type="slidenum">
              <a:rPr b="0" lang="nl-NL"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Object 7"/>
          <p:cNvGraphicFramePr/>
          <p:nvPr/>
        </p:nvGraphicFramePr>
        <p:xfrm>
          <a:off x="3203640" y="2421000"/>
          <a:ext cx="5400720" cy="4124160"/>
        </p:xfrm>
        <a:graphic>
          <a:graphicData uri="http://schemas.openxmlformats.org/presentationml/2006/ole">
            <p:oleObj r:id="rId1" spid="">
              <p:embed/>
              <p:pic>
                <p:nvPicPr>
                  <p:cNvPr id="49" name="Object 7" descr=""/>
                  <p:cNvPicPr/>
                  <p:nvPr/>
                </p:nvPicPr>
                <p:blipFill>
                  <a:blip r:embed="rId2"/>
                  <a:stretch/>
                </p:blipFill>
                <p:spPr>
                  <a:xfrm>
                    <a:off x="3203640" y="2421000"/>
                    <a:ext cx="5400720" cy="4124160"/>
                  </a:xfrm>
                  <a:prstGeom prst="rect">
                    <a:avLst/>
                  </a:prstGeom>
                  <a:ln w="0">
                    <a:noFill/>
                  </a:ln>
                </p:spPr>
              </p:pic>
            </p:oleObj>
          </a:graphicData>
        </a:graphic>
      </p:graphicFrame>
      <p:sp>
        <p:nvSpPr>
          <p:cNvPr id="50" name="Text Box 4"/>
          <p:cNvSpPr/>
          <p:nvPr/>
        </p:nvSpPr>
        <p:spPr>
          <a:xfrm>
            <a:off x="1908000" y="476280"/>
            <a:ext cx="4584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lektronische regeling van de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ydraulische hefinrichtig</a:t>
            </a:r>
            <a:endParaRPr b="1" lang="en-US" sz="2400" spc="-1" strike="noStrike">
              <a:solidFill>
                <a:srgbClr val="000000"/>
              </a:solidFill>
              <a:latin typeface="Arial"/>
            </a:endParaRPr>
          </a:p>
        </p:txBody>
      </p:sp>
      <p:sp>
        <p:nvSpPr>
          <p:cNvPr id="51" name="Text Box 5"/>
          <p:cNvSpPr/>
          <p:nvPr/>
        </p:nvSpPr>
        <p:spPr>
          <a:xfrm>
            <a:off x="324000" y="1700280"/>
            <a:ext cx="849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doel van de hefinrichting is het heffen en dragen van werktuigen, op een vastgestelde hoogte houden van een werktuig en het regelen van een bepaalde werkdiepte bij grondbewerk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rcRect l="21743" t="44641" r="0" b="0"/>
          <a:stretch/>
        </p:blipFill>
        <p:spPr>
          <a:xfrm>
            <a:off x="0" y="1773360"/>
            <a:ext cx="9144000" cy="490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826920" y="2164680"/>
            <a:ext cx="705816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n elektronische hefregeling heeft over het algemeen de volgende instelmogelijkheden:</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keuze tussen positieregeling en trekkrachtregeling;</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werkhoogte/werkdiepte;</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begrenzing hefhoogte;</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werkschakelaar;</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daalsnelheid;</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reactiesnelheid;</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dansonderdrukking.</a:t>
            </a:r>
            <a:endParaRPr b="1" lang="en-US" sz="1600" spc="-1" strike="noStrike">
              <a:solidFill>
                <a:srgbClr val="000000"/>
              </a:solidFill>
              <a:latin typeface="Arial"/>
            </a:endParaRPr>
          </a:p>
        </p:txBody>
      </p:sp>
      <p:sp>
        <p:nvSpPr>
          <p:cNvPr id="74" name="Rectangle 5"/>
          <p:cNvSpPr/>
          <p:nvPr/>
        </p:nvSpPr>
        <p:spPr>
          <a:xfrm>
            <a:off x="3419280" y="54936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Instelling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250920" y="2048040"/>
            <a:ext cx="8496360" cy="304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Rectangle 5"/>
          <p:cNvSpPr/>
          <p:nvPr/>
        </p:nvSpPr>
        <p:spPr>
          <a:xfrm>
            <a:off x="1764360" y="476280"/>
            <a:ext cx="512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Positieregeling-trekkrachtregeling</a:t>
            </a:r>
            <a:endParaRPr b="1" lang="en-US" sz="2400" spc="-1" strike="noStrike">
              <a:solidFill>
                <a:srgbClr val="000000"/>
              </a:solidFill>
              <a:latin typeface="Arial"/>
            </a:endParaRPr>
          </a:p>
        </p:txBody>
      </p:sp>
      <p:pic>
        <p:nvPicPr>
          <p:cNvPr id="77" name="Afbeelding 1" descr=""/>
          <p:cNvPicPr/>
          <p:nvPr/>
        </p:nvPicPr>
        <p:blipFill>
          <a:blip r:embed="rId1"/>
          <a:stretch/>
        </p:blipFill>
        <p:spPr>
          <a:xfrm>
            <a:off x="2440080" y="1312920"/>
            <a:ext cx="4292640" cy="420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539640" y="3276720"/>
            <a:ext cx="7777440" cy="304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Rectangle 5"/>
          <p:cNvSpPr/>
          <p:nvPr/>
        </p:nvSpPr>
        <p:spPr>
          <a:xfrm>
            <a:off x="2844360" y="692280"/>
            <a:ext cx="361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erkhoogte/werkdiepte</a:t>
            </a:r>
            <a:endParaRPr b="1" lang="en-US" sz="2400" spc="-1" strike="noStrike">
              <a:solidFill>
                <a:srgbClr val="000000"/>
              </a:solidFill>
              <a:latin typeface="Arial"/>
            </a:endParaRPr>
          </a:p>
        </p:txBody>
      </p:sp>
      <p:pic>
        <p:nvPicPr>
          <p:cNvPr id="80" name="Afbeelding 1" descr=""/>
          <p:cNvPicPr/>
          <p:nvPr/>
        </p:nvPicPr>
        <p:blipFill>
          <a:blip r:embed="rId1"/>
          <a:stretch/>
        </p:blipFill>
        <p:spPr>
          <a:xfrm>
            <a:off x="2867040" y="1824120"/>
            <a:ext cx="3433680" cy="318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539640" y="3276720"/>
            <a:ext cx="7777440" cy="304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Rectangle 5"/>
          <p:cNvSpPr/>
          <p:nvPr/>
        </p:nvSpPr>
        <p:spPr>
          <a:xfrm>
            <a:off x="3565800" y="692280"/>
            <a:ext cx="168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Hefhoogte</a:t>
            </a:r>
            <a:endParaRPr b="1" lang="en-US" sz="2400" spc="-1" strike="noStrike">
              <a:solidFill>
                <a:srgbClr val="000000"/>
              </a:solidFill>
              <a:latin typeface="Arial"/>
            </a:endParaRPr>
          </a:p>
        </p:txBody>
      </p:sp>
      <p:pic>
        <p:nvPicPr>
          <p:cNvPr id="83" name="Afbeelding 1" descr=""/>
          <p:cNvPicPr/>
          <p:nvPr/>
        </p:nvPicPr>
        <p:blipFill>
          <a:blip r:embed="rId1"/>
          <a:stretch/>
        </p:blipFill>
        <p:spPr>
          <a:xfrm>
            <a:off x="2700360" y="1841400"/>
            <a:ext cx="3452760" cy="377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250920" y="3276720"/>
            <a:ext cx="8569080" cy="304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Rectangle 5"/>
          <p:cNvSpPr/>
          <p:nvPr/>
        </p:nvSpPr>
        <p:spPr>
          <a:xfrm>
            <a:off x="3135960" y="69228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Werkschakelaar</a:t>
            </a:r>
            <a:endParaRPr b="1" lang="en-US" sz="2400" spc="-1" strike="noStrike">
              <a:solidFill>
                <a:srgbClr val="000000"/>
              </a:solidFill>
              <a:latin typeface="Arial"/>
            </a:endParaRPr>
          </a:p>
        </p:txBody>
      </p:sp>
      <p:pic>
        <p:nvPicPr>
          <p:cNvPr id="86" name="Afbeelding 1" descr=""/>
          <p:cNvPicPr/>
          <p:nvPr/>
        </p:nvPicPr>
        <p:blipFill>
          <a:blip r:embed="rId1"/>
          <a:stretch/>
        </p:blipFill>
        <p:spPr>
          <a:xfrm>
            <a:off x="3359160" y="1673280"/>
            <a:ext cx="2508120" cy="3397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179280" y="3246480"/>
            <a:ext cx="871380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Rectangle 5"/>
          <p:cNvSpPr/>
          <p:nvPr/>
        </p:nvSpPr>
        <p:spPr>
          <a:xfrm>
            <a:off x="3205440" y="620640"/>
            <a:ext cx="20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Daalsnelheid</a:t>
            </a:r>
            <a:endParaRPr b="1" lang="en-US" sz="2400" spc="-1" strike="noStrike">
              <a:solidFill>
                <a:srgbClr val="000000"/>
              </a:solidFill>
              <a:latin typeface="Arial"/>
            </a:endParaRPr>
          </a:p>
        </p:txBody>
      </p:sp>
      <p:pic>
        <p:nvPicPr>
          <p:cNvPr id="89" name="Afbeelding 1" descr=""/>
          <p:cNvPicPr/>
          <p:nvPr/>
        </p:nvPicPr>
        <p:blipFill>
          <a:blip r:embed="rId1"/>
          <a:stretch/>
        </p:blipFill>
        <p:spPr>
          <a:xfrm>
            <a:off x="2771640" y="1738440"/>
            <a:ext cx="3240360" cy="374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2195640" y="188640"/>
            <a:ext cx="4176720" cy="1178640"/>
          </a:xfrm>
          <a:prstGeom prst="rect">
            <a:avLst/>
          </a:prstGeom>
          <a:noFill/>
          <a:ln w="0">
            <a:noFill/>
          </a:ln>
        </p:spPr>
        <p:style>
          <a:lnRef idx="0"/>
          <a:fillRef idx="0"/>
          <a:effectRef idx="0"/>
          <a:fontRef idx="minor"/>
        </p:style>
        <p:txBody>
          <a:bodyPr lIns="647640" rIns="647640" tIns="63468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ansonderdrukking</a:t>
            </a:r>
            <a:endParaRPr b="1" lang="en-US" sz="2400" spc="-1" strike="noStrike">
              <a:solidFill>
                <a:srgbClr val="000000"/>
              </a:solidFill>
              <a:latin typeface="Arial"/>
            </a:endParaRPr>
          </a:p>
        </p:txBody>
      </p:sp>
      <p:pic>
        <p:nvPicPr>
          <p:cNvPr id="91" name="Picture 5" descr=""/>
          <p:cNvPicPr/>
          <p:nvPr/>
        </p:nvPicPr>
        <p:blipFill>
          <a:blip r:embed="rId1"/>
          <a:stretch/>
        </p:blipFill>
        <p:spPr>
          <a:xfrm>
            <a:off x="826920" y="2349360"/>
            <a:ext cx="3503880" cy="1568520"/>
          </a:xfrm>
          <a:prstGeom prst="rect">
            <a:avLst/>
          </a:prstGeom>
          <a:ln w="0">
            <a:noFill/>
          </a:ln>
        </p:spPr>
      </p:pic>
      <p:pic>
        <p:nvPicPr>
          <p:cNvPr id="92" name="Picture 6" descr=""/>
          <p:cNvPicPr/>
          <p:nvPr/>
        </p:nvPicPr>
        <p:blipFill>
          <a:blip r:embed="rId2"/>
          <a:stretch/>
        </p:blipFill>
        <p:spPr>
          <a:xfrm>
            <a:off x="4572000" y="2276640"/>
            <a:ext cx="3503520" cy="1425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5"/>
          <p:cNvSpPr/>
          <p:nvPr/>
        </p:nvSpPr>
        <p:spPr>
          <a:xfrm>
            <a:off x="3061080" y="692280"/>
            <a:ext cx="23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Schokdemp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1984680" y="765000"/>
            <a:ext cx="44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derhoud van de hefinrichting</a:t>
            </a:r>
            <a:endParaRPr b="1" lang="en-US" sz="2400" spc="-1" strike="noStrike">
              <a:solidFill>
                <a:srgbClr val="000000"/>
              </a:solidFill>
              <a:latin typeface="Arial"/>
            </a:endParaRPr>
          </a:p>
        </p:txBody>
      </p:sp>
      <p:sp>
        <p:nvSpPr>
          <p:cNvPr id="95" name="Text Box 5"/>
          <p:cNvSpPr/>
          <p:nvPr/>
        </p:nvSpPr>
        <p:spPr>
          <a:xfrm>
            <a:off x="627120" y="1484280"/>
            <a:ext cx="8516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onderhoud van het hydraulisch systeem van een tracto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troleren van het oliepijl</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versen van de hydrauliek oli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vervangen van de hydrauliek filter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reinigen van de ontluchtingsfilter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schoonhouden van de hydrauliekolie-koeler</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schoonhouden en repareren van de snelkoppelingen</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troleren van leidingen op lekkag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611280" y="4181040"/>
            <a:ext cx="7920000" cy="15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Een elektronische hefregeling bestaat ui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r>
              <a:rPr b="1" lang="nl-NL" sz="1400" spc="-1" strike="noStrike">
                <a:solidFill>
                  <a:srgbClr val="000000"/>
                </a:solidFill>
                <a:latin typeface="Arial"/>
              </a:rPr>
              <a:t>een mechanisch gedeelte met de hef- en trekstangen; een hydraulisch gedeelte met hefcilinder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53" name="Object 5"/>
          <p:cNvGraphicFramePr/>
          <p:nvPr/>
        </p:nvGraphicFramePr>
        <p:xfrm>
          <a:off x="395280" y="765000"/>
          <a:ext cx="3189240" cy="3240360"/>
        </p:xfrm>
        <a:graphic>
          <a:graphicData uri="http://schemas.openxmlformats.org/presentationml/2006/ole">
            <p:oleObj r:id="rId1" spid="">
              <p:embed/>
              <p:pic>
                <p:nvPicPr>
                  <p:cNvPr id="54" name="Object 5" descr=""/>
                  <p:cNvPicPr/>
                  <p:nvPr/>
                </p:nvPicPr>
                <p:blipFill>
                  <a:blip r:embed="rId2"/>
                  <a:stretch/>
                </p:blipFill>
                <p:spPr>
                  <a:xfrm>
                    <a:off x="395280" y="765000"/>
                    <a:ext cx="3189240" cy="3240360"/>
                  </a:xfrm>
                  <a:prstGeom prst="rect">
                    <a:avLst/>
                  </a:prstGeom>
                  <a:ln w="0">
                    <a:noFill/>
                  </a:ln>
                </p:spPr>
              </p:pic>
            </p:oleObj>
          </a:graphicData>
        </a:graphic>
      </p:graphicFrame>
      <p:graphicFrame>
        <p:nvGraphicFramePr>
          <p:cNvPr id="55" name="Object 6"/>
          <p:cNvGraphicFramePr/>
          <p:nvPr/>
        </p:nvGraphicFramePr>
        <p:xfrm>
          <a:off x="4211640" y="907920"/>
          <a:ext cx="4465800" cy="3762360"/>
        </p:xfrm>
        <a:graphic>
          <a:graphicData uri="http://schemas.openxmlformats.org/presentationml/2006/ole">
            <p:oleObj r:id="rId3" spid="">
              <p:embed/>
              <p:pic>
                <p:nvPicPr>
                  <p:cNvPr id="56" name="Object 6" descr=""/>
                  <p:cNvPicPr/>
                  <p:nvPr/>
                </p:nvPicPr>
                <p:blipFill>
                  <a:blip r:embed="rId4"/>
                  <a:stretch/>
                </p:blipFill>
                <p:spPr>
                  <a:xfrm>
                    <a:off x="4211640" y="907920"/>
                    <a:ext cx="4465800" cy="3762360"/>
                  </a:xfrm>
                  <a:prstGeom prst="rect">
                    <a:avLst/>
                  </a:prstGeom>
                  <a:ln w="0">
                    <a:noFill/>
                  </a:ln>
                </p:spPr>
              </p:pic>
            </p:oleObj>
          </a:graphicData>
        </a:graphic>
      </p:graphicFrame>
      <p:sp>
        <p:nvSpPr>
          <p:cNvPr id="57" name="Rectangle 7"/>
          <p:cNvSpPr/>
          <p:nvPr/>
        </p:nvSpPr>
        <p:spPr>
          <a:xfrm>
            <a:off x="3059280" y="476280"/>
            <a:ext cx="28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Bouw en werk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
          <p:cNvPicPr/>
          <p:nvPr/>
        </p:nvPicPr>
        <p:blipFill>
          <a:blip r:embed="rId1"/>
          <a:stretch/>
        </p:blipFill>
        <p:spPr>
          <a:xfrm>
            <a:off x="900000" y="549360"/>
            <a:ext cx="7488360" cy="5213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68360" y="1564200"/>
            <a:ext cx="8028000" cy="3501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Noem drie voordelen van een elektronische hefinrichting.</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Uit welke onderdelen bestaat het elektronische deel van de hefinrichting?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schrijf de werking van de trekkrachtmeetpenne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Noem zes instelmogelijkheden van de elektronische hefregeling.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Welke voordelen biedt het dansonderdrukkingsystee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pdrach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oek bij de verschillende regelingen van de Elektronische hefinrichting, plaatjes, tekeningen of foto’s van bedieningspanelen die je kunt gebruiken naast de uitleg op de sheets</a:t>
            </a:r>
            <a:endParaRPr b="1" lang="en-US" sz="1600" spc="-1" strike="noStrike">
              <a:solidFill>
                <a:srgbClr val="000000"/>
              </a:solidFill>
              <a:latin typeface="Arial"/>
            </a:endParaRPr>
          </a:p>
        </p:txBody>
      </p:sp>
      <p:sp>
        <p:nvSpPr>
          <p:cNvPr id="98" name="Rectangle 5"/>
          <p:cNvSpPr/>
          <p:nvPr/>
        </p:nvSpPr>
        <p:spPr>
          <a:xfrm>
            <a:off x="3926160" y="260280"/>
            <a:ext cx="339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agen en opdracht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
          <p:cNvPicPr/>
          <p:nvPr/>
        </p:nvPicPr>
        <p:blipFill>
          <a:blip r:embed="rId1"/>
          <a:stretch/>
        </p:blipFill>
        <p:spPr>
          <a:xfrm>
            <a:off x="2124000" y="1413000"/>
            <a:ext cx="6193080" cy="5232240"/>
          </a:xfrm>
          <a:prstGeom prst="rect">
            <a:avLst/>
          </a:prstGeom>
          <a:ln w="0">
            <a:noFill/>
          </a:ln>
        </p:spPr>
      </p:pic>
      <p:sp>
        <p:nvSpPr>
          <p:cNvPr id="59" name="Text Box 6"/>
          <p:cNvSpPr/>
          <p:nvPr/>
        </p:nvSpPr>
        <p:spPr>
          <a:xfrm>
            <a:off x="2346120" y="620640"/>
            <a:ext cx="424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onderdelen in een schem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
          <p:cNvPicPr/>
          <p:nvPr/>
        </p:nvPicPr>
        <p:blipFill>
          <a:blip r:embed="rId1"/>
          <a:srcRect l="30189" t="0" r="0" b="0"/>
          <a:stretch/>
        </p:blipFill>
        <p:spPr>
          <a:xfrm>
            <a:off x="826920" y="1413000"/>
            <a:ext cx="7993080" cy="521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
          <p:cNvPicPr/>
          <p:nvPr/>
        </p:nvPicPr>
        <p:blipFill>
          <a:blip r:embed="rId1"/>
          <a:srcRect l="0" t="0" r="51329" b="71552"/>
          <a:stretch/>
        </p:blipFill>
        <p:spPr>
          <a:xfrm>
            <a:off x="1835280" y="2276640"/>
            <a:ext cx="5689440" cy="2585880"/>
          </a:xfrm>
          <a:prstGeom prst="rect">
            <a:avLst/>
          </a:prstGeom>
          <a:ln w="0">
            <a:noFill/>
          </a:ln>
        </p:spPr>
      </p:pic>
      <p:sp>
        <p:nvSpPr>
          <p:cNvPr id="62" name="Text Box 7"/>
          <p:cNvSpPr/>
          <p:nvPr/>
        </p:nvSpPr>
        <p:spPr>
          <a:xfrm>
            <a:off x="1600560" y="639720"/>
            <a:ext cx="503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t bedieningspannel en de CV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rcRect l="0" t="38321" r="57153" b="18946"/>
          <a:stretch/>
        </p:blipFill>
        <p:spPr>
          <a:xfrm>
            <a:off x="3348000" y="2349360"/>
            <a:ext cx="4186440" cy="352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250920" y="4741920"/>
            <a:ext cx="889308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5" name="Picture 5" descr=""/>
          <p:cNvPicPr/>
          <p:nvPr/>
        </p:nvPicPr>
        <p:blipFill>
          <a:blip r:embed="rId1"/>
          <a:stretch/>
        </p:blipFill>
        <p:spPr>
          <a:xfrm>
            <a:off x="468360" y="1557360"/>
            <a:ext cx="2897280" cy="2529000"/>
          </a:xfrm>
          <a:prstGeom prst="rect">
            <a:avLst/>
          </a:prstGeom>
          <a:ln w="0">
            <a:noFill/>
          </a:ln>
        </p:spPr>
      </p:pic>
      <p:sp>
        <p:nvSpPr>
          <p:cNvPr id="66" name="Rectangle 6"/>
          <p:cNvSpPr/>
          <p:nvPr/>
        </p:nvSpPr>
        <p:spPr>
          <a:xfrm>
            <a:off x="2920680" y="476280"/>
            <a:ext cx="309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Trekkrachtsensoren</a:t>
            </a:r>
            <a:endParaRPr b="1" lang="en-US" sz="2400" spc="-1" strike="noStrike">
              <a:solidFill>
                <a:srgbClr val="000000"/>
              </a:solidFill>
              <a:latin typeface="Arial"/>
            </a:endParaRPr>
          </a:p>
        </p:txBody>
      </p:sp>
      <p:pic>
        <p:nvPicPr>
          <p:cNvPr id="67" name="Picture 7" descr=""/>
          <p:cNvPicPr/>
          <p:nvPr/>
        </p:nvPicPr>
        <p:blipFill>
          <a:blip r:embed="rId2"/>
          <a:srcRect l="38344" t="17219" r="0" b="0"/>
          <a:stretch/>
        </p:blipFill>
        <p:spPr>
          <a:xfrm>
            <a:off x="4500720" y="3267000"/>
            <a:ext cx="4643280" cy="359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
          <p:cNvPicPr/>
          <p:nvPr/>
        </p:nvPicPr>
        <p:blipFill>
          <a:blip r:embed="rId1"/>
          <a:stretch/>
        </p:blipFill>
        <p:spPr>
          <a:xfrm>
            <a:off x="250920" y="1341360"/>
            <a:ext cx="4321080" cy="2168640"/>
          </a:xfrm>
          <a:prstGeom prst="rect">
            <a:avLst/>
          </a:prstGeom>
          <a:ln w="0">
            <a:noFill/>
          </a:ln>
        </p:spPr>
      </p:pic>
      <p:sp>
        <p:nvSpPr>
          <p:cNvPr id="69" name="Rectangle 6"/>
          <p:cNvSpPr/>
          <p:nvPr/>
        </p:nvSpPr>
        <p:spPr>
          <a:xfrm>
            <a:off x="3134160" y="404640"/>
            <a:ext cx="21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Positiesensor</a:t>
            </a:r>
            <a:endParaRPr b="1" lang="en-US" sz="2400" spc="-1" strike="noStrike">
              <a:solidFill>
                <a:srgbClr val="000000"/>
              </a:solidFill>
              <a:latin typeface="Arial"/>
            </a:endParaRPr>
          </a:p>
        </p:txBody>
      </p:sp>
      <p:pic>
        <p:nvPicPr>
          <p:cNvPr id="70" name="Picture 7" descr=""/>
          <p:cNvPicPr/>
          <p:nvPr/>
        </p:nvPicPr>
        <p:blipFill>
          <a:blip r:embed="rId2"/>
          <a:srcRect l="38344" t="17219" r="0" b="0"/>
          <a:stretch/>
        </p:blipFill>
        <p:spPr>
          <a:xfrm>
            <a:off x="4643280" y="3378240"/>
            <a:ext cx="4500720" cy="3479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
          <p:cNvPicPr/>
          <p:nvPr/>
        </p:nvPicPr>
        <p:blipFill>
          <a:blip r:embed="rId1"/>
          <a:stretch/>
        </p:blipFill>
        <p:spPr>
          <a:xfrm>
            <a:off x="250920" y="1469880"/>
            <a:ext cx="8523360" cy="490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27:41Z</dcterms:created>
  <dc:creator>swassink</dc:creator>
  <dc:description/>
  <dc:language>en-US</dc:language>
  <cp:lastModifiedBy>Piet de Beijer</cp:lastModifiedBy>
  <dcterms:modified xsi:type="dcterms:W3CDTF">2019-10-07T18:32:55Z</dcterms:modified>
  <cp:revision>6</cp:revision>
  <dc:subject/>
  <dc:title>Dia 1</dc:title>
</cp:coreProperties>
</file>