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8.jpeg" ContentType="image/jpeg"/>
  <Override PartName="/ppt/media/image23.wmf" ContentType="image/x-wmf"/>
  <Override PartName="/ppt/media/image27.jpeg" ContentType="image/jpeg"/>
  <Override PartName="/ppt/media/image21.jpeg" ContentType="image/jpeg"/>
  <Override PartName="/ppt/media/image20.jpeg" ContentType="image/jpeg"/>
  <Override PartName="/ppt/media/image1.jpeg" ContentType="image/jpeg"/>
  <Override PartName="/ppt/media/image7.png" ContentType="image/png"/>
  <Override PartName="/ppt/media/image22.jpeg" ContentType="image/jpeg"/>
  <Override PartName="/ppt/media/image8.png" ContentType="image/png"/>
  <Override PartName="/ppt/media/image14.jpeg" ContentType="image/jpeg"/>
  <Override PartName="/ppt/media/image13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2.jpeg" ContentType="image/jpeg"/>
  <Override PartName="/ppt/media/image26.jpeg" ContentType="image/jpeg"/>
  <Override PartName="/ppt/media/image17.jpeg" ContentType="image/jpeg"/>
  <Override PartName="/ppt/media/image5.jpeg" ContentType="image/jpeg"/>
  <Override PartName="/ppt/media/image11.wmf" ContentType="image/x-wmf"/>
  <Override PartName="/ppt/media/image33.jpeg" ContentType="image/jpeg"/>
  <Override PartName="/ppt/media/image12.jpeg" ContentType="image/jpeg"/>
  <Override PartName="/ppt/media/image34.wmf" ContentType="image/x-wmf"/>
  <Override PartName="/ppt/media/image31.jpeg" ContentType="image/jpeg"/>
  <Override PartName="/ppt/media/image10.wmf" ContentType="image/x-wmf"/>
  <Override PartName="/ppt/media/image4.jpeg" ContentType="image/jpeg"/>
  <Override PartName="/ppt/media/image25.jpeg" ContentType="image/jpeg"/>
  <Override PartName="/ppt/media/image6.png" ContentType="image/png"/>
  <Override PartName="/ppt/media/image2.jpeg" ContentType="image/jpeg"/>
  <Override PartName="/ppt/media/image15.jpeg" ContentType="image/jpeg"/>
  <Override PartName="/ppt/media/image35.wmf" ContentType="image/x-wmf"/>
  <Override PartName="/ppt/media/image16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344B-7433-4810-AF4F-D3DFBEC08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8E8C-B47F-454D-ADA5-FEDC096E1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AF3D-7B19-4F9C-957B-3E6D3A21D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FC0F-B34A-41C2-A73D-A749EC504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241A-0035-47F7-AF4B-65C80EEEE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5312-7E89-4E6B-868B-4B030404E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2C15-B443-4C62-83E8-B7EDA62A9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F8C9-9374-4BFF-8BD6-98FEF1F03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A8DA-EC18-40B8-96B1-CC6A65356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2109-51D0-4EBA-B14D-D72DA5578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2587-D430-4E22-B266-B91DEE6F2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814B-3F80-4B6F-BAD5-C011B85A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48763-02E6-4D38-89BD-BAD7E1C8A6B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dezeure.be/img/fotos/beertonnen/Dec11_03.jpg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m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7559640" cy="50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rdringerpo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835280" y="1468440"/>
            <a:ext cx="550836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ifugaalpo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65164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ifugaalpo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84360" y="1484280"/>
            <a:ext cx="784836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ject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t- en regelge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deling per 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eluchting graszo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inder vervlieging van voedingsstoffen, minder kunstm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een versmering van gewa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inder geuroverl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mes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denbeme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uwland-inject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odenbeme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1952640"/>
            <a:ext cx="8229600" cy="38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odenbeme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3168360" cy="3132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50920" y="5013360"/>
            <a:ext cx="324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Doorsnee van 250 mm en een dikte v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2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4572000" y="1557360"/>
            <a:ext cx="4105440" cy="26668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4284720" y="4292640"/>
            <a:ext cx="45352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uwland-injecte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26920" y="1401840"/>
            <a:ext cx="752508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uwland-injecte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1413000"/>
            <a:ext cx="4643280" cy="3095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643280" y="3857760"/>
            <a:ext cx="45007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uwland-injecteu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4572000" cy="33163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572000" y="3543480"/>
            <a:ext cx="457200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h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oorten giert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m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ject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me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leepsl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derne technie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almeststroo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eepsla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55640" y="1401840"/>
            <a:ext cx="752472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eepsla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4500720" cy="3264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500720" y="3490920"/>
            <a:ext cx="464328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rne technie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pdrukcili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55640" y="1351080"/>
            <a:ext cx="7596360" cy="55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andendrukwisselsyste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68360" y="1557360"/>
            <a:ext cx="460872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ele tankinh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Optifill tank"/>
          <p:cNvPicPr/>
          <p:nvPr/>
        </p:nvPicPr>
        <p:blipFill>
          <a:blip r:embed="rId1"/>
          <a:stretch/>
        </p:blipFill>
        <p:spPr>
          <a:xfrm>
            <a:off x="755640" y="1916280"/>
            <a:ext cx="7632720" cy="38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ndenga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79280" y="1268280"/>
            <a:ext cx="5040360" cy="21672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4643280" y="3594240"/>
            <a:ext cx="4500720" cy="32637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0" y="3543480"/>
            <a:ext cx="457200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ur-achterw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19280" y="1700280"/>
            <a:ext cx="590400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meststroo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26920" y="1214280"/>
            <a:ext cx="752508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meststroo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716360" y="3500280"/>
            <a:ext cx="4032360" cy="28101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24000" y="1413000"/>
            <a:ext cx="3492360" cy="34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orten giert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nkel A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andem A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idem A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4 - A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meststroo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3960720" cy="2970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076720" y="4202280"/>
            <a:ext cx="4067280" cy="26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meststroo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 rot="5400000">
            <a:off x="1158120" y="2233080"/>
            <a:ext cx="2554200" cy="32180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 rot="5400000">
            <a:off x="5319360" y="2391840"/>
            <a:ext cx="28242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kel As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26920" y="1365120"/>
            <a:ext cx="7596360" cy="54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dem As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8360" y="1409760"/>
            <a:ext cx="817236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ridem As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8360" y="1362240"/>
            <a:ext cx="824400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 - As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68360" y="1379520"/>
            <a:ext cx="817236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m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cuümpo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dringerpo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entrifugaalpo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cuümpo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26920" y="1285920"/>
            <a:ext cx="742968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15:46:13Z</dcterms:created>
  <dc:creator>Harm v Eijck</dc:creator>
  <dc:description/>
  <dc:language>en-US</dc:language>
  <cp:lastModifiedBy>eme</cp:lastModifiedBy>
  <dcterms:modified xsi:type="dcterms:W3CDTF">2010-03-11T14:57:16Z</dcterms:modified>
  <cp:revision>3</cp:revision>
  <dc:subject/>
  <dc:title>Bemesting</dc:title>
</cp:coreProperties>
</file>