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D613-EC63-4F8E-A307-56B2C910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8B45-9B40-4498-8C53-41CED813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C56F-ADB2-4167-A077-62E2BD2F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2BE1-B498-4744-87C1-69BC3D9D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4833-6343-4EF5-84AA-EFB497D2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326B-BEA3-4194-8ADF-7D4C3154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8348-B0DD-4260-8111-BC920FDE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24A6-8435-4490-B635-4AA4C39C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9DBC-353D-42AB-AEA8-B6A9A02F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3E18-2D9F-4FE2-9D26-D4DFFB5B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CE9F-F4AD-4DEF-8B11-06801D14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1B04-DBFC-4E27-B7BE-CF5A06AE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5E60-398F-445F-9CD5-B753D6AE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BDC7-6963-4A75-884D-F9114386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229E-4269-4B97-A979-1AF51C33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5DE6-D613-480E-937E-71658BA1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6F83-A1A2-4DBE-9459-579CB067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F2870-B2AA-4C39-AC9A-0F74FFC3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EA26B-1E3F-43E3-8231-4DE8A5DA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AEF5F-44BC-4924-B421-9A5BA59E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50328-CAEE-44AF-AACC-EBD3FA14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829DA-86C0-4D4F-8B93-E46CFE3A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85E3-505A-4684-BED0-F82B368B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0A2B1-1401-4553-9A06-0DD4CD5D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13A95-0ECF-4299-AFCB-1E13F030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1E649-A741-43FA-B099-8C0E3B33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38903-DD3C-41C7-A202-20AF3F09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F6E17-3243-4156-8D14-F8F55209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9E468-5F4B-4D52-93B5-100CF609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310E7-B0C0-4F33-94F8-06367047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7FFB4-6482-4FC8-8AD3-5C63F96F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F6357-AA49-4163-AE87-6375A86E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3C678-891E-469E-BB0D-26BBD3E2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7D6B-9971-4F94-B67F-73A9F66A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B835D-0996-48D1-BC08-ED9AB1DA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B9CEC-7EDB-4070-8A69-17D431BA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5B61C-AE4A-40A1-AB8F-8313423A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EFD29-73B7-4C11-83BB-A67B8B16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181BF-12D0-4A33-B2AD-2B581616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3036C-C987-4456-8255-A3A1A22A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780DF-DC43-4F76-966F-DDFEAD86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493AF-1A32-444C-9EFF-9B048914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589A4-CDC8-489E-A2C1-55987B21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0574-4DC0-4387-A0EF-E764E589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D777-BF2E-42F4-B6AE-990279C0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B9D8-01C0-4E1A-B630-360C8D06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6A0B-B812-4B86-A14F-B60CD8DA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BAF7-2A51-4663-8ABF-C288AD82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1866-6182-404E-86F5-3B77E3C31F2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E96F-7DFD-46C4-BA5C-F1FBA9ABB57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6BF3-99BE-4904-BB8C-39FEA11C4BD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FFA3-B884-48EA-81E8-2F05DDB2FC5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hec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5 christelijke feestda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betekenis van de christelijke feestda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rhaling les 1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is zending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nneer begon zending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rhaling les 2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weet wat Pinksteren betek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weet hoe je lid van de kerk word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weet wat de doop betek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5 christelijke feestda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betekenis van de christelijke feestda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r>
              <a:rPr b="0" lang="nl-NL" sz="3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ristelijke feestdag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elke zijn 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Kerstfe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oede Vrijda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emelva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inkste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Kerstfee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eboorte van Jezus Christ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AutoShape 2"/>
          <p:cNvSpPr/>
          <p:nvPr/>
        </p:nvSpPr>
        <p:spPr>
          <a:xfrm>
            <a:off x="-3960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112680" y="15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Afbeelding 7" descr=""/>
          <p:cNvPicPr/>
          <p:nvPr/>
        </p:nvPicPr>
        <p:blipFill>
          <a:blip r:embed="rId1"/>
          <a:stretch/>
        </p:blipFill>
        <p:spPr>
          <a:xfrm>
            <a:off x="1403280" y="2774880"/>
            <a:ext cx="619776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oede Vrijda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Kruisiging van Jez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Afbeelding 3" descr=""/>
          <p:cNvPicPr/>
          <p:nvPr/>
        </p:nvPicPr>
        <p:blipFill>
          <a:blip r:embed="rId1"/>
          <a:stretch/>
        </p:blipFill>
        <p:spPr>
          <a:xfrm>
            <a:off x="1927080" y="3032280"/>
            <a:ext cx="480564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Pas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opstanding van Jezus uit de do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Afbeelding 4" descr=""/>
          <p:cNvPicPr/>
          <p:nvPr/>
        </p:nvPicPr>
        <p:blipFill>
          <a:blip r:embed="rId1"/>
          <a:stretch/>
        </p:blipFill>
        <p:spPr>
          <a:xfrm>
            <a:off x="22320" y="3213000"/>
            <a:ext cx="4535280" cy="3311640"/>
          </a:xfrm>
          <a:prstGeom prst="rect">
            <a:avLst/>
          </a:prstGeom>
          <a:ln w="0">
            <a:noFill/>
          </a:ln>
        </p:spPr>
      </p:pic>
      <p:pic>
        <p:nvPicPr>
          <p:cNvPr id="189" name="Afbeelding 5" descr=""/>
          <p:cNvPicPr/>
          <p:nvPr/>
        </p:nvPicPr>
        <p:blipFill>
          <a:blip r:embed="rId2"/>
          <a:stretch/>
        </p:blipFill>
        <p:spPr>
          <a:xfrm>
            <a:off x="4575240" y="3186000"/>
            <a:ext cx="4537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melvaar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Jezus gaat naar de hemel (naar zijn Vad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Afbeelding 3" descr=""/>
          <p:cNvPicPr/>
          <p:nvPr/>
        </p:nvPicPr>
        <p:blipFill>
          <a:blip r:embed="rId1"/>
          <a:stretch/>
        </p:blipFill>
        <p:spPr>
          <a:xfrm>
            <a:off x="3780000" y="2979720"/>
            <a:ext cx="403200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Pinkster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Pinkster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Uitstorting van de Heilige Gee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Afbeelding 3" descr=""/>
          <p:cNvPicPr/>
          <p:nvPr/>
        </p:nvPicPr>
        <p:blipFill>
          <a:blip r:embed="rId1"/>
          <a:stretch/>
        </p:blipFill>
        <p:spPr>
          <a:xfrm>
            <a:off x="0" y="4130640"/>
            <a:ext cx="4284720" cy="1984320"/>
          </a:xfrm>
          <a:prstGeom prst="rect">
            <a:avLst/>
          </a:prstGeom>
          <a:ln w="0">
            <a:noFill/>
          </a:ln>
        </p:spPr>
      </p:pic>
      <p:pic>
        <p:nvPicPr>
          <p:cNvPr id="196" name="Afbeelding 4" descr=""/>
          <p:cNvPicPr/>
          <p:nvPr/>
        </p:nvPicPr>
        <p:blipFill>
          <a:blip r:embed="rId2"/>
          <a:stretch/>
        </p:blipFill>
        <p:spPr>
          <a:xfrm>
            <a:off x="4572000" y="4005360"/>
            <a:ext cx="4032360" cy="2377800"/>
          </a:xfrm>
          <a:prstGeom prst="rect">
            <a:avLst/>
          </a:prstGeom>
          <a:ln w="0">
            <a:noFill/>
          </a:ln>
        </p:spPr>
      </p:pic>
      <p:pic>
        <p:nvPicPr>
          <p:cNvPr id="197" name="Afbeelding 5" descr=""/>
          <p:cNvPicPr/>
          <p:nvPr/>
        </p:nvPicPr>
        <p:blipFill>
          <a:blip r:embed="rId3"/>
          <a:stretch/>
        </p:blipFill>
        <p:spPr>
          <a:xfrm>
            <a:off x="5297400" y="115920"/>
            <a:ext cx="38307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7:49:46Z</dcterms:created>
  <dc:creator>Nuborgh College</dc:creator>
  <dc:description/>
  <dc:language>en-US</dc:language>
  <cp:lastModifiedBy>Windows-gebruiker</cp:lastModifiedBy>
  <dcterms:modified xsi:type="dcterms:W3CDTF">2021-08-30T13:10:24Z</dcterms:modified>
  <cp:revision>8</cp:revision>
  <dc:subject/>
  <dc:title>Zending – Les 2</dc:title>
</cp:coreProperties>
</file>