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271-E929-41EA-8988-7AC8202D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29E-3679-44C0-A2EB-E12F94FD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2F2-0FD4-4D89-BC27-1DDE5886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D43-97C1-42EE-BC60-4328490D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9340-447B-42A8-A915-EBA01AE0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877B-8686-4E34-8999-5AB6460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9117-BB9B-40F0-9FAB-AF778E2E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24FE-349D-4FF2-B43E-F9BCABCF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57D0-23EE-4847-9C2F-CA505B3F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E8BE-0320-46DD-849D-6EC059A5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A094-7DE8-4D1E-B9C0-5DF7F1E2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F7E-7715-459E-AA4D-6D977313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598A-4CAA-4F6F-B049-14A6BC10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ABC9-D49F-40F3-8CDC-EC4AFA45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29B0-DF27-46B4-A578-1CE84B22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ED9D-E39B-47E5-A64B-313DB3B7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0D1-A75A-4AAC-8C65-1087087B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7B35-DF11-4B4F-8D73-A6D74E0F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59E9-E8C6-4BC0-823A-B0659C6C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A2D7-9054-444F-ABFF-F247525A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0E12-97F9-45BE-AAE4-7CC0B919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D9F7-2473-4AD0-8CC8-7DE6F85A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D74-12D2-44EB-AE30-3BFC33DB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8F05-31E9-48BC-92EE-079A66F6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5AC6-6592-47D3-BF6E-9A6B4BA3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6C37-1A4D-4D7D-B6C4-E43935B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1715-E2AA-4177-8B35-E85CCC4E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80CD-4AC4-4A6C-A351-844CAD6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80C6-6159-463F-AAE1-5494A8F6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99C6-5A74-4321-A255-13699E8F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AF30-2107-43B0-81A5-FF2C2E1F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E4A6-4BC3-4060-83F8-BF23100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41EA-0590-4C12-9E4D-8559C519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F19-1588-4A06-9B52-5E3A41B0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F046-F9A9-48C0-B588-6D7EC470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26CC-F02B-42C3-8041-ED502B00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8E98-11C4-4318-A68F-521A3B3E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B884-E2E3-41B9-9C02-3A6E92CD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BE49-9166-4C51-B4A3-6DF67A7C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59A93-505F-402A-98F0-F820E31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EAEF-A28D-4B88-BBC3-FA853A92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61CC-7DA8-416E-8FF5-AC50582F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C690-D80F-41B3-843A-97A64CDB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5AD-DCF8-41EF-925D-96BCF04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97B-F960-4520-964C-AB92401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901-684A-4DE5-A4A8-412759E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AB9-A02E-4267-9D1A-C6DA05F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0FA-23AA-4BD0-A870-09DF3EA0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3043-8739-4EF4-B11F-DA30667DF04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FBDB-EA05-4542-8060-4C9F9783DC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35BF-D697-4746-BE86-5874D858142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8628-DD94-4E77-9F0D-EFA50DB243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he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1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is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nneer begon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2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Pinksteren betek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hoe je lid van de kerk word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de doop betek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r>
              <a:rPr b="0" lang="nl-NL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ristelijke feestda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ke zijn 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rstfe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ede Vrijda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melva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inkst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erstf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orte van Jezus Christ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-396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1268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Afbeelding 7" descr=""/>
          <p:cNvPicPr/>
          <p:nvPr/>
        </p:nvPicPr>
        <p:blipFill>
          <a:blip r:embed="rId1"/>
          <a:stretch/>
        </p:blipFill>
        <p:spPr>
          <a:xfrm>
            <a:off x="1403280" y="2774880"/>
            <a:ext cx="61977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Vrijda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Kruisiging van Jez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Afbeelding 3" descr=""/>
          <p:cNvPicPr/>
          <p:nvPr/>
        </p:nvPicPr>
        <p:blipFill>
          <a:blip r:embed="rId1"/>
          <a:stretch/>
        </p:blipFill>
        <p:spPr>
          <a:xfrm>
            <a:off x="1927080" y="3032280"/>
            <a:ext cx="480564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as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opstanding van Jezus ui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Afbeelding 4" descr=""/>
          <p:cNvPicPr/>
          <p:nvPr/>
        </p:nvPicPr>
        <p:blipFill>
          <a:blip r:embed="rId1"/>
          <a:stretch/>
        </p:blipFill>
        <p:spPr>
          <a:xfrm>
            <a:off x="22320" y="3213000"/>
            <a:ext cx="4535280" cy="3311640"/>
          </a:xfrm>
          <a:prstGeom prst="rect">
            <a:avLst/>
          </a:prstGeom>
          <a:ln w="0">
            <a:noFill/>
          </a:ln>
        </p:spPr>
      </p:pic>
      <p:pic>
        <p:nvPicPr>
          <p:cNvPr id="189" name="Afbeelding 5" descr=""/>
          <p:cNvPicPr/>
          <p:nvPr/>
        </p:nvPicPr>
        <p:blipFill>
          <a:blip r:embed="rId2"/>
          <a:stretch/>
        </p:blipFill>
        <p:spPr>
          <a:xfrm>
            <a:off x="4575240" y="318600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melva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zus gaat naar de hemel (naar zijn Vad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fbeelding 3" descr=""/>
          <p:cNvPicPr/>
          <p:nvPr/>
        </p:nvPicPr>
        <p:blipFill>
          <a:blip r:embed="rId1"/>
          <a:stretch/>
        </p:blipFill>
        <p:spPr>
          <a:xfrm>
            <a:off x="3780000" y="2979720"/>
            <a:ext cx="403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Pinkster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inkster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Uitstorting van de Heilige G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Afbeelding 3" descr=""/>
          <p:cNvPicPr/>
          <p:nvPr/>
        </p:nvPicPr>
        <p:blipFill>
          <a:blip r:embed="rId1"/>
          <a:stretch/>
        </p:blipFill>
        <p:spPr>
          <a:xfrm>
            <a:off x="0" y="4130640"/>
            <a:ext cx="4284720" cy="1984320"/>
          </a:xfrm>
          <a:prstGeom prst="rect">
            <a:avLst/>
          </a:prstGeom>
          <a:ln w="0">
            <a:noFill/>
          </a:ln>
        </p:spPr>
      </p:pic>
      <p:pic>
        <p:nvPicPr>
          <p:cNvPr id="196" name="Afbeelding 4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032360" cy="2377800"/>
          </a:xfrm>
          <a:prstGeom prst="rect">
            <a:avLst/>
          </a:prstGeom>
          <a:ln w="0">
            <a:noFill/>
          </a:ln>
        </p:spPr>
      </p:pic>
      <p:pic>
        <p:nvPicPr>
          <p:cNvPr id="197" name="Afbeelding 5" descr=""/>
          <p:cNvPicPr/>
          <p:nvPr/>
        </p:nvPicPr>
        <p:blipFill>
          <a:blip r:embed="rId3"/>
          <a:stretch/>
        </p:blipFill>
        <p:spPr>
          <a:xfrm>
            <a:off x="5297400" y="115920"/>
            <a:ext cx="3830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7:49:46Z</dcterms:created>
  <dc:creator>Nuborgh College</dc:creator>
  <dc:description/>
  <dc:language>en-US</dc:language>
  <cp:lastModifiedBy>Windows-gebruiker</cp:lastModifiedBy>
  <dcterms:modified xsi:type="dcterms:W3CDTF">2021-08-30T13:10:24Z</dcterms:modified>
  <cp:revision>8</cp:revision>
  <dc:subject/>
  <dc:title>Zending – Les 2</dc:title>
</cp:coreProperties>
</file>