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6085-AA1E-4881-BF55-B1E83560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8BF-787A-4B7F-8F9D-2866C7C1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7471-A614-4CB1-B660-2FD1D5910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D6D-CF93-49E1-B527-A510B3EE3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C984-E255-4A7D-A461-CE004760D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C54E-2A3E-47BB-913F-2CCC6337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9C92-A381-4E35-8598-BBAEF0ED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2A85-F1EF-4718-90C6-2989C169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0072-10C8-4D5A-A756-A221697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0C19-3198-4A38-84A9-3DBC0D84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E816-090B-43F8-8DCB-DF9C109B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5541-EFF5-43CD-9775-DF43164D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E4869-6955-4C14-BC1E-EE673EF0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D7C6-3ACA-4E65-9079-F3139E24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33D40-034E-4B95-AAC3-56DB170F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D95C-557D-4D71-AA5B-CA23A4EF1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9275-088E-4DFE-977E-4DA5F5C81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DE36-9FFD-435B-83CC-FDE1E177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68632-67B2-4B4C-A0E4-4476A269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AE87E-6EDA-4EEC-9EE0-33D50C25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04F9A-B583-467B-B00C-8E2E93B1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1ABC-C980-497D-9F47-ECCD1CAF3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EF63-15A7-4A26-B3FA-9EA15777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87AE-0569-4A59-BC8E-848DAF46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06B0B-E878-44F6-99DC-67E0429A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323D6-1239-4572-B145-D20583E9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1F377-934B-4C1D-9899-BD4CE6F3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B096E-9BA4-4D7E-BF15-E808B2676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673D7-3B61-4DC4-B742-7805D4E1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8DEED-2C83-4229-BC13-DBBE03E7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78375-62AA-43A1-B3F2-7AB0FD37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A1F8D-ECFA-4345-B8DF-3C5B0A03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1AB83-CAA5-4D5E-BDD6-42CA6CE1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689-7D18-4A2D-AFE9-E32E569E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3AD9-5D50-4E59-BFED-9DBFF1B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BD48C-F135-4AFB-9EF1-01B99F76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52968-0D45-4B93-92A9-09EE78D7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30FF2-4E9B-43F3-A0B6-BAE06A05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38BEA-356C-4FE6-BB99-208BEA97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07855-001B-4EF8-94EE-E84167D2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E1978-5003-4CED-A135-EA7BBDE3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A3B50-A7E5-42B4-AD40-4A42BABE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40451-EB0D-4F5A-BC86-F04FAD300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9D24-B2CB-40E5-A6B7-008D353E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A96C-B223-45B2-87E0-061B9CD5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A9C-6A36-43DD-9E26-7D5D8D7F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B889-E3EE-4A32-AB90-CA378DD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574-9C63-412F-8AC2-9DAC2639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4AB3-452D-4C17-B4F3-516C296FBB7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CA07-FF1D-4B35-81C7-DAE1ED60F0A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6C43-1D57-414B-BA87-C5602A1C4B8D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0287-8253-450A-ADCC-B1176A3A4AF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hec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1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t is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Wanneer begon zending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rhaling les 2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Pinksteren betek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hoe je lid van de kerk word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Ik weet wat de doop betek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at leer je vandaag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5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betekenis van de christelijke feestda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r>
              <a:rPr b="0" lang="nl-NL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ristelijke feestdag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Welke zijn e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Kerstfe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oede Vrijda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s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Hemelva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inkst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Kerstf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Geboorte van Jezus Christ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AutoShape 2"/>
          <p:cNvSpPr/>
          <p:nvPr/>
        </p:nvSpPr>
        <p:spPr>
          <a:xfrm>
            <a:off x="-3960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AutoShape 4"/>
          <p:cNvSpPr/>
          <p:nvPr/>
        </p:nvSpPr>
        <p:spPr>
          <a:xfrm>
            <a:off x="112680" y="1584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Afbeelding 7" descr=""/>
          <p:cNvPicPr/>
          <p:nvPr/>
        </p:nvPicPr>
        <p:blipFill>
          <a:blip r:embed="rId1"/>
          <a:stretch/>
        </p:blipFill>
        <p:spPr>
          <a:xfrm>
            <a:off x="1403280" y="2774880"/>
            <a:ext cx="619776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Vrijda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Kruisiging van Jez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Afbeelding 3" descr=""/>
          <p:cNvPicPr/>
          <p:nvPr/>
        </p:nvPicPr>
        <p:blipFill>
          <a:blip r:embed="rId1"/>
          <a:stretch/>
        </p:blipFill>
        <p:spPr>
          <a:xfrm>
            <a:off x="1927080" y="3032280"/>
            <a:ext cx="480564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as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e opstanding van Jezus uit de do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Afbeelding 4" descr=""/>
          <p:cNvPicPr/>
          <p:nvPr/>
        </p:nvPicPr>
        <p:blipFill>
          <a:blip r:embed="rId1"/>
          <a:stretch/>
        </p:blipFill>
        <p:spPr>
          <a:xfrm>
            <a:off x="22320" y="3213000"/>
            <a:ext cx="4535280" cy="3311640"/>
          </a:xfrm>
          <a:prstGeom prst="rect">
            <a:avLst/>
          </a:prstGeom>
          <a:ln w="0">
            <a:noFill/>
          </a:ln>
        </p:spPr>
      </p:pic>
      <p:pic>
        <p:nvPicPr>
          <p:cNvPr id="189" name="Afbeelding 5" descr=""/>
          <p:cNvPicPr/>
          <p:nvPr/>
        </p:nvPicPr>
        <p:blipFill>
          <a:blip r:embed="rId2"/>
          <a:stretch/>
        </p:blipFill>
        <p:spPr>
          <a:xfrm>
            <a:off x="4575240" y="3186000"/>
            <a:ext cx="4537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Zending – Les 2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Hemelvaar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Jezus gaat naar de hemel (naar zijn Vad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Afbeelding 3" descr=""/>
          <p:cNvPicPr/>
          <p:nvPr/>
        </p:nvPicPr>
        <p:blipFill>
          <a:blip r:embed="rId1"/>
          <a:stretch/>
        </p:blipFill>
        <p:spPr>
          <a:xfrm>
            <a:off x="3780000" y="2979720"/>
            <a:ext cx="403200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Pinkster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inkster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Uitstorting van de Heilige Gees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Afbeelding 3" descr=""/>
          <p:cNvPicPr/>
          <p:nvPr/>
        </p:nvPicPr>
        <p:blipFill>
          <a:blip r:embed="rId1"/>
          <a:stretch/>
        </p:blipFill>
        <p:spPr>
          <a:xfrm>
            <a:off x="0" y="4130640"/>
            <a:ext cx="4284720" cy="1984320"/>
          </a:xfrm>
          <a:prstGeom prst="rect">
            <a:avLst/>
          </a:prstGeom>
          <a:ln w="0">
            <a:noFill/>
          </a:ln>
        </p:spPr>
      </p:pic>
      <p:pic>
        <p:nvPicPr>
          <p:cNvPr id="196" name="Afbeelding 4" descr=""/>
          <p:cNvPicPr/>
          <p:nvPr/>
        </p:nvPicPr>
        <p:blipFill>
          <a:blip r:embed="rId2"/>
          <a:stretch/>
        </p:blipFill>
        <p:spPr>
          <a:xfrm>
            <a:off x="4572000" y="4005360"/>
            <a:ext cx="4032360" cy="2377800"/>
          </a:xfrm>
          <a:prstGeom prst="rect">
            <a:avLst/>
          </a:prstGeom>
          <a:ln w="0">
            <a:noFill/>
          </a:ln>
        </p:spPr>
      </p:pic>
      <p:pic>
        <p:nvPicPr>
          <p:cNvPr id="197" name="Afbeelding 5" descr=""/>
          <p:cNvPicPr/>
          <p:nvPr/>
        </p:nvPicPr>
        <p:blipFill>
          <a:blip r:embed="rId3"/>
          <a:stretch/>
        </p:blipFill>
        <p:spPr>
          <a:xfrm>
            <a:off x="5297400" y="115920"/>
            <a:ext cx="383076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7:49:46Z</dcterms:created>
  <dc:creator>Nuborgh College</dc:creator>
  <dc:description/>
  <dc:language>en-US</dc:language>
  <cp:lastModifiedBy>Windows-gebruiker</cp:lastModifiedBy>
  <dcterms:modified xsi:type="dcterms:W3CDTF">2021-08-30T13:10:24Z</dcterms:modified>
  <cp:revision>8</cp:revision>
  <dc:subject/>
  <dc:title>Zending – Les 2</dc:title>
</cp:coreProperties>
</file>