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0F45-AC17-4D85-9A8D-507CDDFD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E6F4-B99B-41A6-8E91-39C330EE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183-36D1-49B9-951E-A479BA9ED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AD4-42B5-4240-8ACC-912C20235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7AF-33E4-4277-9F62-181EB7AD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703DE-B323-4F76-9526-E65680E6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7D3-6C8F-4C90-872A-EF7F5C394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9CF4-1B96-466B-AE69-32CF3064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6FA5-ADC3-4C46-8BD9-624AA8CC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2D2C-CB6E-4B28-9309-E4A8325E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D9D5-6EDC-413B-842B-C8040D6B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F4C6-BFA3-4556-AD5E-02086E3A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EA5C-94A4-4D44-AF54-EC0A2B69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FC4C-816F-43B1-A1D0-B1BD981F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106C-DC84-4F93-8706-674F1B95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FFAE-747E-4A2D-9D40-DC94685E4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00D7-F2F9-476B-A2CF-AEE362C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FA6-6976-4B9F-954E-04473997F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1D8-DB71-4098-92BC-ED19437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EC9B-EABE-4964-B77A-2D6352B5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6B6-55A0-411C-BF82-7CAF0D4A5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53B2-2569-4091-970B-4A20072F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8DC-0C54-479A-BB61-741AC73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B063-4970-4FB8-865A-AB17F1D4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E7CE-E108-49C3-B82F-839006FC9AD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B474-FEE6-4868-B4EC-B1A2268447D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Les 3 - Zend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ie was </a:t>
            </a: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Paulus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Apostel van de heid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Heiden: niet-J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: eerst bij de Joodse kerkleiders. Een farizeeë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ter het evangelie van Jezus Christus verkondig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ondgetrokken om evangelie te vertell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Afbeelding 1" descr=""/>
          <p:cNvPicPr/>
          <p:nvPr/>
        </p:nvPicPr>
        <p:blipFill>
          <a:blip r:embed="rId1"/>
          <a:stretch/>
        </p:blipFill>
        <p:spPr>
          <a:xfrm>
            <a:off x="6516720" y="0"/>
            <a:ext cx="223200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Reizen van Paulu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Paulus heeft 4 reizen gemaak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ar: Turkije en Griekenlan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Laatste reis: Rom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aar waarschijnlijk ook overled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Bijzonder bij Paulus: geroepen door Jezus zelf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roeping: Hand. 9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Film Paulus. (v.a. min. 43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Film begint met de strijd tussen Joodse leiders en eerste christene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ijdens film: maak de vragen op blz. 26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6:01:13Z</dcterms:created>
  <dc:creator>Nuborgh College</dc:creator>
  <dc:description/>
  <dc:language>en-US</dc:language>
  <cp:lastModifiedBy>Windows-gebruiker</cp:lastModifiedBy>
  <dcterms:modified xsi:type="dcterms:W3CDTF">2021-08-30T13:14:08Z</dcterms:modified>
  <cp:revision>9</cp:revision>
  <dc:subject/>
  <dc:title>Les 3 - Zending</dc:title>
</cp:coreProperties>
</file>