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6F2-5C85-48EE-BEE4-D0F19C0F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F83-D133-404C-BDC7-B5158132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126-4DED-4662-9A59-701EB861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D0A-48B9-4EC0-8A78-FF3CA53E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830E-D86D-4DD9-AEA6-F98C296E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0540-FDD7-4717-8EA9-35D53BB2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0DA7-CD1B-45D1-87F4-4CFA31BC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6292-3093-4E1A-87BA-09062A49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73B5-9C38-44B5-8805-AC5458A1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0649-1B68-420F-BBFF-42C6D988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8054-E95E-4888-89BD-0CE708E3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804-F759-448D-BE52-556CC4E7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EF4B-EF29-4EEE-ADC8-D868E013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97F7-F56F-476A-94CF-CF6F7E1B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D999-EC3B-47A4-AC8B-C5BC0123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518B-B9F9-4A11-AB60-EA24460A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BB6F-1B13-44C5-9204-CF341E8C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8BA-4741-4283-B7FB-CE3B388F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E95-A506-4A07-838C-66162159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DE0-BC66-4693-B13D-71B32FC2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916-8E20-4D50-AEEE-5E04E29F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861-48D7-444A-8C55-8AD0CC8B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923-849A-4D08-B56B-111B5028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314-7D3B-4692-BEF0-B1F4EE72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DE72-B561-4596-AA6D-855CDE4A26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8451-2636-490F-A74A-97E53912051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3 - Zen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was </a:t>
            </a: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Paulus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Apostel van de heid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iden: niet-J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: eerst bij de Joodse kerkleiders. Een farizeeë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ter het evangelie van Jezus Christus verkondig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ondgetrokken om evangelie te verte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Afbeelding 1" descr=""/>
          <p:cNvPicPr/>
          <p:nvPr/>
        </p:nvPicPr>
        <p:blipFill>
          <a:blip r:embed="rId1"/>
          <a:stretch/>
        </p:blipFill>
        <p:spPr>
          <a:xfrm>
            <a:off x="6516720" y="0"/>
            <a:ext cx="22320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izen van Paul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heeft 4 reizen gemaak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ar: Turkije en Griekenla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atste reis: Ro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aar waarschijnlijk ook overl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ijzonder bij Paulus: geroepen door Jezus zelf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roeping: Hand. 9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ilm Paulus. (v.a. min. 4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Film begint met de strijd tussen Joodse leiders en eerste christ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ijdens film: maak de vragen op blz. 26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01:13Z</dcterms:created>
  <dc:creator>Nuborgh College</dc:creator>
  <dc:description/>
  <dc:language>en-US</dc:language>
  <cp:lastModifiedBy>Windows-gebruiker</cp:lastModifiedBy>
  <dcterms:modified xsi:type="dcterms:W3CDTF">2021-08-30T13:14:08Z</dcterms:modified>
  <cp:revision>9</cp:revision>
  <dc:subject/>
  <dc:title>Les 3 - Zending</dc:title>
</cp:coreProperties>
</file>