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073-A98B-49FD-8D11-0863ED85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F14-1EE7-47B0-84CA-656427F1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70B-78C6-4BE7-B5C3-B0E871E7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B9E-C372-4140-9C4C-DA9DF62D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BE89-824F-4E64-8039-411E4E70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E1FD-78E0-4296-870F-9682F46D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DC48-D50D-4918-A876-B65B2AA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EBF4-7DF8-4BD1-9BA1-A98C867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8366-0AB3-4029-9921-45ECC53E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5B35-F62F-448D-98CC-7B17884F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8028-CFD3-49C5-A69F-0E0C4D39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BFF-702B-4D0A-8FB3-C5ACE292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4304-D198-48FD-9243-11A6929B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1FF9-9C40-4BB3-8A78-2884D0D0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44AB-DCC9-4F83-912F-8D83D7EE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0901-4E91-4D00-9212-202924DA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4911-070C-4276-8FF9-D85103F4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BB1-C667-487F-AA49-72CEF22F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EC4-A487-4A3B-ACC7-909CC6E7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6CC-9A84-42CE-BE7E-0A454E6D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CAD-7DD7-41DB-B49B-F3AC05B5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08B-0564-462D-A3C8-CA46C6A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E79-9EE1-4622-B8FB-9176B6DC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546-C27B-4A03-AEA5-2AF040C9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94A-B9A1-47CE-B799-06C8CCF4A78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9E80-4546-4DD3-92D6-4D4727CF36A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3 - Zen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was </a:t>
            </a: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Paulus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Apostel van de heid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iden: niet-J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: eerst bij de Joodse kerkleiders. Een farizeeë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ter het evangelie van Jezus Christus verkondig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ondgetrokken om evangelie te verte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Afbeelding 1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izen van Paul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heeft 4 reizen gemaak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ar: Turkije en Griekenla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atste reis: R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aar waarschijnlijk ook overl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ijzonder bij Paulus: geroepen door Jezus zel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roeping: Hand. 9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ilm Paulus. (v.a. min. 4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Film begint met de strijd tussen Joodse leiders en eerste christ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ijdens film: maak de vragen op blz. 26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1:13Z</dcterms:created>
  <dc:creator>Nuborgh College</dc:creator>
  <dc:description/>
  <dc:language>en-US</dc:language>
  <cp:lastModifiedBy>Windows-gebruiker</cp:lastModifiedBy>
  <dcterms:modified xsi:type="dcterms:W3CDTF">2021-08-30T13:14:08Z</dcterms:modified>
  <cp:revision>9</cp:revision>
  <dc:subject/>
  <dc:title>Les 3 - Zending</dc:title>
</cp:coreProperties>
</file>