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155D-1172-4949-A9ED-3743EB990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4D4C-8605-4155-BC5E-8CCB49B1D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60ED-D103-490D-B3CC-48DF985F2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59CC-AEAC-4596-B800-29F1EF35A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D49AF-3770-4532-B348-75E9C2CF3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B9E45-963B-4E5B-944B-C641C289E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ACCFA-3075-4ECA-8C42-E12923DCB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93505-5475-4745-90FE-BB1962D54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EE401-D173-4ACE-97C3-302AA4133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91BEE-2B91-4407-9D7E-6D78773D6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905D6-A942-4F02-B7F4-31A87DDA8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B219-8482-44AA-AB43-BF1474185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E0DC4-198D-44CE-96D5-EF90EF178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22875-2DF6-4C7C-9388-1791559CF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63F85-F621-4EB2-B019-641250C20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FCF54-C45C-40E5-B54A-95F7B859B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598B6-C3B6-4F09-ABA2-AB6E15382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D50CF-C59D-43BD-9098-6A5212E65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345FC-06D4-441F-A268-EBDA359E5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352B4-1C1A-4534-98C7-30C0807E3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96F6E-2F4F-4212-8193-EFC495765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73924-BF67-4221-9901-7C40863DD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6CC3-4488-4336-83DE-AD5ED71CA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04373-09BE-4C99-90B6-0B91A0407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F1A67-4A03-413C-985B-5A440EAB1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1B054-C1CB-4689-B674-5E952458C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C8530-74DD-44E1-93AD-45DCA36EB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01D7E-DBB1-4DE3-88FD-44A1465BB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0E20D-34BA-44B7-A526-D4C7A2937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5BAF1-A285-4440-B2FF-7C50472CC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061DA-FE27-496E-800B-3AA7F2A25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D50B8-4405-42B9-8D02-3B3F325FF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B0E99-D928-428F-B537-15EE6D3AF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4408-D778-4691-A2D0-4AFA3E3DA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70942-967C-44E7-8A16-32C13C40E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5143B-8014-4D00-8196-8407B117B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E6E1A-C72E-48E5-B21F-427962E53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D543B-0214-4769-96A3-F71CD2DF9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A64EE-3B7E-4C84-8AE5-447F61F93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53665-8CBF-41A9-BCB1-E0F4D8C90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3E6E6-F641-4757-A8BE-DABE3746C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42DFD-592B-4E69-9E32-F4982594D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60A45-8F52-4015-B93A-AA5AED3B5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6EF6-B6C8-4624-833C-958972EBC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1875-C73B-4690-98EA-5395EAD88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58C1-385F-49F2-A245-B92715479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55BE-F4F3-4CFE-86E7-394261E19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CE8F-2EB0-4869-BD7E-803FAD574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BB921-EB75-4D30-BD81-FE0DEFBF3F9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8CE3E-F442-456A-9371-EDC28149672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639FD-C8D3-474F-8CF9-071E523D88E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A0448-5175-4E88-9EA8-C7D3F1C38EB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Verdana"/>
              </a:rPr>
              <a:t>Zending – Les 2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Zending – Les 2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Check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De 5 christelijke feestdag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De betekenis van de christelijke feestdag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Zending – Les 2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Herhaling les 1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Wat is zending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Wanneer begon zending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Herhaling les 2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Ik weet wat Pinksteren beteken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Ik weet hoe je lid van de kerk word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Ik weet wat de doop betek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Zending – Les 2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t leer je vandaag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De 5 christelijke feestdag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De betekenis van de christelijke feestdag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Zending – Les 2</a:t>
            </a:r>
            <a:r>
              <a:rPr b="0" lang="nl-NL" sz="3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hristelijke feestdage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Welke zijn er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Kerstfee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Goede Vrijda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s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Hemelva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inkster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Zending – Les 2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Kerstfees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Geboorte van Jezus Christu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AutoShape 2"/>
          <p:cNvSpPr/>
          <p:nvPr/>
        </p:nvSpPr>
        <p:spPr>
          <a:xfrm>
            <a:off x="-39600" y="-1364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AutoShape 4"/>
          <p:cNvSpPr/>
          <p:nvPr/>
        </p:nvSpPr>
        <p:spPr>
          <a:xfrm>
            <a:off x="112680" y="158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Afbeelding 7" descr=""/>
          <p:cNvPicPr/>
          <p:nvPr/>
        </p:nvPicPr>
        <p:blipFill>
          <a:blip r:embed="rId1"/>
          <a:stretch/>
        </p:blipFill>
        <p:spPr>
          <a:xfrm>
            <a:off x="1403280" y="2774880"/>
            <a:ext cx="619776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Zending – Les 2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Goede Vrijda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De Kruisiging van Jezu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5" name="Afbeelding 3" descr=""/>
          <p:cNvPicPr/>
          <p:nvPr/>
        </p:nvPicPr>
        <p:blipFill>
          <a:blip r:embed="rId1"/>
          <a:stretch/>
        </p:blipFill>
        <p:spPr>
          <a:xfrm>
            <a:off x="1927080" y="3032280"/>
            <a:ext cx="4805640" cy="31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Zending – Les 2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Pase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De opstanding van Jezus uit de doo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8" name="Afbeelding 4" descr=""/>
          <p:cNvPicPr/>
          <p:nvPr/>
        </p:nvPicPr>
        <p:blipFill>
          <a:blip r:embed="rId1"/>
          <a:stretch/>
        </p:blipFill>
        <p:spPr>
          <a:xfrm>
            <a:off x="22320" y="3213000"/>
            <a:ext cx="4535280" cy="3311640"/>
          </a:xfrm>
          <a:prstGeom prst="rect">
            <a:avLst/>
          </a:prstGeom>
          <a:ln w="0">
            <a:noFill/>
          </a:ln>
        </p:spPr>
      </p:pic>
      <p:pic>
        <p:nvPicPr>
          <p:cNvPr id="189" name="Afbeelding 5" descr=""/>
          <p:cNvPicPr/>
          <p:nvPr/>
        </p:nvPicPr>
        <p:blipFill>
          <a:blip r:embed="rId2"/>
          <a:stretch/>
        </p:blipFill>
        <p:spPr>
          <a:xfrm>
            <a:off x="4575240" y="3186000"/>
            <a:ext cx="45370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Zending – Les 2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Hemelvaar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Jezus gaat naar de hemel (naar zijn Vader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2" name="Afbeelding 3" descr=""/>
          <p:cNvPicPr/>
          <p:nvPr/>
        </p:nvPicPr>
        <p:blipFill>
          <a:blip r:embed="rId1"/>
          <a:stretch/>
        </p:blipFill>
        <p:spPr>
          <a:xfrm>
            <a:off x="3780000" y="2979720"/>
            <a:ext cx="4032000" cy="32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Pinkstere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Pinksteren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Uitstorting van de Heilige Gees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5" name="Afbeelding 3" descr=""/>
          <p:cNvPicPr/>
          <p:nvPr/>
        </p:nvPicPr>
        <p:blipFill>
          <a:blip r:embed="rId1"/>
          <a:stretch/>
        </p:blipFill>
        <p:spPr>
          <a:xfrm>
            <a:off x="0" y="4130640"/>
            <a:ext cx="4284720" cy="1984320"/>
          </a:xfrm>
          <a:prstGeom prst="rect">
            <a:avLst/>
          </a:prstGeom>
          <a:ln w="0">
            <a:noFill/>
          </a:ln>
        </p:spPr>
      </p:pic>
      <p:pic>
        <p:nvPicPr>
          <p:cNvPr id="196" name="Afbeelding 4" descr=""/>
          <p:cNvPicPr/>
          <p:nvPr/>
        </p:nvPicPr>
        <p:blipFill>
          <a:blip r:embed="rId2"/>
          <a:stretch/>
        </p:blipFill>
        <p:spPr>
          <a:xfrm>
            <a:off x="4572000" y="4005360"/>
            <a:ext cx="4032360" cy="2377800"/>
          </a:xfrm>
          <a:prstGeom prst="rect">
            <a:avLst/>
          </a:prstGeom>
          <a:ln w="0">
            <a:noFill/>
          </a:ln>
        </p:spPr>
      </p:pic>
      <p:pic>
        <p:nvPicPr>
          <p:cNvPr id="197" name="Afbeelding 5" descr=""/>
          <p:cNvPicPr/>
          <p:nvPr/>
        </p:nvPicPr>
        <p:blipFill>
          <a:blip r:embed="rId3"/>
          <a:stretch/>
        </p:blipFill>
        <p:spPr>
          <a:xfrm>
            <a:off x="5297400" y="115920"/>
            <a:ext cx="3830760" cy="20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7:49:46Z</dcterms:created>
  <dc:creator>Nuborgh College</dc:creator>
  <dc:description/>
  <dc:language>en-US</dc:language>
  <cp:lastModifiedBy>Windows-gebruiker</cp:lastModifiedBy>
  <dcterms:modified xsi:type="dcterms:W3CDTF">2021-08-30T13:10:24Z</dcterms:modified>
  <cp:revision>8</cp:revision>
  <dc:subject/>
  <dc:title>Zending – Les 2</dc:title>
</cp:coreProperties>
</file>