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F1E-9361-4324-806C-DC8468D1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4DA-21B9-471B-9797-8AA8A1F8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D7A-D750-406F-AA1A-246DAACA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FED-CED6-4B30-A1F4-D5C2ACD6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1A1F-7F7A-42DE-8C0F-0969E808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8A77-A1F6-49FD-BC56-C1C58465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3B33-7389-4211-82A9-CF03B049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3E7B-0132-4E6A-A267-B0EBB75F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FCAC-418D-4C76-A0B9-AF914890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48E5-6EAA-4237-A553-20212806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FB23-AE86-4BA2-BB1C-2606D8B5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360-2580-41E0-BA39-903D845A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2E50-5D22-4427-AFF0-3E375350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E178-97F4-466E-9A88-69D4CE2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D8E1-4BC1-49D5-96D7-F16A3F9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FE68-02B2-48B0-8781-0155B26C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E347-EFE1-4827-A044-DBA42DB0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9555-0853-479C-9437-30FAD244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958B-DD59-4C17-BE09-FC5C32B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62B3-1BB0-497C-A0E9-EBBE240E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5CE1-8DDB-4A5A-8C58-824C3E11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0C4B-51B3-4B71-AF46-25533C3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C5D-9F4C-4363-8A1B-4EE37851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C3C8-AB32-4144-AC47-E34BD952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45D4-DE8D-49D3-A0BC-397A959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416C-AE39-4CA6-931C-267DA6ED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41005-1707-4D7E-89FD-208D601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C525-4DF4-43BE-8AEF-A5F3C759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611E-4E5D-4BA2-803C-15AB1916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1924-B948-4323-A4D7-979CAE33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CE3F-D8B6-4AE8-AF9D-F7971A42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AB78A-0E5B-4FFE-9535-C6E5D9D2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FAEBD-8CC5-4B2A-A36D-03F17ABA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FC3-2B94-443C-B88F-5D31ABF9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B5444-7E4A-4FC5-B3D2-A13932A7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040A-B16C-4CC6-8656-15170AC6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FC6CC-5210-4E7F-BB5D-49BB9D6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64C19-3D8D-4EE1-B589-3C9EAF8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3423-69A0-4BF6-9154-D33F3DE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8CABF-0694-4BF4-BCF4-EC9F1690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6B2B-C8DB-4327-9747-2392312A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75B82-C601-4288-ACBF-63EF0C8F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89839-98D5-48AE-81FB-0BABC469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56C-199E-4A18-9883-7A4CDD29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B72-0519-4DE7-843D-B0C16B9F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B81-3149-4032-8190-81EA83D9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C52-7D96-4E94-BAC7-06BE058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7DD-9C01-40EA-B0BD-A425307F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1A71-8FDE-4643-8553-4646559D005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4736-E277-4A1B-BEF0-AD57B30659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83D0-B78A-4B0F-B2CB-9C8D13C038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CB32-DBE8-4F8E-B71F-6035A95F3F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he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1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is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nneer begon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2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Pinksteren betek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hoe je lid van de kerk word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de doop betek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r>
              <a:rPr b="0" lang="nl-NL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ristelijke feestda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ke zijn 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rstfe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ede Vrijda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melva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inkst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erstf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orte van Jezus Christ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-396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1268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Afbeelding 7" descr=""/>
          <p:cNvPicPr/>
          <p:nvPr/>
        </p:nvPicPr>
        <p:blipFill>
          <a:blip r:embed="rId1"/>
          <a:stretch/>
        </p:blipFill>
        <p:spPr>
          <a:xfrm>
            <a:off x="1403280" y="2774880"/>
            <a:ext cx="61977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Vrijda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Kruisiging van Jez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Afbeelding 3" descr=""/>
          <p:cNvPicPr/>
          <p:nvPr/>
        </p:nvPicPr>
        <p:blipFill>
          <a:blip r:embed="rId1"/>
          <a:stretch/>
        </p:blipFill>
        <p:spPr>
          <a:xfrm>
            <a:off x="1927080" y="3032280"/>
            <a:ext cx="480564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as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opstanding van Jezus ui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Afbeelding 4" descr=""/>
          <p:cNvPicPr/>
          <p:nvPr/>
        </p:nvPicPr>
        <p:blipFill>
          <a:blip r:embed="rId1"/>
          <a:stretch/>
        </p:blipFill>
        <p:spPr>
          <a:xfrm>
            <a:off x="22320" y="3213000"/>
            <a:ext cx="4535280" cy="3311640"/>
          </a:xfrm>
          <a:prstGeom prst="rect">
            <a:avLst/>
          </a:prstGeom>
          <a:ln w="0">
            <a:noFill/>
          </a:ln>
        </p:spPr>
      </p:pic>
      <p:pic>
        <p:nvPicPr>
          <p:cNvPr id="189" name="Afbeelding 5" descr=""/>
          <p:cNvPicPr/>
          <p:nvPr/>
        </p:nvPicPr>
        <p:blipFill>
          <a:blip r:embed="rId2"/>
          <a:stretch/>
        </p:blipFill>
        <p:spPr>
          <a:xfrm>
            <a:off x="4575240" y="318600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melva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zus gaat naar de hemel (naar zijn Vad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fbeelding 3" descr=""/>
          <p:cNvPicPr/>
          <p:nvPr/>
        </p:nvPicPr>
        <p:blipFill>
          <a:blip r:embed="rId1"/>
          <a:stretch/>
        </p:blipFill>
        <p:spPr>
          <a:xfrm>
            <a:off x="3780000" y="2979720"/>
            <a:ext cx="403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Pinkster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inkster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Uitstorting van de Heilige G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Afbeelding 3" descr=""/>
          <p:cNvPicPr/>
          <p:nvPr/>
        </p:nvPicPr>
        <p:blipFill>
          <a:blip r:embed="rId1"/>
          <a:stretch/>
        </p:blipFill>
        <p:spPr>
          <a:xfrm>
            <a:off x="0" y="4130640"/>
            <a:ext cx="4284720" cy="1984320"/>
          </a:xfrm>
          <a:prstGeom prst="rect">
            <a:avLst/>
          </a:prstGeom>
          <a:ln w="0">
            <a:noFill/>
          </a:ln>
        </p:spPr>
      </p:pic>
      <p:pic>
        <p:nvPicPr>
          <p:cNvPr id="196" name="Afbeelding 4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032360" cy="2377800"/>
          </a:xfrm>
          <a:prstGeom prst="rect">
            <a:avLst/>
          </a:prstGeom>
          <a:ln w="0">
            <a:noFill/>
          </a:ln>
        </p:spPr>
      </p:pic>
      <p:pic>
        <p:nvPicPr>
          <p:cNvPr id="197" name="Afbeelding 5" descr=""/>
          <p:cNvPicPr/>
          <p:nvPr/>
        </p:nvPicPr>
        <p:blipFill>
          <a:blip r:embed="rId3"/>
          <a:stretch/>
        </p:blipFill>
        <p:spPr>
          <a:xfrm>
            <a:off x="5297400" y="115920"/>
            <a:ext cx="3830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7:49:46Z</dcterms:created>
  <dc:creator>Nuborgh College</dc:creator>
  <dc:description/>
  <dc:language>en-US</dc:language>
  <cp:lastModifiedBy>Windows-gebruiker</cp:lastModifiedBy>
  <dcterms:modified xsi:type="dcterms:W3CDTF">2021-08-30T13:10:24Z</dcterms:modified>
  <cp:revision>8</cp:revision>
  <dc:subject/>
  <dc:title>Zending – Les 2</dc:title>
</cp:coreProperties>
</file>