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1A76-27C6-41D5-A86F-94CD9C82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154C-C601-48C7-BB85-C416E3EA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F99-CAE3-45FE-BBEB-FEE80340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5238-00AD-4AE8-911D-610F2EC7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796A-9D72-42AA-8D9A-70BC72C3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B47A-37D9-4E50-95C1-75CC253D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A8E5-E5EC-4CB4-A145-DBF7D1C4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9CB8-A0ED-46C5-8583-5F984E0A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6DD5-0FC3-4DC4-BB8C-CC019DE8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98D1-A5AF-4E7E-AB05-F1A7B4B0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5236-12E1-4A3B-AAE1-ED92D99F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7B4-67C6-4EE6-AF83-C5C804BC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0C70-8220-4EC0-8186-32D3FD68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FBF1-3E9C-4B3B-91BC-2C53394D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6AF0-E441-4EB7-AF33-23DA253F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1724-C09A-41C0-943C-5A9FD01A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7897-E79F-479A-A4F0-C40B40F8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8A1-BA75-4F35-B924-01BFF965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4C26-E12A-40C4-8DD5-DCD92B9D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CEB-2ABC-4FE4-B467-0A6B800F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D26-247F-4435-A323-61FFACAF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E917-C451-4885-96B6-F9B87FC5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4033-B4C9-4430-BE26-F2CC87AE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B8B2-1D3F-4B42-88D3-A4439317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9070-CA83-4357-ABB2-533B5CE43FA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BBC4-3941-454C-903D-541B9E2576D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3 - Zend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was </a:t>
            </a: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Paulus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Apostel van de heid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iden: niet-J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: eerst bij de Joodse kerkleiders. Een farizeeë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ater het evangelie van Jezus Christus verkondig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ondgetrokken om evangelie te vertell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Afbeelding 1" descr=""/>
          <p:cNvPicPr/>
          <p:nvPr/>
        </p:nvPicPr>
        <p:blipFill>
          <a:blip r:embed="rId1"/>
          <a:stretch/>
        </p:blipFill>
        <p:spPr>
          <a:xfrm>
            <a:off x="6516720" y="0"/>
            <a:ext cx="22320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eizen van Paul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 heeft 4 reizen gemaak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ar: Turkije en Griekenlan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aatste reis: Ro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aar waarschijnlijk ook overle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ijzonder bij Paulus: geroepen door Jezus zelf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Zijn roeping: Hand. 9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Film Paulus. (v.a. min. 4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Film begint met de strijd tussen Joodse leiders en eerste christ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ijdens film: maak de vragen op blz. 26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6:01:13Z</dcterms:created>
  <dc:creator>Nuborgh College</dc:creator>
  <dc:description/>
  <dc:language>en-US</dc:language>
  <cp:lastModifiedBy>Windows-gebruiker</cp:lastModifiedBy>
  <dcterms:modified xsi:type="dcterms:W3CDTF">2021-08-30T13:14:08Z</dcterms:modified>
  <cp:revision>9</cp:revision>
  <dc:subject/>
  <dc:title>Les 3 - Zending</dc:title>
</cp:coreProperties>
</file>