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C99-A303-4188-91B7-72584E35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FF5-BED3-411C-BDB5-CEC36598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9CA-CC27-4004-81F6-43864CA3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F57-D170-43BF-9290-B2C1AF2C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77A1-F4F9-46EA-9ADB-859221CC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8A1C-FD9C-4FA1-BFE4-BE9EE0C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D27-DAB7-48E9-AAA9-F0315578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4CB6-BB75-4CA0-BD4D-34A0E3C3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6C76-9E93-4DA5-ADB9-554A0E3F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5C22-F674-4413-B41A-8FB9D91B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386B-93EE-4BA7-B3B8-7F72072B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C7A-9607-4408-A481-57FBFD42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82B2-CF3C-4601-90D4-8F00A149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AA03-CA91-480D-8FD2-FFC650D1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AF0D-AE3A-4E43-9CEE-1BBC376A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FE01-335F-4CE6-81FE-3D61B475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FB2F-7BF0-4A20-89F4-E3E94BF2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25F-F787-4A01-A356-73BE1A99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743-F313-4F00-B923-20F5AF25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45B-3597-4D75-BDC8-18D8F12C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57B-BC01-48B8-89F4-A331EF8A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384-4EA7-473A-9B02-9068FF96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5D0-29DE-4EB5-BE65-C121180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5D9-31AE-4620-8F6C-8B454EF6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85E9-B0C8-4B93-A5A3-FA58383C80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4D9E-2CE9-41A5-9719-558C4FBF9C0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3 - Zen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was </a:t>
            </a: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Paulus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Apostel van de heid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iden: niet-J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: eerst bij de Joodse kerkleiders. Een farizeeë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ter het evangelie van Jezus Christus verkondig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ondgetrokken om evangelie te verte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Afbeelding 1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izen van Paul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heeft 4 reizen gemaak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ar: Turkije en Griekenla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atste reis: R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aar waarschijnlijk ook overl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ijzonder bij Paulus: geroepen door Jezus zel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roeping: Hand. 9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ilm Paulus. (v.a. min. 4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Film begint met de strijd tussen Joodse leiders en eerste christ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ijdens film: maak de vragen op blz. 26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1:13Z</dcterms:created>
  <dc:creator>Nuborgh College</dc:creator>
  <dc:description/>
  <dc:language>en-US</dc:language>
  <cp:lastModifiedBy>Windows-gebruiker</cp:lastModifiedBy>
  <dcterms:modified xsi:type="dcterms:W3CDTF">2021-08-30T13:14:08Z</dcterms:modified>
  <cp:revision>9</cp:revision>
  <dc:subject/>
  <dc:title>Les 3 - Zending</dc:title>
</cp:coreProperties>
</file>