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19F7-704E-49D1-8C76-E3FF7B4C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479-D08F-44DD-ACB5-24F2CAF4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543-653C-4166-8E93-6C5F2B71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7B2D-746A-4692-A61B-17F9E948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ED66-F8A2-4B8C-96AD-D1FB3ACD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CB74-76CB-4B38-A823-1BF4EB8D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0EBB-5E00-42F1-85CD-5BD182BF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195B-09E1-4316-AC49-AA255066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032C-2494-4A52-8FEB-6ED6F835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08F6-AA60-4647-BE4F-2FF4EA81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F22C-7393-42DA-BB19-BC42A61D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585C-B652-4B21-911F-F1DC11E9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2B6D-178B-43CF-BE53-83348B5F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1FBB-341A-4315-89F9-9C2116C6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477A-AC3E-4502-A315-EBB10581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98F7-4C7F-4502-A3EE-FD5A0268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AFD3-37A6-4CF3-90EB-FE5F0B8C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80786-7D05-4DE9-BF50-13DDDE12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46EFF-AB2D-4E3F-94FC-52DED113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EE49F-79BC-45A8-880C-CAAD6F4C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3D1A3-75FB-471F-8E5A-D0BDB3E1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AD6A1-C0E4-4274-8B3D-ECB451A5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2CB1-BCA0-4214-B270-C27038E9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792EB-6057-40C9-B31B-AB5F01A3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670A6-2269-4A39-90F5-D8048552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82524-CB57-4757-BACB-15261F83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35F88-7466-4109-988E-8E74EBE8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C631D-AEE5-4511-9C8B-9FE13A29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40CD2-06AB-479F-A0CB-04704456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CEB1C-36A9-44EE-AD0A-EF91AE63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54E69-9738-4E83-8B59-CADB0595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DEFAC-040A-46DE-A4CD-7D672B0F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154A8-AF7F-4B15-A8B9-24F98AC0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8238-DA35-4A62-A7B8-E87D06F2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9D0B8-363E-4B8B-B0FA-18C0B3E9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A1C5A-91B6-41CA-991B-2FF5BB1A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C45AC-CD5F-4CCE-AB77-55F8727F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12529-CAB5-4602-AADE-FC9875AA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1AF10-53A3-4B12-86BC-B1A179D4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7C7D1-A726-4B5E-ACAF-48608715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AC34A-9C9E-46D0-8D2E-F28FFEC5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322CD-26D5-47E5-B3D1-D9FCA836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C59AE-7B63-4AF8-AF9C-D495BB35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0598-CC8B-4440-94DA-BD4727D6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641E-CE6A-493D-BAB4-6B85164E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DC73-0543-4DA4-B287-561CACB0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1A47-205E-4A8F-9803-3978E3F9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7D14-EA9C-43ED-B30E-ECE4C5FB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0FBD-FF89-4899-874E-039933AA9A4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4D29-715A-4613-BC33-846D93ED493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DF1D-B230-48EC-B7B2-3D9AD7F8B3A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A2EB-C418-45B1-A2D0-202BC48A2B3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hec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5 christelijke feestda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betekenis van de christelijke feestda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rhaling les 1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is zending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nneer begon zending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rhaling les 2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weet wat Pinksteren betek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weet hoe je lid van de kerk word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weet wat de doop betek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5 christelijke feestda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betekenis van de christelijke feestda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r>
              <a:rPr b="0" lang="nl-NL" sz="3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ristelijke feestdag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elke zijn 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Kerstfe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oede Vrijda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emelva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inkste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Kerstfee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eboorte van Jezus Christ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AutoShape 2"/>
          <p:cNvSpPr/>
          <p:nvPr/>
        </p:nvSpPr>
        <p:spPr>
          <a:xfrm>
            <a:off x="-3960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112680" y="15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Afbeelding 7" descr=""/>
          <p:cNvPicPr/>
          <p:nvPr/>
        </p:nvPicPr>
        <p:blipFill>
          <a:blip r:embed="rId1"/>
          <a:stretch/>
        </p:blipFill>
        <p:spPr>
          <a:xfrm>
            <a:off x="1403280" y="2774880"/>
            <a:ext cx="619776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oede Vrijda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Kruisiging van Jez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Afbeelding 3" descr=""/>
          <p:cNvPicPr/>
          <p:nvPr/>
        </p:nvPicPr>
        <p:blipFill>
          <a:blip r:embed="rId1"/>
          <a:stretch/>
        </p:blipFill>
        <p:spPr>
          <a:xfrm>
            <a:off x="1927080" y="3032280"/>
            <a:ext cx="480564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Pas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opstanding van Jezus uit de do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Afbeelding 4" descr=""/>
          <p:cNvPicPr/>
          <p:nvPr/>
        </p:nvPicPr>
        <p:blipFill>
          <a:blip r:embed="rId1"/>
          <a:stretch/>
        </p:blipFill>
        <p:spPr>
          <a:xfrm>
            <a:off x="22320" y="3213000"/>
            <a:ext cx="4535280" cy="3311640"/>
          </a:xfrm>
          <a:prstGeom prst="rect">
            <a:avLst/>
          </a:prstGeom>
          <a:ln w="0">
            <a:noFill/>
          </a:ln>
        </p:spPr>
      </p:pic>
      <p:pic>
        <p:nvPicPr>
          <p:cNvPr id="189" name="Afbeelding 5" descr=""/>
          <p:cNvPicPr/>
          <p:nvPr/>
        </p:nvPicPr>
        <p:blipFill>
          <a:blip r:embed="rId2"/>
          <a:stretch/>
        </p:blipFill>
        <p:spPr>
          <a:xfrm>
            <a:off x="4575240" y="3186000"/>
            <a:ext cx="4537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melvaar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Jezus gaat naar de hemel (naar zijn Vad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Afbeelding 3" descr=""/>
          <p:cNvPicPr/>
          <p:nvPr/>
        </p:nvPicPr>
        <p:blipFill>
          <a:blip r:embed="rId1"/>
          <a:stretch/>
        </p:blipFill>
        <p:spPr>
          <a:xfrm>
            <a:off x="3780000" y="2979720"/>
            <a:ext cx="403200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Pinkster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Pinkster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Uitstorting van de Heilige Gee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Afbeelding 3" descr=""/>
          <p:cNvPicPr/>
          <p:nvPr/>
        </p:nvPicPr>
        <p:blipFill>
          <a:blip r:embed="rId1"/>
          <a:stretch/>
        </p:blipFill>
        <p:spPr>
          <a:xfrm>
            <a:off x="0" y="4130640"/>
            <a:ext cx="4284720" cy="1984320"/>
          </a:xfrm>
          <a:prstGeom prst="rect">
            <a:avLst/>
          </a:prstGeom>
          <a:ln w="0">
            <a:noFill/>
          </a:ln>
        </p:spPr>
      </p:pic>
      <p:pic>
        <p:nvPicPr>
          <p:cNvPr id="196" name="Afbeelding 4" descr=""/>
          <p:cNvPicPr/>
          <p:nvPr/>
        </p:nvPicPr>
        <p:blipFill>
          <a:blip r:embed="rId2"/>
          <a:stretch/>
        </p:blipFill>
        <p:spPr>
          <a:xfrm>
            <a:off x="4572000" y="4005360"/>
            <a:ext cx="4032360" cy="2377800"/>
          </a:xfrm>
          <a:prstGeom prst="rect">
            <a:avLst/>
          </a:prstGeom>
          <a:ln w="0">
            <a:noFill/>
          </a:ln>
        </p:spPr>
      </p:pic>
      <p:pic>
        <p:nvPicPr>
          <p:cNvPr id="197" name="Afbeelding 5" descr=""/>
          <p:cNvPicPr/>
          <p:nvPr/>
        </p:nvPicPr>
        <p:blipFill>
          <a:blip r:embed="rId3"/>
          <a:stretch/>
        </p:blipFill>
        <p:spPr>
          <a:xfrm>
            <a:off x="5297400" y="115920"/>
            <a:ext cx="38307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7:49:46Z</dcterms:created>
  <dc:creator>Nuborgh College</dc:creator>
  <dc:description/>
  <dc:language>en-US</dc:language>
  <cp:lastModifiedBy>Windows-gebruiker</cp:lastModifiedBy>
  <dcterms:modified xsi:type="dcterms:W3CDTF">2021-08-30T13:10:24Z</dcterms:modified>
  <cp:revision>8</cp:revision>
  <dc:subject/>
  <dc:title>Zending – Les 2</dc:title>
</cp:coreProperties>
</file>