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4CF-3715-4B0B-B3BB-BB9CD541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53F-BB95-4959-A408-B274C322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91A-00EE-49FD-B07B-CFA0B5F0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93F-747D-40BB-A66C-40791B85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E872-38FA-421D-B86C-A513A669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C708-BA25-4DD4-85EA-7EFF6AD8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4349-F08E-4954-832B-61D70716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96B8-B456-40D7-AD48-44904BC9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E6CB-8E8F-4E30-8C77-AF94AF7D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58F9-269A-478A-BEC1-6BD66F0D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BBE5-8F47-4C0F-B725-C6EFC180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0AF-4A53-4F81-B8CB-E8215D69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56A9-70F6-42BD-AAEB-CF07F745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3989-741A-478A-B9BC-14C316AA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9380-8001-45B0-9AF4-D60693DF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B8E0-FC92-460E-A1BA-CD8AFAA7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A9F4-B1FD-4424-B4D6-70EAFE26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E0B5-B548-476E-8C02-879BC04D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11E7-1DF2-4CAE-868E-6075522B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56D8D-4598-41A4-9FEB-8841CB61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2945-799C-4564-BE91-7857AF7B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5546-FE82-4D94-9F97-EED7272D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138-8D4A-488E-B5B3-FF91D74D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0871-F7AF-444E-B8E1-858CF8BE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6A3A-5AA4-472E-8887-A93076B5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EBC3D-7037-4BD0-8006-B8A9D77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FFFB-3DCA-4A8E-B728-E6F2CFE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33CD-0EDA-48AF-8E96-64E56F2E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B66BA-B134-4F46-8E3E-51512DCD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5992-DE9F-4A31-969F-EE7DB56B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3347-4DF1-46E7-AEB2-D6D08F60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262CF-580B-4C1B-901B-1AC03504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B2BD-D08B-4F8F-8399-407891AD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BD3-D0D9-4380-8E97-81D55A6F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6B979-D0A9-4088-8DF1-8EC3EA86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82DBB-46AE-40F5-9775-A00950BF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20D6-F5F9-4B9F-B101-C6536FEB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5166B-08A1-46C1-B7FF-EAAE1C65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691DC-F0FE-4D57-A681-C73F9CD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609BF-EBB0-4DC9-A230-DADAA1E4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258F-503F-413D-B489-E1013654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B424B-4278-4084-9206-B8F175CF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E324D-97A5-46BE-9870-2E6B9D78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0FD-8C67-4435-9EE2-29CB0A4D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436-E391-4F0D-A0B1-94F03C23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521-039B-4F4E-929F-E8ECB71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9A4-8C53-4E19-A2F0-21675C20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AB0-E410-4F81-AC36-FE38002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D744-A830-4F0B-8FE0-EF6CB02C0B9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3214-0D1B-4C28-AB63-29C8B8B1028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0D06-87FC-4093-83D8-C40C4B894ED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A9A6-93C7-4DA7-AE27-A2167F212EB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hec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1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is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nneer begon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2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Pinksteren betek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hoe je lid van de kerk word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de doop betek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r>
              <a:rPr b="0" lang="nl-NL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ristelijke feestdag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lke zijn 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erstfe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ede Vrijda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melva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inkst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erstf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orte van Jezus Christ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-3960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1268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Afbeelding 7" descr=""/>
          <p:cNvPicPr/>
          <p:nvPr/>
        </p:nvPicPr>
        <p:blipFill>
          <a:blip r:embed="rId1"/>
          <a:stretch/>
        </p:blipFill>
        <p:spPr>
          <a:xfrm>
            <a:off x="1403280" y="2774880"/>
            <a:ext cx="61977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Vrijda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Kruisiging van Jez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Afbeelding 3" descr=""/>
          <p:cNvPicPr/>
          <p:nvPr/>
        </p:nvPicPr>
        <p:blipFill>
          <a:blip r:embed="rId1"/>
          <a:stretch/>
        </p:blipFill>
        <p:spPr>
          <a:xfrm>
            <a:off x="1927080" y="3032280"/>
            <a:ext cx="480564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as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opstanding van Jezus ui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Afbeelding 4" descr=""/>
          <p:cNvPicPr/>
          <p:nvPr/>
        </p:nvPicPr>
        <p:blipFill>
          <a:blip r:embed="rId1"/>
          <a:stretch/>
        </p:blipFill>
        <p:spPr>
          <a:xfrm>
            <a:off x="22320" y="3213000"/>
            <a:ext cx="4535280" cy="3311640"/>
          </a:xfrm>
          <a:prstGeom prst="rect">
            <a:avLst/>
          </a:prstGeom>
          <a:ln w="0">
            <a:noFill/>
          </a:ln>
        </p:spPr>
      </p:pic>
      <p:pic>
        <p:nvPicPr>
          <p:cNvPr id="189" name="Afbeelding 5" descr=""/>
          <p:cNvPicPr/>
          <p:nvPr/>
        </p:nvPicPr>
        <p:blipFill>
          <a:blip r:embed="rId2"/>
          <a:stretch/>
        </p:blipFill>
        <p:spPr>
          <a:xfrm>
            <a:off x="4575240" y="318600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melva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zus gaat naar de hemel (naar zijn Vad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Afbeelding 3" descr=""/>
          <p:cNvPicPr/>
          <p:nvPr/>
        </p:nvPicPr>
        <p:blipFill>
          <a:blip r:embed="rId1"/>
          <a:stretch/>
        </p:blipFill>
        <p:spPr>
          <a:xfrm>
            <a:off x="3780000" y="2979720"/>
            <a:ext cx="4032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Pinkster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inkster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Uitstorting van de Heilige G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Afbeelding 3" descr=""/>
          <p:cNvPicPr/>
          <p:nvPr/>
        </p:nvPicPr>
        <p:blipFill>
          <a:blip r:embed="rId1"/>
          <a:stretch/>
        </p:blipFill>
        <p:spPr>
          <a:xfrm>
            <a:off x="0" y="4130640"/>
            <a:ext cx="4284720" cy="1984320"/>
          </a:xfrm>
          <a:prstGeom prst="rect">
            <a:avLst/>
          </a:prstGeom>
          <a:ln w="0">
            <a:noFill/>
          </a:ln>
        </p:spPr>
      </p:pic>
      <p:pic>
        <p:nvPicPr>
          <p:cNvPr id="196" name="Afbeelding 4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4032360" cy="2377800"/>
          </a:xfrm>
          <a:prstGeom prst="rect">
            <a:avLst/>
          </a:prstGeom>
          <a:ln w="0">
            <a:noFill/>
          </a:ln>
        </p:spPr>
      </p:pic>
      <p:pic>
        <p:nvPicPr>
          <p:cNvPr id="197" name="Afbeelding 5" descr=""/>
          <p:cNvPicPr/>
          <p:nvPr/>
        </p:nvPicPr>
        <p:blipFill>
          <a:blip r:embed="rId3"/>
          <a:stretch/>
        </p:blipFill>
        <p:spPr>
          <a:xfrm>
            <a:off x="5297400" y="115920"/>
            <a:ext cx="38307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7:49:46Z</dcterms:created>
  <dc:creator>Nuborgh College</dc:creator>
  <dc:description/>
  <dc:language>en-US</dc:language>
  <cp:lastModifiedBy>Windows-gebruiker</cp:lastModifiedBy>
  <dcterms:modified xsi:type="dcterms:W3CDTF">2021-08-30T13:10:24Z</dcterms:modified>
  <cp:revision>8</cp:revision>
  <dc:subject/>
  <dc:title>Zending – Les 2</dc:title>
</cp:coreProperties>
</file>