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EA22-A8C3-43DB-88C9-4B344CB6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5BCE-F21C-4FBA-8039-FE03F6F8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E18E-F492-4740-BA95-FB71A2F7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BA0A-E30D-4FBE-8350-A6A9B16D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3823-2567-42F1-9A84-8693E881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ECC1-D933-4075-9693-4E19B1E5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C517-5C96-436A-9480-C8880BFC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1901-9B4C-41BC-A6C5-DDD9B7F0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5EC7-FAF5-42B9-927B-ED15C7BE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A6D4-0B6C-493F-A557-E4BE571A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B8F2-EB2F-4B40-B8EF-485FC158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5EC2-59AC-4563-9583-C7A36186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A1B0-AB45-4705-A672-0232B31D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2B9D-AAF1-42CE-A1DB-06628070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FCE7-23C3-4987-8F21-E903305D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1601-6642-4358-8418-A7B284B5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A8D3-6DBD-4CFC-A61C-E95FBE3E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E0568-2605-4490-9466-DA889C83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DA2D7-F64C-4700-8943-FC38002E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3D2CA-DFA0-4100-8797-EE78A420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C3ED2-BDD0-46B2-B4EA-F0B7A768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F58F8-3F6B-452F-8325-EC9D6E89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5D37-3699-4594-B567-47522B3F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96CAC-A0D1-4599-B027-89349857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5639B-8E30-46B5-A860-C3529963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E30A7-4D2F-4F5E-BDFC-13CEB731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926A4-BBB5-4A7C-B387-5B3E05CA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EC9EB-6946-46BB-B840-84E729A0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C3356-73FE-48B2-9503-C765A40A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14BB4-B287-4C32-B2FC-9F623374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013ED-2205-4197-9E09-47C00263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FE192-0C25-44DD-8C1F-01068393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692AE-5E49-49FF-B183-657B9674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25B2-54CE-4F66-821C-67958569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893A5-6512-4C94-A522-4749F73D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72C99-5D5E-491F-B37D-0C6BE646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41FE3-464B-4E4C-A455-3BFA890C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30A2F-08B8-4668-AE11-22414DC5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E2A31-A709-4C1F-8837-A72A867C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79D8E-3A8A-4BF9-8E3A-4A997B0B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E9391-1DA7-4720-BB83-8D5A0FF0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23020-D9FE-4DAD-AF17-0B4C3922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0E71A-A655-4400-AC18-E3301AFD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27DF-B51D-4D69-BA52-2EF62393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4548-8455-480D-8859-58FBC174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C4AD-E622-49D9-8118-2D5F56A7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214B-8B93-4EC8-B911-81A15B19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329B-82BD-4E98-AD29-E2C33644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3F78-6A27-4D5C-97E9-EA683BB4A31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D10F-FA1A-4504-953C-77C40FA9312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9155-43D2-4507-BFE8-0708909FF68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E886-CBFF-443E-B156-11B6CD2B9B4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hec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5 christelijke feestda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betekenis van de christelijke feestda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rhaling les 1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is zending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nneer begon zending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rhaling les 2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weet wat Pinksteren betek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weet hoe je lid van de kerk word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weet wat de doop betek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5 christelijke feestda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betekenis van de christelijke feestda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r>
              <a:rPr b="0" lang="nl-NL" sz="3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ristelijke feestdag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elke zijn 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Kerstfe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oede Vrijda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emelva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inkste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Kerstfee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eboorte van Jezus Christ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AutoShape 2"/>
          <p:cNvSpPr/>
          <p:nvPr/>
        </p:nvSpPr>
        <p:spPr>
          <a:xfrm>
            <a:off x="-3960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112680" y="15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Afbeelding 7" descr=""/>
          <p:cNvPicPr/>
          <p:nvPr/>
        </p:nvPicPr>
        <p:blipFill>
          <a:blip r:embed="rId1"/>
          <a:stretch/>
        </p:blipFill>
        <p:spPr>
          <a:xfrm>
            <a:off x="1403280" y="2774880"/>
            <a:ext cx="619776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oede Vrijda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Kruisiging van Jez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Afbeelding 3" descr=""/>
          <p:cNvPicPr/>
          <p:nvPr/>
        </p:nvPicPr>
        <p:blipFill>
          <a:blip r:embed="rId1"/>
          <a:stretch/>
        </p:blipFill>
        <p:spPr>
          <a:xfrm>
            <a:off x="1927080" y="3032280"/>
            <a:ext cx="480564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Pas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opstanding van Jezus uit de do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Afbeelding 4" descr=""/>
          <p:cNvPicPr/>
          <p:nvPr/>
        </p:nvPicPr>
        <p:blipFill>
          <a:blip r:embed="rId1"/>
          <a:stretch/>
        </p:blipFill>
        <p:spPr>
          <a:xfrm>
            <a:off x="22320" y="3213000"/>
            <a:ext cx="4535280" cy="3311640"/>
          </a:xfrm>
          <a:prstGeom prst="rect">
            <a:avLst/>
          </a:prstGeom>
          <a:ln w="0">
            <a:noFill/>
          </a:ln>
        </p:spPr>
      </p:pic>
      <p:pic>
        <p:nvPicPr>
          <p:cNvPr id="189" name="Afbeelding 5" descr=""/>
          <p:cNvPicPr/>
          <p:nvPr/>
        </p:nvPicPr>
        <p:blipFill>
          <a:blip r:embed="rId2"/>
          <a:stretch/>
        </p:blipFill>
        <p:spPr>
          <a:xfrm>
            <a:off x="4575240" y="3186000"/>
            <a:ext cx="4537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melvaar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Jezus gaat naar de hemel (naar zijn Vad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Afbeelding 3" descr=""/>
          <p:cNvPicPr/>
          <p:nvPr/>
        </p:nvPicPr>
        <p:blipFill>
          <a:blip r:embed="rId1"/>
          <a:stretch/>
        </p:blipFill>
        <p:spPr>
          <a:xfrm>
            <a:off x="3780000" y="2979720"/>
            <a:ext cx="403200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Pinkster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Pinkster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Uitstorting van de Heilige Gee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Afbeelding 3" descr=""/>
          <p:cNvPicPr/>
          <p:nvPr/>
        </p:nvPicPr>
        <p:blipFill>
          <a:blip r:embed="rId1"/>
          <a:stretch/>
        </p:blipFill>
        <p:spPr>
          <a:xfrm>
            <a:off x="0" y="4130640"/>
            <a:ext cx="4284720" cy="1984320"/>
          </a:xfrm>
          <a:prstGeom prst="rect">
            <a:avLst/>
          </a:prstGeom>
          <a:ln w="0">
            <a:noFill/>
          </a:ln>
        </p:spPr>
      </p:pic>
      <p:pic>
        <p:nvPicPr>
          <p:cNvPr id="196" name="Afbeelding 4" descr=""/>
          <p:cNvPicPr/>
          <p:nvPr/>
        </p:nvPicPr>
        <p:blipFill>
          <a:blip r:embed="rId2"/>
          <a:stretch/>
        </p:blipFill>
        <p:spPr>
          <a:xfrm>
            <a:off x="4572000" y="4005360"/>
            <a:ext cx="4032360" cy="2377800"/>
          </a:xfrm>
          <a:prstGeom prst="rect">
            <a:avLst/>
          </a:prstGeom>
          <a:ln w="0">
            <a:noFill/>
          </a:ln>
        </p:spPr>
      </p:pic>
      <p:pic>
        <p:nvPicPr>
          <p:cNvPr id="197" name="Afbeelding 5" descr=""/>
          <p:cNvPicPr/>
          <p:nvPr/>
        </p:nvPicPr>
        <p:blipFill>
          <a:blip r:embed="rId3"/>
          <a:stretch/>
        </p:blipFill>
        <p:spPr>
          <a:xfrm>
            <a:off x="5297400" y="115920"/>
            <a:ext cx="38307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7:49:46Z</dcterms:created>
  <dc:creator>Nuborgh College</dc:creator>
  <dc:description/>
  <dc:language>en-US</dc:language>
  <cp:lastModifiedBy>Windows-gebruiker</cp:lastModifiedBy>
  <dcterms:modified xsi:type="dcterms:W3CDTF">2021-08-30T13:10:24Z</dcterms:modified>
  <cp:revision>8</cp:revision>
  <dc:subject/>
  <dc:title>Zending – Les 2</dc:title>
</cp:coreProperties>
</file>