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D81E-207F-41DF-BEC1-8328E8F8D3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4BDC-77C1-475E-94AA-10780C13DD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521-BE5E-4DEB-BBEA-CDBBEE4D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6B5-3763-4389-84D3-15A51DAA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E348-EDC1-4313-9CF3-61442D2B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7259-076D-43DC-AC85-40039182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D9F-98F4-4604-B2E5-8864BF76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F64-1992-4A61-A5E0-202AB804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92C9-A3E3-4133-91E0-1B5C2A8D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E65-B4BA-4EBD-841D-04ABE8D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5ED-8F60-47CB-9183-2A787B41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B997-7EF4-45CD-9A96-BF9358C9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F36-DEC6-4FBE-AE9F-1202D31F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DB7-6240-4EF7-9C5C-8865BA62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7EAC-FA12-4D02-BAA5-88192D6FBF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ijkswaterstaat.nl/hsl/imagepop.jsp?source=/hsl/Images/Bundel%20HSL%20-%20A4%20(TP040426-31)_1024x681_tcm51-11586.jpg&amp;alt=Ecologische%20duiker%20bij%20bundeling%20van%20de%20HSL-Zuid%20met%20de%20A4%20(april%202004)&amp;text=Bundel%20HSL-A4%20(TPapril2004-31)&amp;width=813&amp;height=541%20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uimpje.punt.nl/index.php?foto=true&amp;id=322436&amp;fgroep=2100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mondeoclipper/werf_deurganckdok&amp;page=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160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Grond vervoeren</a:t>
            </a:r>
            <a:br>
              <a:rPr sz="5400"/>
            </a:br>
            <a:r>
              <a:rPr b="0" lang="nl-NL" sz="2000" spc="-1" strike="noStrike">
                <a:solidFill>
                  <a:srgbClr val="cc3300"/>
                </a:solidFill>
                <a:latin typeface="Arial"/>
              </a:rPr>
              <a:t>blz 203-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umper008"/>
          <p:cNvPicPr/>
          <p:nvPr/>
        </p:nvPicPr>
        <p:blipFill>
          <a:blip r:embed="rId1"/>
          <a:stretch/>
        </p:blipFill>
        <p:spPr>
          <a:xfrm>
            <a:off x="2050920" y="2205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randstof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Q2e84iyJdUmK2cWg"/>
          <p:cNvPicPr/>
          <p:nvPr/>
        </p:nvPicPr>
        <p:blipFill>
          <a:blip r:embed="rId1"/>
          <a:stretch/>
        </p:blipFill>
        <p:spPr>
          <a:xfrm>
            <a:off x="468360" y="119700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zwaartransportfoto_1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0-MVC-003F%20(Small)"/>
          <p:cNvPicPr/>
          <p:nvPr/>
        </p:nvPicPr>
        <p:blipFill>
          <a:blip r:embed="rId1"/>
          <a:stretch/>
        </p:blipFill>
        <p:spPr>
          <a:xfrm>
            <a:off x="140328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zandschep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nik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_816"/>
          <p:cNvPicPr/>
          <p:nvPr/>
        </p:nvPicPr>
        <p:blipFill>
          <a:blip r:embed="rId1"/>
          <a:stretch/>
        </p:blipFill>
        <p:spPr>
          <a:xfrm>
            <a:off x="324000" y="1341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732720" y="530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Min 1600 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rekker kie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rekker%20dumper%2010m3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ortste weg of de veilig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zbrowntrouble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478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92200" y="546408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en lo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iku%20liebherr%20shovel%20SK1873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C460C_Preserial_0142"/>
          <p:cNvPicPr/>
          <p:nvPr/>
        </p:nvPicPr>
        <p:blipFill>
          <a:blip r:embed="rId2"/>
          <a:stretch/>
        </p:blipFill>
        <p:spPr>
          <a:xfrm>
            <a:off x="4211640" y="2997360"/>
            <a:ext cx="4932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4_331"/>
          <p:cNvPicPr/>
          <p:nvPr/>
        </p:nvPicPr>
        <p:blipFill>
          <a:blip r:embed="rId1"/>
          <a:stretch/>
        </p:blipFill>
        <p:spPr>
          <a:xfrm>
            <a:off x="971640" y="124128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_334"/>
          <p:cNvPicPr/>
          <p:nvPr/>
        </p:nvPicPr>
        <p:blipFill>
          <a:blip r:embed="rId1"/>
          <a:stretch/>
        </p:blipFill>
        <p:spPr>
          <a:xfrm>
            <a:off x="97164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_335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064200" y="60404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27640" y="573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Y-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nkele begri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p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lagterrein voor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= bouwput, sloot, cune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n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waar zand in kom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een weg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mper =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rijdende zandw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transportwagen achter d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met de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!135452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og, vol en geknik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b_foto_04"/>
          <p:cNvPicPr/>
          <p:nvPr/>
        </p:nvPicPr>
        <p:blipFill>
          <a:blip r:embed="rId1"/>
          <a:stretch/>
        </p:blipFill>
        <p:spPr>
          <a:xfrm>
            <a:off x="539640" y="1657440"/>
            <a:ext cx="81727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Du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logische duiker bij bundeling van de HSL-Zuid met de A4 (april 200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770400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ver de openbare w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emming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ute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 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- en uit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 gew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ne of (licht) vervuil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Volvo A40D  knikdumper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Aanvullen van de muur met zan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den van dumpers met zand voor de aanvullin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aanbrengen van het zand voor de opvulling van de baggerdijk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169_6928.JP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Zandtransport kan zo 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telhaven1500-16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aterpillar 74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69_6963.JPG"/>
          <p:cNvPicPr/>
          <p:nvPr/>
        </p:nvPicPr>
        <p:blipFill>
          <a:blip r:embed="rId1"/>
          <a:stretch/>
        </p:blipFill>
        <p:spPr>
          <a:xfrm>
            <a:off x="971640" y="692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een nauwkeurige technisch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omschrijving van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e methode van op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(weg- en waterbou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bestek"/>
          <p:cNvPicPr/>
          <p:nvPr/>
        </p:nvPicPr>
        <p:blipFill>
          <a:blip r:embed="rId1"/>
          <a:stretch/>
        </p:blipFill>
        <p:spPr>
          <a:xfrm>
            <a:off x="0" y="0"/>
            <a:ext cx="8785080" cy="6178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5300640"/>
            <a:ext cx="341784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3300"/>
                </a:solidFill>
                <a:latin typeface="Arial"/>
              </a:rPr>
              <a:t>RAW - bes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nderwerpen RAW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ouwrijp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Gron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iol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Verh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choeiing/dam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uikers en st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pspuiten van 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zand%20opspuiten_tcm50-35541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chine 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duur is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aciteit, het laad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randstof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oort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 d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zandauto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rekker_dumper"/>
          <p:cNvPicPr/>
          <p:nvPr/>
        </p:nvPicPr>
        <p:blipFill>
          <a:blip r:embed="rId3"/>
          <a:stretch/>
        </p:blipFill>
        <p:spPr>
          <a:xfrm>
            <a:off x="4211640" y="2997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adverm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oskinagritre"/>
          <p:cNvPicPr/>
          <p:nvPr/>
        </p:nvPicPr>
        <p:blipFill>
          <a:blip r:embed="rId1"/>
          <a:stretch/>
        </p:blipFill>
        <p:spPr>
          <a:xfrm>
            <a:off x="395280" y="126828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rekker-kipper"/>
          <p:cNvPicPr/>
          <p:nvPr/>
        </p:nvPicPr>
        <p:blipFill>
          <a:blip r:embed="rId2"/>
          <a:stretch/>
        </p:blipFill>
        <p:spPr>
          <a:xfrm>
            <a:off x="4284720" y="2852640"/>
            <a:ext cx="4535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veel transportmiddel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!133330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at 375 LME &amp; Volvo A40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3:06:53Z</dcterms:created>
  <dc:creator>default</dc:creator>
  <dc:description/>
  <dc:language>en-US</dc:language>
  <cp:lastModifiedBy>Jurrien van 't Oever</cp:lastModifiedBy>
  <dcterms:modified xsi:type="dcterms:W3CDTF">2013-10-11T12:08:04Z</dcterms:modified>
  <cp:revision>7</cp:revision>
  <dc:subject/>
  <dc:title>Grond vervoeren</dc:title>
</cp:coreProperties>
</file>