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0341-3585-4BDE-AC35-D623CC257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45E4-E383-4C5E-B4C6-6C6388D7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BA2D-1715-4021-AC9C-7C6646AEB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D33B-867E-4131-A944-28598A0C9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8882-4AE1-4DBF-953A-265F33A23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76A8-4608-4C3B-9AA8-E3EFD9D3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691B-EC00-477E-8324-8FE5879A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FD48-35D9-487C-8945-356B5322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6FD7-38B7-4A53-94D7-D1BD238D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0998-A626-4D0C-AC4B-E2E55319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0A90-C5A6-48D2-ADC5-F8EC9C0C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645D-3BD4-4C04-BE03-F88389FF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53BA-A2E6-43B1-8EF9-DB04902F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AF8B-98E4-42C8-86C3-CCB7E4C8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127D-F17D-4DE1-99DF-CF37514B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2E48-E5E3-4D8C-A4C0-EBF34C8B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FB66-5F4E-43A1-9239-E264FB3A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E2D5-7874-4427-87A7-CD03EE00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0F40-C2B4-4A37-AB95-DB2FF11C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34CB-F897-4D13-AE47-3F9A90BC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5AF0-CC38-4BB5-8AAA-52009F13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47D6-C943-4CA6-A664-FF3B68F2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9438-B902-43C5-B620-E0481B9E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E662-C7D8-48E0-AAF5-C88BFAC8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55F4-2663-4600-AB05-7A10DF66C999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1EDE-A576-4418-9DC0-3EE5E3F8ACED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rojectenbankcultuurhistorie.nl/content/img%255Cbodem_voeten3.jpg&amp;imgrefurl=http://www.projectenbankcultuurhistorie.nl/content/Bodem_onder_onze_Voeten.xml.asp%3Fbc%3Dbalk2-6-1%26type%3Dbalk2%26parent%3D6-1&amp;h=470&amp;w=301&amp;sz=68&amp;hl=nl&amp;start=1&amp;um=1&amp;tbnid=ZLuytrcc_YGfkM:&amp;tbnh=129&amp;tbnw=83&amp;prev=/images%3Fq%3Dbodemprofiel%26svnum%3D10%26um%3D1%26hl%3Dnl%26rls%3Dcom.microsoft:*:IE-SearchBox%26rlz%3D1I7ADBF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ionovapro.nl/img/handen.jpg&amp;imgrefurl=http://www.bionovapro.nl/base/Bionovapro_products_D.asp%3FID%3D156%26Lang%3D1&amp;h=150&amp;w=200&amp;sz=23&amp;hl=nl&amp;start=12&amp;um=1&amp;tbnid=Q0jX2KOC0xDlAM:&amp;tbnh=78&amp;tbnw=104&amp;prev=/images%3Fq%3Dbodemstructuur%26svnum%3D10%26um%3D1%26hl%3Dnl%26rls%3Dcom.microsoft:*:IE-SearchBox%26rlz%3D1I7ADBF%26sa%3D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Grondbewerking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47242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enkee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4703760" cy="3529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Berdi MGG, aanleg golfbaan Marssum"/>
          <p:cNvPicPr/>
          <p:nvPr/>
        </p:nvPicPr>
        <p:blipFill>
          <a:blip r:embed="rId2"/>
          <a:stretch/>
        </p:blipFill>
        <p:spPr>
          <a:xfrm>
            <a:off x="5580000" y="2565360"/>
            <a:ext cx="3300480" cy="2195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451640" y="1628640"/>
            <a:ext cx="138132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Plaatstructuu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e horizontale gelaagdheid van bodem is te zien, vaak op slempige gronden. Bij opdrogen barsten de platen en krullen ze omhoo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ntstaan o.a. door zware druk van machines die regelmatig een bodem berijden. Denk aan de ploegzool bij een tractor of het rijden van bouwverkeer bij nieuwbouw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-&gt; is een vaste plaa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ofie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4957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volgen slecht profie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lechte doorwort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lechte doorluch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lechte doorwat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ruchtbaarheid kan in gevaar k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227640" y="3213000"/>
            <a:ext cx="2286000" cy="1505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227640" y="1989000"/>
            <a:ext cx="208764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76312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Profielverbetering is vaak een kostbare zaak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Afweging: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-&gt; de te maken kosten t.o.v. de te verwachte opbrengsten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rofielverbetering wenselijk in volgende omstandigheden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628640"/>
            <a:ext cx="80074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aste lagen in de bouwvoor kunnen ook dieper voorkomen dan de bouwvoo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orende lagen die dieper in het profiel zitten: oerbanken, keileembanken, grind lage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gewenste volgorde van grondlagen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gelijke ligging van het maaivel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385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Grondbewerking wenselijk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413000"/>
            <a:ext cx="80074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lempen en stuiven oplos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lant- of zaai/ zode klaar ma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rofileren/ unduleren/ egaliseren terre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ter- en luchthuishouding rege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reken storende la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anleg drainage/ leidingen/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Lagen verwisselen\ ontgravi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derbrengen compost, stoppelresten, stalmest, herbiciden en dergelijke + bestrijden van onkruid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Grondbewerking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of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verbetering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341000"/>
            <a:ext cx="8007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6096240" cy="4143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Berdi MGG, aanleg golfbaan Marssum"/>
          <p:cNvPicPr/>
          <p:nvPr/>
        </p:nvPicPr>
        <p:blipFill>
          <a:blip r:embed="rId2"/>
          <a:stretch/>
        </p:blipFill>
        <p:spPr>
          <a:xfrm>
            <a:off x="5651640" y="2565360"/>
            <a:ext cx="2706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el grondbewerking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6039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t gewas een zo gunstig mogelijke bewortelingsplaats te gev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-&gt; je hebt daarvoor voldoende lucht, water en een goede structuur nodi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948360" y="3213000"/>
            <a:ext cx="127656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rondverbeter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197000"/>
            <a:ext cx="800748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kalk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rganische bemes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ede ontwate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ondbewerking (op juiste momen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2 x  Challenger voor de ploeg met bijna 1000 pk"/>
          <p:cNvPicPr/>
          <p:nvPr/>
        </p:nvPicPr>
        <p:blipFill>
          <a:blip r:embed="rId1"/>
          <a:stretch/>
        </p:blipFill>
        <p:spPr>
          <a:xfrm>
            <a:off x="2268360" y="4076640"/>
            <a:ext cx="428652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Profilering t.b.v. ontwerp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beelden van grondverzet zijn het ontgraven, transporteren, ophogen en egaliseren van gron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moet dan denken aan werkzaamheden als hydraulische graafmachines, dumper, laadschop, bulldozer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Storingen in de bodem opheffen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beelden van grondbewerking zijn: het opheffen van een verdichting, het breken van storende lagen en lagen te wissele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moet dan denken aan werkzaamheden als diepploegen, diepwoelen, draineren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houd: Grondbewerking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r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tructuur/ profi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rondverbet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rondbewe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rondbewerkingswertui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2924280"/>
            <a:ext cx="1576440" cy="2450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588000" y="1916280"/>
            <a:ext cx="138132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Zaai- en plantklaar maken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of verzorging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verplaatst de grond niet en bewerkt deze niet dieper dan de bouwvoo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orbeelden van zaai- en plantklaar maken zijn het bestrijden van onkruiden, het uitvoeren en onderwerken van een bemesting en het loswerken van de bouwvoor voor het plantwerk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244440"/>
            <a:ext cx="85914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b7"/>
                </a:solidFill>
                <a:latin typeface="Arial Black"/>
              </a:rPr>
              <a:t>                   </a:t>
            </a:r>
            <a:r>
              <a:rPr b="1" lang="nl-NL" sz="2800" spc="-1" strike="noStrike">
                <a:solidFill>
                  <a:srgbClr val="ffffb7"/>
                </a:solidFill>
                <a:latin typeface="Arial Black"/>
              </a:rPr>
              <a:t>Voorbeeld: De frees</a:t>
            </a:r>
            <a:br>
              <a:rPr sz="2800"/>
            </a:br>
            <a:br>
              <a:rPr sz="1800"/>
            </a:br>
            <a:r>
              <a:rPr b="0" lang="nl-NL" sz="1800" spc="-1" strike="noStrike">
                <a:solidFill>
                  <a:srgbClr val="ffffb7"/>
                </a:solidFill>
                <a:latin typeface="Arial Black"/>
              </a:rPr>
              <a:t>- </a:t>
            </a:r>
            <a:r>
              <a:rPr b="0" lang="nl-NL" sz="1800" spc="-1" strike="noStrike">
                <a:solidFill>
                  <a:srgbClr val="ffffff"/>
                </a:solidFill>
                <a:latin typeface="Arial Black"/>
              </a:rPr>
              <a:t>toplaagbegroeiing, onderwerken van mest, bestrijden van onkruid of het maken van zaai- en plantbedden.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Arial Black"/>
              </a:rPr>
              <a:t>- niet gebruiken in te natte grond of als je veel regen verwacht. 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Arial Black"/>
              </a:rPr>
              <a:t>- door de snijdende werking van de frees kun je in vaste grond werken en planten verkleinen en vermengen. 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Arial Black"/>
              </a:rPr>
              <a:t>- achter de frees zit een verstelbare kap waar de grond tegen gegooid wordt. De grond wordt op deze manier nog meer verkruimeld.</a:t>
            </a:r>
            <a:br>
              <a:rPr sz="1800"/>
            </a:br>
            <a:r>
              <a:rPr b="0" lang="nl-NL" sz="1800" spc="-1" strike="noStrike">
                <a:solidFill>
                  <a:srgbClr val="ffffff"/>
                </a:solidFill>
                <a:latin typeface="Arial Black"/>
              </a:rPr>
              <a:t>- afhankelijk van de draairichting kan een freesas met de rijrichting meelopen (meelopende frees) of tegengesteld zijn draaien (overtopfrees)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95280" y="4221000"/>
            <a:ext cx="2857680" cy="2286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012000" y="3789360"/>
            <a:ext cx="238284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Inzet machines/ werktuigen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3059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 keuze wordt bepaald door -in veel gevallen een combinatie- van de volgende factoren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grondsoort en draagkracht van de bode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t tijdstip van de uitvoering van het grondwer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diepte van het uit te voeren grondwer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t beschikbare budget en/of beschikbare tij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grootte van het objec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bereikbaarheid van het objec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hoeveelheid aan grondwerkzaamhed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anbouwwerktuig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59464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chter of voor een een of tweeassige tractor, soms aangedreven door de aftak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werkingsdiep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 ondergrondbewerking (dieper dan 30 cm) bv. woel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 hoofdgrondbewerking (van 0 tot 30 cm) bv. frees spitmachine, triltandcultivato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 voor- en nabewerking (van 0 tot 10 cm) bv. rotorkopeg, egalisatieba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 verzorgende bewerking                                                 (van 0 tot 5 cm) bv. schoffelmachine                                        t.b.v. onkruidbestrijd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940360" y="4653000"/>
            <a:ext cx="2857680" cy="20289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419640" y="630864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Rotorkope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557000"/>
            <a:ext cx="800748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EINDE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6197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aar bestaat grond ui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459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ste delen, onder te verdelen in; (Ca 50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organische stof (humus, afval, plant, di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norganische stof (zand, klei, kalk, zout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iën, onder te verdelen in; (Ca 2 x 2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water (met daarin opgeloste zouten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luc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ndsoorten: zand, veen, klei, loss, leem en zav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ructuur/ profie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43280" y="2133720"/>
            <a:ext cx="4191120" cy="3752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95280" y="1557360"/>
            <a:ext cx="38894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"/>
              </a:rPr>
              <a:t>Struct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onderlinge rangschikking en binding van de afzonderlijke bodemdeeltj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"/>
              </a:rPr>
              <a:t>Profi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ticale doorsnede van de bodem, ook wel de gelaagdhe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elang structuu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351640" cy="44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- aanwezigheid poriën en holten tussen vaste gronddeeltjes groot belang voor eigenschappen, - vanwege volgende factore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* lucht en warmte in de grond dringen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* goede beworteling mogelijk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* water in de grond vasthouden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* te veel water kan worden afgevoe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38512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Voor gunstige structuur is van belang;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2420640"/>
            <a:ext cx="5761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doende hoeveelheid poriën en holten in de grond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en juiste verhouding tussen deze poriën en holte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doende stabiliteit 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doende bodemleve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3141720"/>
            <a:ext cx="2141640" cy="16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ructuurvormen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58323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jze van rangschikking en het veel/ weinig voorkomen van poriën en holte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ruimelstructuu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orrelstructuu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aatstructuu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732720" y="4076640"/>
            <a:ext cx="1544400" cy="1544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156360" y="2349360"/>
            <a:ext cx="211932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ruimelstructuur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2342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 gronddeeltjes zijn tot groepen samengebundeld tot de zogenaamde kruimel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de kruimel, tussen de poriën, is ruimte voor water en tussen de kruimels is ruimte voor lucht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&gt; dit is de BES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orrelstructuu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3059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afzonderlijke bodemdeeltjes liggen geheel los van elkaar: Er is geen enkele bind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beeld: bak met knikk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ok bij humusarme zandgronden en vastgereden kleigrond kan de bovengrond een korrelstructuur bezitten. Deze gronden stuiven gemakkelijk en slempen bij regenval snel dich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-&gt; is een losse bend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10:52Z</dcterms:created>
  <dc:creator>ICT</dc:creator>
  <dc:description/>
  <dc:language>en-US</dc:language>
  <cp:lastModifiedBy>default</cp:lastModifiedBy>
  <dcterms:modified xsi:type="dcterms:W3CDTF">2008-11-10T12:56:04Z</dcterms:modified>
  <cp:revision>6</cp:revision>
  <dc:subject/>
  <dc:title>grondbewerking</dc:title>
</cp:coreProperties>
</file>