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EC3C-906C-40D6-B31B-955BD714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045-D002-436D-8905-8896AA1B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507-12C1-4BC1-A51E-1E6B6112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C6B7-8890-4960-84EF-CA61BC2A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DD2-34BA-493E-9169-1FF8F286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0ED-CACF-4D00-97FA-F095BC4A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7563-3D02-40D8-89E2-56422472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374-779F-45BC-9140-C35145BB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333-6C24-4223-9632-CA31A4A2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0B9-7F47-40F3-BD5F-1C4EA96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845-BE3C-4999-915D-4F1BF662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12B-7325-4E99-9316-0B063C4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FD07-0B44-4955-A185-D3599C6534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roekemawegenbouw.nl/fotoalbum%20riolering/arles_gallery/imagepages/image2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</a:rPr>
              <a:t>Grond verwerken</a:t>
            </a:r>
            <a:br>
              <a:rPr sz="4400"/>
            </a:b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blz 2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62643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Waar moet de grond lig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407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Rioolb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Buis fixeren = vast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 in laagjes toevo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betonnen rioolbui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57680" y="0"/>
            <a:ext cx="44863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Vrij hangende k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Zo mogelijk de kabel iets opt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Links en rechts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verd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06%2005%20006"/>
          <p:cNvPicPr/>
          <p:nvPr/>
        </p:nvPicPr>
        <p:blipFill>
          <a:blip r:embed="rId1"/>
          <a:stretch/>
        </p:blipFill>
        <p:spPr>
          <a:xfrm>
            <a:off x="4859280" y="1628640"/>
            <a:ext cx="372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img"/>
          <p:cNvPicPr/>
          <p:nvPr/>
        </p:nvPicPr>
        <p:blipFill>
          <a:blip r:embed="rId1"/>
          <a:stretch/>
        </p:blipFill>
        <p:spPr>
          <a:xfrm>
            <a:off x="539640" y="1628640"/>
            <a:ext cx="3888000" cy="388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putten1"/>
          <p:cNvPicPr/>
          <p:nvPr/>
        </p:nvPicPr>
        <p:blipFill>
          <a:blip r:embed="rId2"/>
          <a:stretch/>
        </p:blipFill>
        <p:spPr>
          <a:xfrm>
            <a:off x="5076720" y="1628640"/>
            <a:ext cx="3098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Plaatsing van put vanaf vrachtwagen"/>
          <p:cNvPicPr/>
          <p:nvPr/>
        </p:nvPicPr>
        <p:blipFill>
          <a:blip r:embed="rId1"/>
          <a:stretch/>
        </p:blipFill>
        <p:spPr>
          <a:xfrm>
            <a:off x="826920" y="1628640"/>
            <a:ext cx="3360960" cy="4321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ut aan een kraan in een gat"/>
          <p:cNvPicPr/>
          <p:nvPr/>
        </p:nvPicPr>
        <p:blipFill>
          <a:blip r:embed="rId2"/>
          <a:stretch/>
        </p:blipFill>
        <p:spPr>
          <a:xfrm>
            <a:off x="4932360" y="1628640"/>
            <a:ext cx="34718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Inspectieput / kol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andachtspun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Voorzichtig 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ndom aan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n lagen aanvu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Aanvullen met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aat wel s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Laag voor laag aanvullen moeilij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HGM dan wiellader kan 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Route zo kort mogelijk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et wielen verd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Iets over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ie plaatje blz 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loot de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modder en water op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rst de sloot opsch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vt water voor je uit 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inde sloot een dam 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sloot%20dempen%20vrachtwagen%20verzakt"/>
          <p:cNvPicPr/>
          <p:nvPr/>
        </p:nvPicPr>
        <p:blipFill>
          <a:blip r:embed="rId1"/>
          <a:stretch/>
        </p:blipFill>
        <p:spPr>
          <a:xfrm>
            <a:off x="0" y="0"/>
            <a:ext cx="968544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damsterdiep_opgraving_2_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"/>
              </a:rPr>
              <a:t>Grondverwerken </a:t>
            </a:r>
            <a:br>
              <a:rPr sz="40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inekeu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harry__s_hondenhokje_019"/>
          <p:cNvPicPr/>
          <p:nvPr/>
        </p:nvPicPr>
        <p:blipFill>
          <a:blip r:embed="rId1"/>
          <a:stretch/>
        </p:blipFill>
        <p:spPr>
          <a:xfrm>
            <a:off x="0" y="141300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wiellader"/>
          <p:cNvPicPr/>
          <p:nvPr/>
        </p:nvPicPr>
        <p:blipFill>
          <a:blip r:embed="rId2"/>
          <a:stretch/>
        </p:blipFill>
        <p:spPr>
          <a:xfrm>
            <a:off x="3348000" y="2565360"/>
            <a:ext cx="3024360" cy="2335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950j_lg"/>
          <p:cNvPicPr/>
          <p:nvPr/>
        </p:nvPicPr>
        <p:blipFill>
          <a:blip r:embed="rId3"/>
          <a:stretch/>
        </p:blipFill>
        <p:spPr>
          <a:xfrm>
            <a:off x="6156360" y="443700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447840" y="4508640"/>
            <a:ext cx="376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HG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Wiellad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ff3300"/>
                </a:solidFill>
                <a:latin typeface="Arial"/>
              </a:rPr>
              <a:t>Do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arry__s_hondenhokje_019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H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Grondverwerken over een korte af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er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omhoog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3300"/>
                </a:solidFill>
                <a:latin typeface="Arial"/>
              </a:rPr>
              <a:t>-vullen van sleu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3300"/>
                </a:solidFill>
                <a:latin typeface="Arial"/>
              </a:rPr>
              <a:t>Machine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ellader en dozer kunnen grond over een grotere afstand verwer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zer vooral bij grote projec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wiellader"/>
          <p:cNvPicPr/>
          <p:nvPr/>
        </p:nvPicPr>
        <p:blipFill>
          <a:blip r:embed="rId1"/>
          <a:stretch/>
        </p:blipFill>
        <p:spPr>
          <a:xfrm>
            <a:off x="395280" y="119700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950j_lg"/>
          <p:cNvPicPr/>
          <p:nvPr/>
        </p:nvPicPr>
        <p:blipFill>
          <a:blip r:embed="rId2"/>
          <a:stretch/>
        </p:blipFill>
        <p:spPr>
          <a:xfrm>
            <a:off x="324000" y="3860640"/>
            <a:ext cx="4103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Een depot = een plek waar je grond (tijdelijk) opsl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ijvoorbeeld het apart leggen van vruchtbare bovengrond. Minimaal 20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depot met H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ievallei%20Menen%20volgestort%20onder%20mom%20van%20bosaanleg"/>
          <p:cNvPicPr/>
          <p:nvPr/>
        </p:nvPicPr>
        <p:blipFill>
          <a:blip r:embed="rId1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Storten met 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Achteraan beg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Mannetje aan mannetje st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Zo hoog mog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Per rij af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993300"/>
                </a:solidFill>
                <a:latin typeface="Arial"/>
              </a:rPr>
              <a:t>Grond verwerken met wiell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renovatie1990"/>
          <p:cNvPicPr/>
          <p:nvPr/>
        </p:nvPicPr>
        <p:blipFill>
          <a:blip r:embed="rId1"/>
          <a:stretch/>
        </p:blipFill>
        <p:spPr>
          <a:xfrm>
            <a:off x="755640" y="1341360"/>
            <a:ext cx="7777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3300"/>
                </a:solidFill>
                <a:latin typeface="Arial"/>
              </a:rPr>
              <a:t>Grond in een sleu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HGM zet je aan de overzijde van de loss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Brede 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Geen stenen of puin op de kabel/le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993300"/>
                </a:solidFill>
                <a:latin typeface="Arial"/>
              </a:rPr>
              <a:t>Sleufstamper (zo mogelij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0:33:13Z</dcterms:created>
  <dc:creator>default</dc:creator>
  <dc:description/>
  <dc:language>en-US</dc:language>
  <cp:lastModifiedBy>Jurrien van 't Oever</cp:lastModifiedBy>
  <dcterms:modified xsi:type="dcterms:W3CDTF">2013-10-11T12:31:50Z</dcterms:modified>
  <cp:revision>3</cp:revision>
  <dc:subject/>
  <dc:title>Grond verwerken blz 215</dc:title>
</cp:coreProperties>
</file>