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5.xml.rels" ContentType="application/vnd.openxmlformats-package.relationships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8.jpeg" ContentType="image/jpeg"/>
  <Override PartName="/ppt/media/image19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11.png" ContentType="image/pn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19A02-0390-4FA4-8A87-D153E29BD7E2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C040D-AF7C-4ED2-A326-71489A4B5EB4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87949-E531-4A32-9C68-256C8D706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3EFFD-CA59-46AA-A47A-D6EEFD3D0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DA3E9-76B1-4920-8670-F38B1C7ED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A6A08-D756-43CA-B851-E6011ABDE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BF8D4-121F-4322-B055-A497909F1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1F4CC-4079-4780-A737-64999B533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8058A-C8CB-4DE8-8AE4-942EEBEDE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19775-5059-41B2-8745-60978DA47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6C315-8D2C-44C1-AE51-ECC548A65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19866-854E-4A55-B8B4-302DB419A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86676-FDB0-43CA-8B67-4B337E2C7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2B68B-AA14-48F9-8F99-A3C351642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oever cultuurtechnisch loonwe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79154-7F83-448F-B9DB-D23FEDF3671C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rijkswaterstaat.nl/hsl/imagepop.jsp?source=/hsl/Images/Bundel%20HSL%20-%20A4%20(TP040426-31)_1024x681_tcm51-11586.jpg&amp;alt=Ecologische%20duiker%20bij%20bundeling%20van%20de%20HSL-Zuid%20met%20de%20A4%20(april%202004)&amp;text=Bundel%20HSL-A4%20(TPapril2004-31)&amp;width=813&amp;height=541%20" TargetMode="External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duimpje.punt.nl/index.php?foto=true&amp;id=322436&amp;fgroep=21008" TargetMode="Externa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pbase.com/mondeoclipper/werf_deurganckdok&amp;page=3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ijdelijke aanduiding voor voettekst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oever cultuurtechnisch loonwe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4360" y="115920"/>
            <a:ext cx="7772400" cy="2160720"/>
          </a:xfrm>
          <a:prstGeom prst="rect">
            <a:avLst/>
          </a:prstGeom>
          <a:noFill/>
          <a:ln w="9360">
            <a:solidFill>
              <a:srgbClr val="cc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400" spc="-1" strike="noStrike">
                <a:solidFill>
                  <a:srgbClr val="cc3300"/>
                </a:solidFill>
                <a:latin typeface="Arial"/>
              </a:rPr>
              <a:t>Grond vervoeren</a:t>
            </a:r>
            <a:br>
              <a:rPr sz="5400"/>
            </a:br>
            <a:r>
              <a:rPr b="0" lang="nl-NL" sz="2000" spc="-1" strike="noStrike">
                <a:solidFill>
                  <a:srgbClr val="cc3300"/>
                </a:solidFill>
                <a:latin typeface="Arial"/>
              </a:rPr>
              <a:t>blz 203-2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357720"/>
            <a:ext cx="6400800" cy="228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dumper008"/>
          <p:cNvPicPr/>
          <p:nvPr/>
        </p:nvPicPr>
        <p:blipFill>
          <a:blip r:embed="rId1"/>
          <a:stretch/>
        </p:blipFill>
        <p:spPr>
          <a:xfrm>
            <a:off x="2050920" y="2205000"/>
            <a:ext cx="5185080" cy="388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ijdelijke aanduiding voor voettekst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oever cultuurtechnisch loonwe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3300"/>
                </a:solidFill>
                <a:latin typeface="Arial"/>
              </a:rPr>
              <a:t>Brandstofkost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5" descr="Q2e84iyJdUmK2cWg"/>
          <p:cNvPicPr/>
          <p:nvPr/>
        </p:nvPicPr>
        <p:blipFill>
          <a:blip r:embed="rId1"/>
          <a:stretch/>
        </p:blipFill>
        <p:spPr>
          <a:xfrm>
            <a:off x="468360" y="1197000"/>
            <a:ext cx="4286160" cy="32194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7" descr="zwaartransportfoto_1"/>
          <p:cNvPicPr/>
          <p:nvPr/>
        </p:nvPicPr>
        <p:blipFill>
          <a:blip r:embed="rId2"/>
          <a:stretch/>
        </p:blipFill>
        <p:spPr>
          <a:xfrm>
            <a:off x="4788000" y="3068640"/>
            <a:ext cx="4356000" cy="266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ijdelijke aanduiding voor voettekst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oever cultuurtechnisch loonwe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3300"/>
                </a:solidFill>
                <a:latin typeface="Arial"/>
              </a:rPr>
              <a:t>Terre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5" descr="60-MVC-003F%20(Small)"/>
          <p:cNvPicPr/>
          <p:nvPr/>
        </p:nvPicPr>
        <p:blipFill>
          <a:blip r:embed="rId1"/>
          <a:stretch/>
        </p:blipFill>
        <p:spPr>
          <a:xfrm>
            <a:off x="1403280" y="126828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ijdelijke aanduiding voor voettekst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oever cultuurtechnisch loonwe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3300"/>
                </a:solidFill>
                <a:latin typeface="Arial"/>
              </a:rPr>
              <a:t>Terre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" descr="zandschep"/>
          <p:cNvPicPr/>
          <p:nvPr/>
        </p:nvPicPr>
        <p:blipFill>
          <a:blip r:embed="rId1"/>
          <a:stretch/>
        </p:blipFill>
        <p:spPr>
          <a:xfrm>
            <a:off x="971640" y="1557360"/>
            <a:ext cx="6985080" cy="4459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ijdelijke aanduiding voor voettekst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oever cultuurtechnisch loonwe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3300"/>
                </a:solidFill>
                <a:latin typeface="Arial"/>
              </a:rPr>
              <a:t>Knikdump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5" descr="1_816"/>
          <p:cNvPicPr/>
          <p:nvPr/>
        </p:nvPicPr>
        <p:blipFill>
          <a:blip r:embed="rId1"/>
          <a:stretch/>
        </p:blipFill>
        <p:spPr>
          <a:xfrm>
            <a:off x="324000" y="1341360"/>
            <a:ext cx="6095880" cy="457200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6"/>
          <p:cNvSpPr/>
          <p:nvPr/>
        </p:nvSpPr>
        <p:spPr>
          <a:xfrm>
            <a:off x="6732720" y="5300640"/>
            <a:ext cx="21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c3300"/>
                </a:solidFill>
                <a:latin typeface="Arial"/>
              </a:rPr>
              <a:t>Min 1600 u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ijdelijke aanduiding voor voettekst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oever cultuurtechnisch loonwe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3300"/>
                </a:solidFill>
                <a:latin typeface="Arial"/>
              </a:rPr>
              <a:t>Trekker kiep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5" descr="Trekker%20dumper%2010m3"/>
          <p:cNvPicPr/>
          <p:nvPr/>
        </p:nvPicPr>
        <p:blipFill>
          <a:blip r:embed="rId1"/>
          <a:stretch/>
        </p:blipFill>
        <p:spPr>
          <a:xfrm>
            <a:off x="1332000" y="1413000"/>
            <a:ext cx="6985080" cy="523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ijdelijke aanduiding voor voettekst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oever cultuurtechnisch loonwe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cc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3300"/>
                </a:solidFill>
                <a:latin typeface="Arial"/>
              </a:rPr>
              <a:t>Kortste weg of de veiligs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5" descr="zbrowntrouble"/>
          <p:cNvPicPr/>
          <p:nvPr/>
        </p:nvPicPr>
        <p:blipFill>
          <a:blip r:embed="rId1"/>
          <a:stretch/>
        </p:blipFill>
        <p:spPr>
          <a:xfrm>
            <a:off x="900000" y="1484280"/>
            <a:ext cx="7201080" cy="447840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6"/>
          <p:cNvSpPr/>
          <p:nvPr/>
        </p:nvSpPr>
        <p:spPr>
          <a:xfrm>
            <a:off x="592200" y="5464080"/>
            <a:ext cx="5924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ijdelijke aanduiding voor voettekst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oever cultuurtechnisch loonwe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3300"/>
                </a:solidFill>
                <a:latin typeface="Arial"/>
              </a:rPr>
              <a:t>Laden en loss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5" descr="Siku%20liebherr%20shovel%20SK1873"/>
          <p:cNvPicPr/>
          <p:nvPr/>
        </p:nvPicPr>
        <p:blipFill>
          <a:blip r:embed="rId1"/>
          <a:stretch/>
        </p:blipFill>
        <p:spPr>
          <a:xfrm>
            <a:off x="250920" y="1125360"/>
            <a:ext cx="3809880" cy="23338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7" descr="EC460C_Preserial_0142"/>
          <p:cNvPicPr/>
          <p:nvPr/>
        </p:nvPicPr>
        <p:blipFill>
          <a:blip r:embed="rId2"/>
          <a:stretch/>
        </p:blipFill>
        <p:spPr>
          <a:xfrm>
            <a:off x="4211640" y="2997360"/>
            <a:ext cx="4932360" cy="369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ijdelijke aanduiding voor voettekst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oever cultuurtechnisch loonwe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3300"/>
                </a:solidFill>
                <a:latin typeface="Arial"/>
              </a:rPr>
              <a:t>Laden, hoe ga je sta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5" descr="4_331"/>
          <p:cNvPicPr/>
          <p:nvPr/>
        </p:nvPicPr>
        <p:blipFill>
          <a:blip r:embed="rId1"/>
          <a:stretch/>
        </p:blipFill>
        <p:spPr>
          <a:xfrm>
            <a:off x="971640" y="1241280"/>
            <a:ext cx="7488000" cy="561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ijdelijke aanduiding voor voettekst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oever cultuurtechnisch loonwe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3300"/>
                </a:solidFill>
                <a:latin typeface="Arial"/>
              </a:rPr>
              <a:t>Laden, hoe ga je sta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5" descr="4_334"/>
          <p:cNvPicPr/>
          <p:nvPr/>
        </p:nvPicPr>
        <p:blipFill>
          <a:blip r:embed="rId1"/>
          <a:stretch/>
        </p:blipFill>
        <p:spPr>
          <a:xfrm>
            <a:off x="971640" y="1700280"/>
            <a:ext cx="609588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ijdelijke aanduiding voor voettekst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oever cultuurtechnisch loonwe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5" descr="4_335"/>
          <p:cNvPicPr/>
          <p:nvPr/>
        </p:nvPicPr>
        <p:blipFill>
          <a:blip r:embed="rId1"/>
          <a:stretch/>
        </p:blipFill>
        <p:spPr>
          <a:xfrm>
            <a:off x="900000" y="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6"/>
          <p:cNvSpPr/>
          <p:nvPr/>
        </p:nvSpPr>
        <p:spPr>
          <a:xfrm>
            <a:off x="6064200" y="6040440"/>
            <a:ext cx="254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7"/>
          <p:cNvSpPr/>
          <p:nvPr/>
        </p:nvSpPr>
        <p:spPr>
          <a:xfrm>
            <a:off x="6227640" y="5734080"/>
            <a:ext cx="192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cc3300"/>
                </a:solidFill>
                <a:latin typeface="Arial"/>
              </a:rPr>
              <a:t>Y-opstel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ijdelijke aanduiding voor voettekst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oever cultuurtechnisch loonwe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3300"/>
                </a:solidFill>
                <a:latin typeface="Arial"/>
              </a:rPr>
              <a:t>Enkele begripp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pot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pslagterrein voor gro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ntgraving = bouwput, sloot, cunet 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unet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ntgraving waar zand in komt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oor een weg of 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umper =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elfrijdende zandwa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f transportwagen achter de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rekk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ijdelijke aanduiding voor voettekst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oever cultuurtechnisch loonwe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3300"/>
                </a:solidFill>
                <a:latin typeface="Arial"/>
              </a:rPr>
              <a:t>Laden met de wiella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5" descr="!135452"/>
          <p:cNvPicPr/>
          <p:nvPr/>
        </p:nvPicPr>
        <p:blipFill>
          <a:blip r:embed="rId1"/>
          <a:stretch/>
        </p:blipFill>
        <p:spPr>
          <a:xfrm>
            <a:off x="1547640" y="1700280"/>
            <a:ext cx="6096240" cy="404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ijdelijke aanduiding voor voettekst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oever cultuurtechnisch loonwe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3300"/>
                </a:solidFill>
                <a:latin typeface="Arial"/>
              </a:rPr>
              <a:t>Hoog, vol en geknikt</a:t>
            </a: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7" descr="b_foto_04"/>
          <p:cNvPicPr/>
          <p:nvPr/>
        </p:nvPicPr>
        <p:blipFill>
          <a:blip r:embed="rId1"/>
          <a:stretch/>
        </p:blipFill>
        <p:spPr>
          <a:xfrm>
            <a:off x="539640" y="1657440"/>
            <a:ext cx="8172720" cy="5200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ijdelijke aanduiding voor voettekst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oever cultuurtechnisch loonwe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3300"/>
                </a:solidFill>
                <a:latin typeface="Arial"/>
              </a:rPr>
              <a:t>Duik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5" descr="Ecologische duiker bij bundeling van de HSL-Zuid met de A4 (april 2004)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2060640"/>
            <a:ext cx="7704000" cy="329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ijdelijke aanduiding voor voettekst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oever cultuurtechnisch loonwe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3300"/>
                </a:solidFill>
                <a:latin typeface="Arial"/>
              </a:rPr>
              <a:t>Over de openbare we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oestemming geme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outep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eg schoonma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schadiging we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n- en uitrit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ax gewic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chone of (licht) vervuilde gro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ijdelijke aanduiding voor voettekst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oever cultuurtechnisch loonwe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=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ijdelijke aanduiding voor voettekst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oever cultuurtechnisch loonwe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5" descr="Volvo A40D  knikdumper"/>
          <p:cNvPicPr/>
          <p:nvPr/>
        </p:nvPicPr>
        <p:blipFill>
          <a:blip r:embed="rId1"/>
          <a:stretch/>
        </p:blipFill>
        <p:spPr>
          <a:xfrm>
            <a:off x="611280" y="54936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ijdelijke aanduiding voor voettekst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oever cultuurtechnisch loonwe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5" descr="Aanvullen van de muur met zand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ijdelijke aanduiding voor voettekst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oever cultuurtechnisch loonwe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5" descr="laden van dumpers met zand voor de aanvulling"/>
          <p:cNvPicPr/>
          <p:nvPr/>
        </p:nvPicPr>
        <p:blipFill>
          <a:blip r:embed="rId1"/>
          <a:stretch/>
        </p:blipFill>
        <p:spPr>
          <a:xfrm>
            <a:off x="155520" y="46080"/>
            <a:ext cx="762012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ijdelijke aanduiding voor voettekst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oever cultuurtechnisch loonwe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5" descr="aanbrengen van het zand voor de opvulling van de baggerdijk"/>
          <p:cNvPicPr/>
          <p:nvPr/>
        </p:nvPicPr>
        <p:blipFill>
          <a:blip r:embed="rId1"/>
          <a:stretch/>
        </p:blipFill>
        <p:spPr>
          <a:xfrm>
            <a:off x="155520" y="46080"/>
            <a:ext cx="762012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ijdelijke aanduiding voor voettekst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oever cultuurtechnisch loonwe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5" descr="169_6928.JPG"/>
          <p:cNvPicPr/>
          <p:nvPr/>
        </p:nvPicPr>
        <p:blipFill>
          <a:blip r:embed="rId1"/>
          <a:stretch/>
        </p:blipFill>
        <p:spPr>
          <a:xfrm>
            <a:off x="155520" y="46080"/>
            <a:ext cx="762012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ijdelijke aanduiding voor voettekst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oever cultuurtechnisch loonwe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3300"/>
                </a:solidFill>
                <a:latin typeface="Arial"/>
              </a:rPr>
              <a:t>Zandtransport kan zo o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ketelhaven1500-16"/>
          <p:cNvPicPr/>
          <p:nvPr/>
        </p:nvPicPr>
        <p:blipFill>
          <a:blip r:embed="rId1"/>
          <a:stretch/>
        </p:blipFill>
        <p:spPr>
          <a:xfrm>
            <a:off x="1187280" y="1413000"/>
            <a:ext cx="6696360" cy="524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ijdelijke aanduiding voor voettekst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oever cultuurtechnisch loonwe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5" descr="Caterpillar 740"/>
          <p:cNvPicPr/>
          <p:nvPr/>
        </p:nvPicPr>
        <p:blipFill>
          <a:blip r:embed="rId1"/>
          <a:stretch/>
        </p:blipFill>
        <p:spPr>
          <a:xfrm>
            <a:off x="155520" y="46080"/>
            <a:ext cx="762012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ijdelijke aanduiding voor voettekst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oever cultuurtechnisch loonwe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5" descr="169_6963.JPG"/>
          <p:cNvPicPr/>
          <p:nvPr/>
        </p:nvPicPr>
        <p:blipFill>
          <a:blip r:embed="rId1"/>
          <a:stretch/>
        </p:blipFill>
        <p:spPr>
          <a:xfrm>
            <a:off x="971640" y="6922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ijdelijke aanduiding voor voettekst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oever cultuurtechnisch loonwe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cc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3300"/>
                </a:solidFill>
                <a:latin typeface="Arial"/>
              </a:rPr>
              <a:t>Beste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3300"/>
                </a:solidFill>
                <a:latin typeface="Arial"/>
              </a:rPr>
              <a:t>Bestek = </a:t>
            </a:r>
            <a:r>
              <a:rPr b="0" lang="nl-NL" sz="32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cc3300"/>
                </a:solidFill>
                <a:latin typeface="Arial"/>
              </a:rPr>
              <a:t>een nauwkeurige technisch </a:t>
            </a:r>
            <a:r>
              <a:rPr b="0" lang="nl-NL" sz="32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cc3300"/>
                </a:solidFill>
                <a:latin typeface="Arial"/>
              </a:rPr>
              <a:t>omschrijving van het we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3300"/>
                </a:solidFill>
                <a:latin typeface="Arial"/>
              </a:rPr>
              <a:t>RAW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cc3300"/>
                </a:solidFill>
                <a:latin typeface="Arial"/>
              </a:rPr>
              <a:t>Bestek =</a:t>
            </a:r>
            <a:r>
              <a:rPr b="0" lang="nl-NL" sz="32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cc3300"/>
                </a:solidFill>
                <a:latin typeface="Arial"/>
              </a:rPr>
              <a:t>de methode van opschrij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cc3300"/>
                </a:solidFill>
                <a:latin typeface="Arial"/>
              </a:rPr>
              <a:t>(weg- en waterbou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ijdelijke aanduiding voor voettekst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oever cultuurtechnisch loonwe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5" descr="bestek"/>
          <p:cNvPicPr/>
          <p:nvPr/>
        </p:nvPicPr>
        <p:blipFill>
          <a:blip r:embed="rId1"/>
          <a:stretch/>
        </p:blipFill>
        <p:spPr>
          <a:xfrm>
            <a:off x="0" y="0"/>
            <a:ext cx="8785080" cy="617868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6"/>
          <p:cNvSpPr/>
          <p:nvPr/>
        </p:nvSpPr>
        <p:spPr>
          <a:xfrm>
            <a:off x="2700360" y="5300640"/>
            <a:ext cx="3417840" cy="642600"/>
          </a:xfrm>
          <a:prstGeom prst="rect">
            <a:avLst/>
          </a:prstGeom>
          <a:noFill/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cc3300"/>
                </a:solidFill>
                <a:latin typeface="Arial"/>
              </a:rPr>
              <a:t>RAW - beste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ijdelijke aanduiding voor voettekst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oever cultuurtechnisch loonwe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cc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3300"/>
                </a:solidFill>
                <a:latin typeface="Arial"/>
              </a:rPr>
              <a:t>Onderwerpen RAW beste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3300"/>
                </a:solidFill>
                <a:latin typeface="Arial"/>
              </a:rPr>
              <a:t>Algem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3300"/>
                </a:solidFill>
                <a:latin typeface="Arial"/>
              </a:rPr>
              <a:t>Bouwrijp ma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3300"/>
                </a:solidFill>
                <a:latin typeface="Arial"/>
              </a:rPr>
              <a:t>Grondwe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3300"/>
                </a:solidFill>
                <a:latin typeface="Arial"/>
              </a:rPr>
              <a:t>Riole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3300"/>
                </a:solidFill>
                <a:latin typeface="Arial"/>
              </a:rPr>
              <a:t>Verhar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3300"/>
                </a:solidFill>
                <a:latin typeface="Arial"/>
              </a:rPr>
              <a:t>Beschoeiing/damwan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3300"/>
                </a:solidFill>
                <a:latin typeface="Arial"/>
              </a:rPr>
              <a:t>Duikers en stu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ijdelijke aanduiding voor voettekst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oever cultuurtechnisch loonwe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cc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3300"/>
                </a:solidFill>
                <a:latin typeface="Arial"/>
              </a:rPr>
              <a:t>Opspuiten van z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5" descr="zand%20opspuiten_tcm50-35541"/>
          <p:cNvPicPr/>
          <p:nvPr/>
        </p:nvPicPr>
        <p:blipFill>
          <a:blip r:embed="rId1"/>
          <a:stretch/>
        </p:blipFill>
        <p:spPr>
          <a:xfrm>
            <a:off x="1258920" y="1628640"/>
            <a:ext cx="6769080" cy="4513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ijdelijke aanduiding voor voettekst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oever cultuurtechnisch loonwe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3300"/>
                </a:solidFill>
                <a:latin typeface="Arial"/>
              </a:rPr>
              <a:t>Machine keuz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oe duur is de mach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apaciteit, het laadvermo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 brandstofkos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et soort terre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ijdelijke aanduiding voor voettekst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oever cultuurtechnisch loonwe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211280" y="274320"/>
            <a:ext cx="4475160" cy="1143000"/>
          </a:xfrm>
          <a:prstGeom prst="rect">
            <a:avLst/>
          </a:prstGeom>
          <a:noFill/>
          <a:ln w="9360">
            <a:solidFill>
              <a:srgbClr val="cc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3300"/>
                </a:solidFill>
                <a:latin typeface="Arial"/>
              </a:rPr>
              <a:t>Hoe duu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5" descr="zandauto 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0920" y="765000"/>
            <a:ext cx="4321080" cy="31370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7" descr="trekker_dumper"/>
          <p:cNvPicPr/>
          <p:nvPr/>
        </p:nvPicPr>
        <p:blipFill>
          <a:blip r:embed="rId3"/>
          <a:stretch/>
        </p:blipFill>
        <p:spPr>
          <a:xfrm>
            <a:off x="4211640" y="2997360"/>
            <a:ext cx="4753080" cy="356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ijdelijke aanduiding voor voettekst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oever cultuurtechnisch loonwe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cc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3300"/>
                </a:solidFill>
                <a:latin typeface="Arial"/>
              </a:rPr>
              <a:t>Laadvermog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5" descr="joskinagritre"/>
          <p:cNvPicPr/>
          <p:nvPr/>
        </p:nvPicPr>
        <p:blipFill>
          <a:blip r:embed="rId1"/>
          <a:stretch/>
        </p:blipFill>
        <p:spPr>
          <a:xfrm>
            <a:off x="395280" y="1268280"/>
            <a:ext cx="3780000" cy="28353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7" descr="trekker-kipper"/>
          <p:cNvPicPr/>
          <p:nvPr/>
        </p:nvPicPr>
        <p:blipFill>
          <a:blip r:embed="rId2"/>
          <a:stretch/>
        </p:blipFill>
        <p:spPr>
          <a:xfrm>
            <a:off x="4284720" y="2852640"/>
            <a:ext cx="4535280" cy="302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ijdelijke aanduiding voor voettekst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oever cultuurtechnisch loonwe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3300"/>
                </a:solidFill>
                <a:latin typeface="Arial"/>
              </a:rPr>
              <a:t>Hoeveel transportmiddele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5" descr="!133330"/>
          <p:cNvPicPr/>
          <p:nvPr/>
        </p:nvPicPr>
        <p:blipFill>
          <a:blip r:embed="rId1"/>
          <a:stretch/>
        </p:blipFill>
        <p:spPr>
          <a:xfrm>
            <a:off x="1042920" y="1484280"/>
            <a:ext cx="7201080" cy="4781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ijdelijke aanduiding voor voettekst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oever cultuurtechnisch loonwe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5" descr="Cat 375 LME &amp; Volvo A40D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42920" y="981000"/>
            <a:ext cx="6985080" cy="5238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5T13:06:53Z</dcterms:created>
  <dc:creator>default</dc:creator>
  <dc:description/>
  <dc:language>en-US</dc:language>
  <cp:lastModifiedBy>Jurrien van 't Oever</cp:lastModifiedBy>
  <dcterms:modified xsi:type="dcterms:W3CDTF">2013-10-11T12:08:04Z</dcterms:modified>
  <cp:revision>7</cp:revision>
  <dc:subject/>
  <dc:title>Grond vervoeren</dc:title>
</cp:coreProperties>
</file>