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4D55-611D-44C8-8D8E-A052B205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9B6-827B-412F-973A-BEDFB331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6168-17AB-40E7-A179-E494766F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404F-8155-49A8-9F75-CA9ED08A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8139-CE89-477A-984A-7F63503B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7F89-34AE-413B-9E2B-30A32A33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4E59-2FFE-4BE7-A2CE-AEF68607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9341-5A46-426B-B2F8-C714965A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DFB2-FEF5-41FC-860B-C92E079A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AB93-5AE9-43B2-AEC9-93316211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FC50-5F0E-4D01-AE6A-0F8B3792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7F8E-87C1-4732-94FC-726C5B49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F7AD-A092-46F0-8CA0-785F63A7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DAD6-D1FF-4B03-B383-79DDEC68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1FA8-933B-42C2-A624-C3E65038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9132-34DA-44AB-842B-E867B651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5453-C1F4-4F89-B2D7-9B988EE6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CEBB-BA78-450B-801C-CA00E89A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FE2E-DB70-4222-9F95-EA149DFF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1490-5B6D-4D73-A942-9C242C67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9EE-DB9D-462D-A167-DD69A79D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9A85-BC0A-49E9-A8F5-D742134D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B3A6-812C-412D-B615-572C2D03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84D4-E9C3-4270-9A53-C2C29541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1555-F214-4ACB-9CE9-D7449329C72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BFFB-EABF-445C-839F-14920A52461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rojectenbankcultuurhistorie.nl/content/img%255Cbodem_voeten3.jpg&amp;imgrefurl=http://www.projectenbankcultuurhistorie.nl/content/Bodem_onder_onze_Voeten.xml.asp%3Fbc%3Dbalk2-6-1%26type%3Dbalk2%26parent%3D6-1&amp;h=470&amp;w=301&amp;sz=68&amp;hl=nl&amp;start=1&amp;um=1&amp;tbnid=ZLuytrcc_YGfkM:&amp;tbnh=129&amp;tbnw=83&amp;prev=/images%3Fq%3Dbodemprofiel%26svnum%3D10%26um%3D1%26hl%3Dnl%26rls%3Dcom.microsoft:*:IE-SearchBox%26rlz%3D1I7ADBF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ionovapro.nl/img/handen.jpg&amp;imgrefurl=http://www.bionovapro.nl/base/Bionovapro_products_D.asp%3FID%3D156%26Lang%3D1&amp;h=150&amp;w=200&amp;sz=23&amp;hl=nl&amp;start=12&amp;um=1&amp;tbnid=Q0jX2KOC0xDlAM:&amp;tbnh=78&amp;tbnw=104&amp;prev=/images%3Fq%3Dbodemstructuur%26svnum%3D10%26um%3D1%26hl%3Dnl%26rls%3Dcom.microsoft:*:IE-SearchBox%26rlz%3D1I7ADBF%26sa%3D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Grondbewerking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7242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enkee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4703760" cy="3529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Berdi MGG, aanleg golfbaan Marssum"/>
          <p:cNvPicPr/>
          <p:nvPr/>
        </p:nvPicPr>
        <p:blipFill>
          <a:blip r:embed="rId2"/>
          <a:stretch/>
        </p:blipFill>
        <p:spPr>
          <a:xfrm>
            <a:off x="5580000" y="2565360"/>
            <a:ext cx="3300480" cy="2195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451640" y="1628640"/>
            <a:ext cx="138132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Plaatstructuu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 horizontale gelaagdheid van bodem is te zien, vaak op slempige gronden. Bij opdrogen barsten de platen en krullen ze omhoo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ntstaan o.a. door zware druk van machines die regelmatig een bodem berijden. Denk aan de ploegzool bij een tractor of het rijden van bouwverkeer bij nieuwbouw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-&gt; is een vaste plaa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fie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957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volgen slecht profi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lechte doorwort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lechte doorluch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lechte doorwat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ruchtbaarheid kan in gevaar k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27640" y="3213000"/>
            <a:ext cx="2286000" cy="1505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27640" y="1989000"/>
            <a:ext cx="20876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631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Profielverbetering is vaak een kostbare zaak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Afweging: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-&gt; de te maken kosten t.o.v. de te verwachte opbrengsten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rofielverbetering wenselijk in volgende omstandigheden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628640"/>
            <a:ext cx="80074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ste lagen in de bouwvoor kunnen ook dieper voorkomen dan de bouwvoo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orende lagen die dieper in het profiel zitten: oerbanken, keileembanken, grind lag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gewenste volgorde van grondlag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gelijke ligging van het maaive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85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Grondbewerking wenselijk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lempen en stuiven oplos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lant- of zaai/ zode klaar ma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rofileren/ unduleren/ egaliseren terre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er- en luchthuishouding rege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reken storende la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leg drainage/ leidingen/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agen verwisselen\ ontgrav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derbrengen compost, stoppelresten, stalmest, herbiciden en dergelijke + bestrijden van onkrui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Grondbewerking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of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verbetering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341000"/>
            <a:ext cx="8007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6096240" cy="4143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Berdi MGG, aanleg golfbaan Marssum"/>
          <p:cNvPicPr/>
          <p:nvPr/>
        </p:nvPicPr>
        <p:blipFill>
          <a:blip r:embed="rId2"/>
          <a:stretch/>
        </p:blipFill>
        <p:spPr>
          <a:xfrm>
            <a:off x="5651640" y="2565360"/>
            <a:ext cx="2706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el grondbewerking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6039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gewas een zo gunstig mogelijke bewortelingsplaats te gev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&gt; je hebt daarvoor voldoende lucht, water en een goede structuur nodi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12765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rondverbeter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197000"/>
            <a:ext cx="80074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kalk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ganische bem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ede ontwate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ondbewerking (op juiste momen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2 x  Challenger voor de ploeg met bijna 1000 pk"/>
          <p:cNvPicPr/>
          <p:nvPr/>
        </p:nvPicPr>
        <p:blipFill>
          <a:blip r:embed="rId1"/>
          <a:stretch/>
        </p:blipFill>
        <p:spPr>
          <a:xfrm>
            <a:off x="2268360" y="4076640"/>
            <a:ext cx="428652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Profilering t.b.v. ontwerp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en van grondverzet zijn het ontgraven, transporteren, ophogen en egaliseren van gron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moet dan denken aan werkzaamheden als hydraulische graafmachines, dumper, laadschop, bulldozer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Storingen in de bodem opheffen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en van grondbewerking zijn: het opheffen van een verdichting, het breken van storende lagen en lagen te wissel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moet dan denken aan werkzaamheden als diepploegen, diepwoelen, drainere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houd: Grondbewerking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r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tructuur/ prof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rondverbet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rondbewe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rondbewerkingswertui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2924280"/>
            <a:ext cx="1576440" cy="2450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588000" y="1916280"/>
            <a:ext cx="138132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Zaai- en plantklaar maken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of verzorging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verplaatst de grond niet en bewerkt deze niet dieper dan de bouwvo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orbeelden van zaai- en plantklaar maken zijn het bestrijden van onkruiden, het uitvoeren en onderwerken van een bemesting en het loswerken van de bouwvoor voor het plantwer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Arial Black"/>
              </a:rPr>
              <a:t>                   </a:t>
            </a:r>
            <a:r>
              <a:rPr b="1" lang="nl-NL" sz="2800" spc="-1" strike="noStrike">
                <a:solidFill>
                  <a:srgbClr val="ffffb7"/>
                </a:solidFill>
                <a:latin typeface="Arial Black"/>
              </a:rPr>
              <a:t>Voorbeeld: De frees</a:t>
            </a:r>
            <a:br>
              <a:rPr sz="2800"/>
            </a:br>
            <a:br>
              <a:rPr sz="1800"/>
            </a:br>
            <a:r>
              <a:rPr b="0" lang="nl-NL" sz="1800" spc="-1" strike="noStrike">
                <a:solidFill>
                  <a:srgbClr val="ffffb7"/>
                </a:solidFill>
                <a:latin typeface="Arial Black"/>
              </a:rPr>
              <a:t>- </a:t>
            </a: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toplaagbegroeiing, onderwerken van mest, bestrijden van onkruid of het maken van zaai- en plantbedden.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- niet gebruiken in te natte grond of als je veel regen verwacht. 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- door de snijdende werking van de frees kun je in vaste grond werken en planten verkleinen en vermengen. 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- achter de frees zit een verstelbare kap waar de grond tegen gegooid wordt. De grond wordt op deze manier nog meer verkruimeld.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- afhankelijk van de draairichting kan een freesas met de rijrichting meelopen (meelopende frees) of tegengesteld zijn draaien (overtopfrees)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012000" y="3789360"/>
            <a:ext cx="238284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Inzet machines/ werktuige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059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keuze wordt bepaald door -in veel gevallen een combinatie- van de volgende factore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grondsoort en draagkracht van de bod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t tijdstip van de uitvoering van het grondwer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diepte van het uit te voeren grondwer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t beschikbare budget en/of beschikbare tij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grootte van het obj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bereikbaarheid van het obj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hoeveelheid aan grondwerkzaamhed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anbouwwerktuig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5946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chter of voor een een of tweeassige tractor, soms aangedreven door de aftak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werkingsdiep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ondergrondbewerking (dieper dan 30 cm) bv. woel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hoofdgrondbewerking (van 0 tot 30 cm) bv. frees spitmachine, triltandcultivat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voor- en nabewerking (van 0 tot 10 cm) bv. rotorkopeg, egalisatieba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verzorgende bewerking                                                 (van 0 tot 5 cm) bv. schoffelmachine                                        t.b.v. onkruidbestrijd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940360" y="4653000"/>
            <a:ext cx="2857680" cy="2028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419640" y="630864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Rotorkop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557000"/>
            <a:ext cx="80074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EIND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6197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ar bestaat grond ui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459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ste delen, onder te verdelen in; (Ca 5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organische stof (humus, afval, plant, di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norganische stof (zand, klei, kalk, zou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iën, onder te verdelen in; (Ca 2 x 2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water (met daarin opgeloste zouten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luc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ndsoorten: zand, veen, klei, loss, leem en zav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ructuur/ profie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4191120" cy="3752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5280" y="1557360"/>
            <a:ext cx="38894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Struct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onderlinge rangschikking en binding van de afzonderlijke bodemdeeltj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Profi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ale doorsnede van de bodem, ook wel de gelaagdhe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elang structuu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35164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- aanwezigheid poriën en holten tussen vaste gronddeeltjes groot belang voor eigenschappen, - vanwege volgende factore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* lucht en warmte in de grond dringe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* goede beworteling mogelijk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* water in de grond vasthoude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* te veel water kan worden afgevoe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38512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Voor gunstige structuur is van belang;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2420640"/>
            <a:ext cx="5761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doende hoeveelheid poriën en holten in de gron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en juiste verhouding tussen deze poriën en holte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doende stabiliteit 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doende bodemleve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3141720"/>
            <a:ext cx="214164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ructuurvorme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832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jze van rangschikking en het veel/ weinig voorkomen van poriën en holte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ruimelstructu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orrelstructu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atstructu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732720" y="4076640"/>
            <a:ext cx="1544400" cy="1544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156360" y="2349360"/>
            <a:ext cx="21193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ruimelstructuur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2342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gronddeeltjes zijn tot groepen samengebundeld tot de zogenaamde kruime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de kruimel, tussen de poriën, is ruimte voor water en tussen de kruimels is ruimte voor luch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&gt; dit is de BES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orrelstructuu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059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fzonderlijke bodemdeeltjes liggen geheel los van elkaar: Er is geen enkele bind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: bak met knik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ok bij humusarme zandgronden en vastgereden kleigrond kan de bovengrond een korrelstructuur bezitten. Deze gronden stuiven gemakkelijk en slempen bij regenval snel dich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&gt; is een losse bend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10:52Z</dcterms:created>
  <dc:creator>ICT</dc:creator>
  <dc:description/>
  <dc:language>en-US</dc:language>
  <cp:lastModifiedBy>default</cp:lastModifiedBy>
  <dcterms:modified xsi:type="dcterms:W3CDTF">2008-11-10T12:56:04Z</dcterms:modified>
  <cp:revision>6</cp:revision>
  <dc:subject/>
  <dc:title>grondbewerking</dc:title>
</cp:coreProperties>
</file>