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D68-83F5-4F95-8617-4248CC90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C96-52A9-4FF9-ADA4-099EF3E4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0C1-2009-49E6-96E4-4E75AB9F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A34-EA9B-405F-B651-05B04887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31B-70E3-4C06-8E47-74BEDE87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676-11C7-4AE7-B8B8-AC5FCCCA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5C9-C4BA-46F3-B8F7-FABFC7E4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C4E-FBAE-4F49-90E8-3AC9B888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793-95B9-488A-B2C6-574129B1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28E-7155-40CB-8747-92DC3923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F3D-1CC7-4D87-B593-F45803D6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7E3-39C1-4AF2-8A34-F4CF2D98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5DBA-069D-431D-A708-4473BFEE31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roekemawegenbouw.nl/fotoalbum%20riolering/arles_gallery/imagepages/image2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</a:rPr>
              <a:t>Grond verwerken</a:t>
            </a:r>
            <a:br>
              <a:rPr sz="4400"/>
            </a:b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blz 2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2643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Waar moet de grond lig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407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Rioolb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Buis fixeren = vast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 in laagjes toevo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betonnen rioolbui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57680" y="0"/>
            <a:ext cx="44863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Vrij hangende k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Zo mogelijk de kabel iets opt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Links en rechts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06%2005%20006"/>
          <p:cNvPicPr/>
          <p:nvPr/>
        </p:nvPicPr>
        <p:blipFill>
          <a:blip r:embed="rId1"/>
          <a:stretch/>
        </p:blipFill>
        <p:spPr>
          <a:xfrm>
            <a:off x="4859280" y="1628640"/>
            <a:ext cx="372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g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88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tten1"/>
          <p:cNvPicPr/>
          <p:nvPr/>
        </p:nvPicPr>
        <p:blipFill>
          <a:blip r:embed="rId2"/>
          <a:stretch/>
        </p:blipFill>
        <p:spPr>
          <a:xfrm>
            <a:off x="5076720" y="1628640"/>
            <a:ext cx="3098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Plaatsing van put vanaf vrachtwagen"/>
          <p:cNvPicPr/>
          <p:nvPr/>
        </p:nvPicPr>
        <p:blipFill>
          <a:blip r:embed="rId1"/>
          <a:stretch/>
        </p:blipFill>
        <p:spPr>
          <a:xfrm>
            <a:off x="826920" y="1628640"/>
            <a:ext cx="3360960" cy="432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ut aan een kraan in een gat"/>
          <p:cNvPicPr/>
          <p:nvPr/>
        </p:nvPicPr>
        <p:blipFill>
          <a:blip r:embed="rId2"/>
          <a:stretch/>
        </p:blipFill>
        <p:spPr>
          <a:xfrm>
            <a:off x="4932360" y="1628640"/>
            <a:ext cx="347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Voorzicht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ndom aan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n lagen aan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Aanvullen met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aat wel s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Laag voor laag aanvullen moeilij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HGM dan wiellader kan 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ute zo kort mogelijk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et wielen verd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ets over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ie plaatje blz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loot de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modder en water op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de sloot opsch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vt water voor je uit 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inde sloot een dam 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sloot%20dempen%20vrachtwagen%20verzakt"/>
          <p:cNvPicPr/>
          <p:nvPr/>
        </p:nvPicPr>
        <p:blipFill>
          <a:blip r:embed="rId1"/>
          <a:stretch/>
        </p:blipFill>
        <p:spPr>
          <a:xfrm>
            <a:off x="0" y="0"/>
            <a:ext cx="96854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amsterdiep_opgraving_2_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3300"/>
                </a:solidFill>
                <a:latin typeface="Arial"/>
              </a:rPr>
              <a:t>Grondverwerken </a:t>
            </a:r>
            <a:br>
              <a:rPr sz="40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ke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arry__s_hondenhokje_019"/>
          <p:cNvPicPr/>
          <p:nvPr/>
        </p:nvPicPr>
        <p:blipFill>
          <a:blip r:embed="rId1"/>
          <a:stretch/>
        </p:blipFill>
        <p:spPr>
          <a:xfrm>
            <a:off x="0" y="1413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wiellader"/>
          <p:cNvPicPr/>
          <p:nvPr/>
        </p:nvPicPr>
        <p:blipFill>
          <a:blip r:embed="rId2"/>
          <a:stretch/>
        </p:blipFill>
        <p:spPr>
          <a:xfrm>
            <a:off x="3348000" y="2565360"/>
            <a:ext cx="302436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950j_lg"/>
          <p:cNvPicPr/>
          <p:nvPr/>
        </p:nvPicPr>
        <p:blipFill>
          <a:blip r:embed="rId3"/>
          <a:stretch/>
        </p:blipFill>
        <p:spPr>
          <a:xfrm>
            <a:off x="6156360" y="4437000"/>
            <a:ext cx="273672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47840" y="4508640"/>
            <a:ext cx="37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HG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Wiell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Do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arry__s_hondenhokje_019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H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verwerken over een korte af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er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omhoog 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ullen van sleu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llader en dozer kunnen grond over een grotere afstand verwer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zer vooral bij grot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wiellader"/>
          <p:cNvPicPr/>
          <p:nvPr/>
        </p:nvPicPr>
        <p:blipFill>
          <a:blip r:embed="rId1"/>
          <a:stretch/>
        </p:blipFill>
        <p:spPr>
          <a:xfrm>
            <a:off x="395280" y="119700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950j_lg"/>
          <p:cNvPicPr/>
          <p:nvPr/>
        </p:nvPicPr>
        <p:blipFill>
          <a:blip r:embed="rId2"/>
          <a:stretch/>
        </p:blipFill>
        <p:spPr>
          <a:xfrm>
            <a:off x="324000" y="386064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n depot = een plek waar je grond (tijdelijk) ops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ijvoorbeeld het apart leggen van vruchtbare bovengrond. Minimaal 20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 met H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ievallei%20Menen%20volgestort%20onder%20mom%20van%20bosaanleg"/>
          <p:cNvPicPr/>
          <p:nvPr/>
        </p:nvPicPr>
        <p:blipFill>
          <a:blip r:embed="rId1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torten met 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chteraan beg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annetje aan mannetje 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o hoog mog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Per rij af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993300"/>
                </a:solidFill>
                <a:latin typeface="Arial"/>
              </a:rPr>
              <a:t>Grond verwerken met wiell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renovatie1990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een sl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HGM zet je aan de overzijde van de loss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rede 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stenen of puin op de kabel/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Sleufstamper (zo mo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0:33:13Z</dcterms:created>
  <dc:creator>default</dc:creator>
  <dc:description/>
  <dc:language>en-US</dc:language>
  <cp:lastModifiedBy>Jurrien van 't Oever</cp:lastModifiedBy>
  <dcterms:modified xsi:type="dcterms:W3CDTF">2013-10-11T12:31:50Z</dcterms:modified>
  <cp:revision>3</cp:revision>
  <dc:subject/>
  <dc:title>Grond verwerken blz 215</dc:title>
</cp:coreProperties>
</file>