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AE3-FFC5-4B98-B144-16CB440F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F0F-C96B-4086-896D-D9237096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17E-2E1D-410E-8F7C-6ED4D18C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726-BF0F-41D3-82AB-40E3E4AA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711-5F05-443F-80F1-338CA2CB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EBC-C271-4E5E-AFD5-49D04AB7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F7B-8931-4D1A-9796-DE55DFDD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0B4-1D07-4C9F-B98B-F79EF26C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F7C-8AEE-4D90-8B20-8D7CF415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09C-D0E9-4481-B6F5-8CF4F5EA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66B-32D6-474A-8B0B-5368F0A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425-F939-42C0-B72B-A4DDD8A7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DC66-77FB-43C0-84C7-A0713FC54D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schooltv.nl/video/histoclips-crisis-in-de-jaren-dertig/#q=economische%20crisis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Ic5crNUBB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zVxrMIxbJ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SmGCWFkOI0" TargetMode="External"/><Relationship Id="rId2" Type="http://schemas.openxmlformats.org/officeDocument/2006/relationships/hyperlink" Target="https://www.youtube.com/watch?v=uvqlaNIwEw4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6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9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5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6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7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o.l.v. Hoover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1"/>
          <p:cNvSpPr/>
          <p:nvPr/>
        </p:nvSpPr>
        <p:spPr>
          <a:xfrm>
            <a:off x="4130640" y="59389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s://www.schooltv.nl/video/the-general-theory-of-employment-een-boek-over-de-na-oorlogse-wederopbouw/#q=kapitalis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lkvormig bijschrift 1"/>
          <p:cNvSpPr/>
          <p:nvPr/>
        </p:nvSpPr>
        <p:spPr>
          <a:xfrm>
            <a:off x="6710400" y="2276640"/>
            <a:ext cx="2411280" cy="2089080"/>
          </a:xfrm>
          <a:prstGeom prst="cloudCallout">
            <a:avLst>
              <a:gd name="adj1" fmla="val -52027"/>
              <a:gd name="adj2" fmla="val -96023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is niet echt liber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12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babyboo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geboortegolf na WOI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1"/>
          <p:cNvSpPr/>
          <p:nvPr/>
        </p:nvSpPr>
        <p:spPr>
          <a:xfrm>
            <a:off x="755640" y="5516640"/>
            <a:ext cx="52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s://www.schooltv.nl/video/clipphanger-wat-is-vergrijzing/#q=babyb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  <p:sp>
        <p:nvSpPr>
          <p:cNvPr id="46" name="Rechthoek 4"/>
          <p:cNvSpPr/>
          <p:nvPr/>
        </p:nvSpPr>
        <p:spPr>
          <a:xfrm>
            <a:off x="684360" y="598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schooltv.nl/video/histoclips-crisis-in-de-jaren-dertig/#q=economische%20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hoge lo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elektriciteit als energiebron, lopende b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‘van krantenjongen naar miljonair’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 BOVENAL: </a:t>
            </a: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KAPITALISME / VRIJE MARKTECONOM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hoek 1"/>
          <p:cNvSpPr/>
          <p:nvPr/>
        </p:nvSpPr>
        <p:spPr>
          <a:xfrm>
            <a:off x="1835280" y="619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pitalisme | Zondag met Lubach (S11) - 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pitalisme / vrije markt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17679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me draait 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al bijschrift 3"/>
          <p:cNvSpPr/>
          <p:nvPr/>
        </p:nvSpPr>
        <p:spPr>
          <a:xfrm>
            <a:off x="200160" y="1938240"/>
            <a:ext cx="2087280" cy="1685880"/>
          </a:xfrm>
          <a:prstGeom prst="wedgeEllipseCallout">
            <a:avLst>
              <a:gd name="adj1" fmla="val 52333"/>
              <a:gd name="adj2" fmla="val 27462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u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al bijschrift 4"/>
          <p:cNvSpPr/>
          <p:nvPr/>
        </p:nvSpPr>
        <p:spPr>
          <a:xfrm>
            <a:off x="6156360" y="2097000"/>
            <a:ext cx="2087640" cy="1684440"/>
          </a:xfrm>
          <a:prstGeom prst="wedgeEllipseCallout">
            <a:avLst>
              <a:gd name="adj1" fmla="val -56305"/>
              <a:gd name="adj2" fmla="val 29523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al bijschrift 5"/>
          <p:cNvSpPr/>
          <p:nvPr/>
        </p:nvSpPr>
        <p:spPr>
          <a:xfrm>
            <a:off x="3097080" y="1639800"/>
            <a:ext cx="2087640" cy="1684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al bijschrift 6"/>
          <p:cNvSpPr/>
          <p:nvPr/>
        </p:nvSpPr>
        <p:spPr>
          <a:xfrm>
            <a:off x="3322800" y="4429080"/>
            <a:ext cx="2087280" cy="1684440"/>
          </a:xfrm>
          <a:prstGeom prst="wedgeEllipseCallout">
            <a:avLst>
              <a:gd name="adj1" fmla="val -5314"/>
              <a:gd name="adj2" fmla="val -6184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ikkel / drijfv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vak 7"/>
          <p:cNvSpPr/>
          <p:nvPr/>
        </p:nvSpPr>
        <p:spPr>
          <a:xfrm>
            <a:off x="158760" y="6113520"/>
            <a:ext cx="55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de overheid bemoeit zich NIET met de ec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hthoek 8"/>
          <p:cNvSpPr/>
          <p:nvPr/>
        </p:nvSpPr>
        <p:spPr>
          <a:xfrm>
            <a:off x="36360" y="65181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azVxrMIxbJ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 liberalisme en economisch liberalisme gaan hand in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veel mogelijk vrijheid: dus zo weinig mogelijk overheidsbemoei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vereni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veel mogelijk stemrecht (democr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400"/>
            <a:ext cx="404172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veel mogelijk vrijheid: dus geen bemoeienis met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edereen mag zelf beslissen waar hij / zij de kost mee ver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mag zelf de prijs van een product bep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urrentie maakt producten kwalitatiever / goedkoper / snellere 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ncipe van vraag en aan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basis van vertro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 crisis van het wereldkapitalisme = economische wereldcrisis, oorz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Amerikanen leefden van geleend geld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terwijl zij dat niet goed konden terugbeta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sis in de landbouw: doordat de Amerikaanse boeren (die ook veel hadden geleend) hun producten niet goed konden afzetten in Euro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8"/>
          <p:cNvSpPr/>
          <p:nvPr/>
        </p:nvSpPr>
        <p:spPr>
          <a:xfrm>
            <a:off x="250920" y="601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9SmGCWFkOI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9"/>
          <p:cNvSpPr/>
          <p:nvPr/>
        </p:nvSpPr>
        <p:spPr>
          <a:xfrm>
            <a:off x="250920" y="5370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youtube.com/watch?v=uvqlaNIwEw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hthoek 10"/>
          <p:cNvSpPr/>
          <p:nvPr/>
        </p:nvSpPr>
        <p:spPr>
          <a:xfrm>
            <a:off x="32400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www.youtube.com/watch?v=ID5Kcogqk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6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2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934920" y="631800"/>
            <a:ext cx="712944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20-11-23T08:30:36Z</dcterms:modified>
  <cp:revision>65</cp:revision>
  <dc:subject/>
  <dc:title>Klas 3</dc:title>
</cp:coreProperties>
</file>