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ED2-A995-49D6-9221-C5454F1F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686-57A7-4CE4-AD60-4A6A4F01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FA9-845F-4C13-9EFA-562459C6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01C-C6F2-4A40-9DC9-F05EB774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CB6-3DEB-4D72-B6A8-BCB58F7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1D8-94EF-428C-981F-73E42FA2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D1E-2478-4456-BEB4-5E55BBE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AB3-DBFC-4EE8-B9B0-8E48D769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881-AF1C-4FBB-A4CF-E6B5925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9E3-C335-4AA5-8E17-39BAFEC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DF1-6C90-43B3-A8D9-B2455F9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C1F-685E-489D-84B2-9E0CDC2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051-D7A1-492A-8845-72B0C4B9A4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schooltv.nl/video/histoclips-crisis-in-de-jaren-dertig/#q=economische%20crisi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Ic5crNUBB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zVxrMIxbJ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SmGCWFkOI0" TargetMode="External"/><Relationship Id="rId2" Type="http://schemas.openxmlformats.org/officeDocument/2006/relationships/hyperlink" Target="https://www.youtube.com/watch?v=uvqlaNIwEw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6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9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5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7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o.l.v. Hoover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1"/>
          <p:cNvSpPr/>
          <p:nvPr/>
        </p:nvSpPr>
        <p:spPr>
          <a:xfrm>
            <a:off x="4130640" y="5938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s://www.schooltv.nl/video/the-general-theory-of-employment-een-boek-over-de-na-oorlogse-wederopbouw/#q=kapitali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lkvormig bijschrift 1"/>
          <p:cNvSpPr/>
          <p:nvPr/>
        </p:nvSpPr>
        <p:spPr>
          <a:xfrm>
            <a:off x="6710400" y="2276640"/>
            <a:ext cx="2411280" cy="2089080"/>
          </a:xfrm>
          <a:prstGeom prst="cloudCallout">
            <a:avLst>
              <a:gd name="adj1" fmla="val -52027"/>
              <a:gd name="adj2" fmla="val -960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niet echt liber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12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babyboo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geboortegolf na WO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1"/>
          <p:cNvSpPr/>
          <p:nvPr/>
        </p:nvSpPr>
        <p:spPr>
          <a:xfrm>
            <a:off x="755640" y="5516640"/>
            <a:ext cx="52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s://www.schooltv.nl/video/clipphanger-wat-is-vergrijzing/#q=babyb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  <p:sp>
        <p:nvSpPr>
          <p:cNvPr id="46" name="Rechthoek 4"/>
          <p:cNvSpPr/>
          <p:nvPr/>
        </p:nvSpPr>
        <p:spPr>
          <a:xfrm>
            <a:off x="684360" y="598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schooltv.nl/video/histoclips-crisis-in-de-jaren-dertig/#q=economische%20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oge l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elektriciteit als energiebron, lopende b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‘van krantenjongen naar miljonair’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BOVENAL: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KAPITALISME / VRIJE MARKTECONOM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"/>
          <p:cNvSpPr/>
          <p:nvPr/>
        </p:nvSpPr>
        <p:spPr>
          <a:xfrm>
            <a:off x="1835280" y="61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talisme | Zondag met Lubach (S11)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pitalisme / vrije markt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7679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me draait 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bijschrift 3"/>
          <p:cNvSpPr/>
          <p:nvPr/>
        </p:nvSpPr>
        <p:spPr>
          <a:xfrm>
            <a:off x="200160" y="1938240"/>
            <a:ext cx="2087280" cy="1685880"/>
          </a:xfrm>
          <a:prstGeom prst="wedgeEllipseCallout">
            <a:avLst>
              <a:gd name="adj1" fmla="val 52333"/>
              <a:gd name="adj2" fmla="val 2746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al bijschrift 4"/>
          <p:cNvSpPr/>
          <p:nvPr/>
        </p:nvSpPr>
        <p:spPr>
          <a:xfrm>
            <a:off x="6156360" y="2097000"/>
            <a:ext cx="2087640" cy="1684440"/>
          </a:xfrm>
          <a:prstGeom prst="wedgeEllipseCallout">
            <a:avLst>
              <a:gd name="adj1" fmla="val -56305"/>
              <a:gd name="adj2" fmla="val 295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al bijschrift 5"/>
          <p:cNvSpPr/>
          <p:nvPr/>
        </p:nvSpPr>
        <p:spPr>
          <a:xfrm>
            <a:off x="3097080" y="1639800"/>
            <a:ext cx="2087640" cy="1684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al bijschrift 6"/>
          <p:cNvSpPr/>
          <p:nvPr/>
        </p:nvSpPr>
        <p:spPr>
          <a:xfrm>
            <a:off x="3322800" y="4429080"/>
            <a:ext cx="2087280" cy="1684440"/>
          </a:xfrm>
          <a:prstGeom prst="wedgeEllipseCallout">
            <a:avLst>
              <a:gd name="adj1" fmla="val -5314"/>
              <a:gd name="adj2" fmla="val -6184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ikkel / drijfv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158760" y="6113520"/>
            <a:ext cx="55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overheid bemoeit zich NIET met de 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hoek 8"/>
          <p:cNvSpPr/>
          <p:nvPr/>
        </p:nvSpPr>
        <p:spPr>
          <a:xfrm>
            <a:off x="36360" y="65181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azVxrMIxbJ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 liberalisme en economisch liberalisme gaan hand in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vrijheid: dus zo weinig mogelijk overheidsbemoei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vereni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stemrecht (democr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400"/>
            <a:ext cx="40417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veel mogelijk vrijheid: dus geen bemoeienis met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dereen mag zelf beslissen waar hij / zij de kost mee ver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ag zelf de prijs van een product bep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urrentie maakt producten kwalitatiever / goedkoper / snellere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ncipe van vraag en aan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 crisis van het wereldkapitalisme = economische wereldcrisis, oorz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Amerikanen leefden van geleend geld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terwijl zij dat niet goed konden terugbeta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sis in de landbouw: doordat de Amerikaanse boeren (die ook veel hadden geleend) hun producten niet goed konden afzetten in Eu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250920" y="601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SmGCWFkO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9"/>
          <p:cNvSpPr/>
          <p:nvPr/>
        </p:nvSpPr>
        <p:spPr>
          <a:xfrm>
            <a:off x="250920" y="537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uvqlaNIwEw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hthoek 10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www.youtube.com/watch?v=ID5Kcogqk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6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2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934920" y="631800"/>
            <a:ext cx="7129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20-11-23T08:30:36Z</dcterms:modified>
  <cp:revision>65</cp:revision>
  <dc:subject/>
  <dc:title>Klas 3</dc:title>
</cp:coreProperties>
</file>