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61CE-C924-4557-9BC4-CD461C90B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C2DE-EA8E-4F56-9662-C3848B77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5FC9-E088-4629-9D14-31A8481B6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9C1B-CC37-4472-BC3D-E1EE46C9A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910F-0AC4-4FAB-9DDA-391418655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8FD6-027B-4E9C-B8EB-2962AE8C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2736-220F-4EBC-8C8B-0B683E05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1147-2E82-4321-80BA-7DCEA95D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ABF1-3BAD-4A04-80DB-7C2A510C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133A-DDCC-474C-8876-D0048356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0526-4455-4132-926E-2EA29E22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9718-26E0-4C09-845F-2C7F5127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55A0-9991-4A0C-AE2A-33401D48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5437-62B5-4422-8A0E-8DD41FA2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B199-F152-4AC6-823C-4B55C2FB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62D1-F804-4E71-9357-402C3E567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E3F1-CB7D-484F-BB47-F27244089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0BE65-EAAF-4847-94A2-BFCE9B6BE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32BD6-1E71-4A19-B63F-1FDF59A4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0B0BD-FBBA-4EF3-BB4D-5093F7D7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B6034-CCFC-415D-9955-CCC1EA86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477E6-1D20-4C1F-A563-D72C7FF8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6C61-BAAD-4985-9967-D024AF9E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7D599-F3BB-4C71-A35F-E34034D6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24162-61AC-4238-9974-E7629ED1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E82E6-F0CD-485D-BC20-D58C036E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203BF-B918-4C77-85EE-3E06F0D0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4CFB5-4472-40D9-AC2B-ADE1E871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A0BBD-EEB8-4262-AE94-C3DE3249C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949C9-7FAD-40EE-B007-98C73CFF6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C53B7-B183-40E5-96E6-6B9180DE9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23482-2490-473C-9F64-2ED15F83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1C648-F074-4C29-8885-016BF504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8836-7AA6-4563-AD71-21B48644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A97CE-DA19-4CD9-B4E5-BF97104A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E7EF4-E6D8-444C-AFBC-8235818B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426EC-EE5F-43B4-BD81-616246E4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44D6D-4496-4FAA-BC69-56CD2456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78569-03DC-4229-B651-F041F5D0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7555D-BA89-41AD-91D1-2A729F56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27BE5-4C80-458E-A2CB-1F871EB5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86370-13AA-459B-81D2-2CA800FC0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9BDE1-F41C-4981-8FC6-42AA5406B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4DED-B207-4B2C-828D-4CF9A323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85A7-4A43-498C-AE2A-4F1E92CC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FB57-0ACB-487E-806E-B9DDC04B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6654-83CC-4FA0-B599-0F5DCF9B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D647-90A6-4CCD-8ABB-2B120C0F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BF5C-012F-4220-8137-D25C8E5ED52D}" type="slidenum">
              <a:rPr b="0" lang="de-D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7C79-B0DB-490A-8C98-5844D1906BB2}" type="slidenum">
              <a:rPr b="0" lang="de-D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9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1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F4D4-8ABA-4AF5-9915-FACB5C3A2AFB}" type="slidenum">
              <a:rPr b="0" lang="de-D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D8C9-4F33-4D88-8BFB-2DC97241087D}" type="slidenum">
              <a:rPr b="0" lang="de-D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Bn_vpDZaRwCZgM&amp;tbnid=zwK_KWvzce9rNM:&amp;ved=0CAUQjRw&amp;url=http://smallbusiness.chron.com/deal-teasing-work-10271.html&amp;ei=qjCiUaCUAorB0QXtg4HIDg&amp;bvm=bv.47008514,d.d2k&amp;psig=AFQjCNGVcnjTQ-Eb8ndQdgiRkyK108yDvg&amp;ust=1369670182268935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s://www.youtube.com/watch?v=VDnBJzlbUl0&amp;list=PLi_srCikhtghrNa6Ti1d4aSyPQzQ3JI63&amp;index=45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n4l4nxTG_nwMrM&amp;tbnid=novWnmP3GckzKM:&amp;ved=0CAUQjRw&amp;url=http://www.judygruen.com/index.php/offmynoodle/comments/bad_gifts_and_the_women_who_regift_them&amp;ei=GBGiUdaDEuOd0AWm1oCIDg&amp;psig=AFQjCNGyhcpT-pUKSUl1taDKugh47ofS_g&amp;ust=1369662089661955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6600" y="2404800"/>
            <a:ext cx="68263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90c226"/>
                </a:solidFill>
                <a:latin typeface="Trebuchet MS"/>
              </a:rPr>
              <a:t>Gelijk maar toch verschillend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600" y="4051080"/>
            <a:ext cx="68263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7f7f7f"/>
                </a:solidFill>
                <a:latin typeface="Trebuchet MS"/>
              </a:rPr>
              <a:t>De strijd tussen haat en lief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De rechten van de me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37720" y="1825200"/>
            <a:ext cx="3900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a de Tweede wereldoorlog: geen racisme me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werpen van het idee van Hitler: rassen zijn verschillend en krijgen geen gelijke kans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e zijn gelijk, maar toch verschillend. Hoe kan dat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6" name="Afbeelding 3" descr=""/>
          <p:cNvPicPr/>
          <p:nvPr/>
        </p:nvPicPr>
        <p:blipFill>
          <a:blip r:embed="rId1"/>
          <a:stretch/>
        </p:blipFill>
        <p:spPr>
          <a:xfrm>
            <a:off x="4919760" y="1274760"/>
            <a:ext cx="727236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kstvak 10"/>
          <p:cNvSpPr/>
          <p:nvPr/>
        </p:nvSpPr>
        <p:spPr>
          <a:xfrm>
            <a:off x="911160" y="5234040"/>
            <a:ext cx="1657440" cy="368280"/>
          </a:xfrm>
          <a:prstGeom prst="rect">
            <a:avLst/>
          </a:prstGeom>
          <a:solidFill>
            <a:srgbClr val="92d05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8" name="Picture 2" descr="http://smallbusiness.chron.com/DM-Resize/photos.demandstudios.com/getty/article/175/20/rbc3_10.jpg?w=600&amp;h=600&amp;keep_ratio=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3520" y="333360"/>
            <a:ext cx="5634000" cy="6524640"/>
          </a:xfrm>
          <a:prstGeom prst="rect">
            <a:avLst/>
          </a:prstGeom>
          <a:ln w="0">
            <a:noFill/>
          </a:ln>
        </p:spPr>
      </p:pic>
      <p:sp>
        <p:nvSpPr>
          <p:cNvPr id="219" name="Toelichting met afgeronde rechthoek 11"/>
          <p:cNvSpPr/>
          <p:nvPr/>
        </p:nvSpPr>
        <p:spPr>
          <a:xfrm>
            <a:off x="216000" y="115920"/>
            <a:ext cx="4464000" cy="720720"/>
          </a:xfrm>
          <a:prstGeom prst="wedgeRoundRectCallout">
            <a:avLst>
              <a:gd name="adj1" fmla="val 78615"/>
              <a:gd name="adj2" fmla="val 71226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 zijn allemaal verschillend. Begrijp dat nou!!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Toelichting met afgeronde rechthoek 12"/>
          <p:cNvSpPr/>
          <p:nvPr/>
        </p:nvSpPr>
        <p:spPr>
          <a:xfrm>
            <a:off x="8493120" y="135000"/>
            <a:ext cx="2516040" cy="836640"/>
          </a:xfrm>
          <a:prstGeom prst="wedgeRoundRectCallout">
            <a:avLst>
              <a:gd name="adj1" fmla="val -58828"/>
              <a:gd name="adj2" fmla="val 105388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kt de huidskleur iets uit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Toelichting met afgeronde rechthoek 13"/>
          <p:cNvSpPr/>
          <p:nvPr/>
        </p:nvSpPr>
        <p:spPr>
          <a:xfrm>
            <a:off x="1631880" y="2766960"/>
            <a:ext cx="2570400" cy="720720"/>
          </a:xfrm>
          <a:prstGeom prst="wedgeRoundRectCallout">
            <a:avLst>
              <a:gd name="adj1" fmla="val 86949"/>
              <a:gd name="adj2" fmla="val -71768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olang ze doen wat ik zeg niet natuurlijk!!!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Toelichting met afgeronde rechthoek 14"/>
          <p:cNvSpPr/>
          <p:nvPr/>
        </p:nvSpPr>
        <p:spPr>
          <a:xfrm>
            <a:off x="9010800" y="3127320"/>
            <a:ext cx="2124000" cy="1295280"/>
          </a:xfrm>
          <a:prstGeom prst="wedgeRoundRectCallout">
            <a:avLst>
              <a:gd name="adj1" fmla="val -66583"/>
              <a:gd name="adj2" fmla="val -66203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Kijk eens naar het verhaal van </a:t>
            </a:r>
            <a:r>
              <a:rPr b="0" lang="nl-NL" sz="18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3"/>
              </a:rPr>
              <a:t>Martin Luther King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artin Luther K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37720" y="1825200"/>
            <a:ext cx="5356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acisme is moeilijk uit te ban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e wereldgeschiedenis is er vol van: slavernij is van alle tijden en komt uit alle delen van de werel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t gevaar voor eigen leven streed Martin Luther King erte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eel bijzonder: hij gebruikte geen gewel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5" name="Afbeelding 3" descr=""/>
          <p:cNvPicPr/>
          <p:nvPr/>
        </p:nvPicPr>
        <p:blipFill>
          <a:blip r:embed="rId1"/>
          <a:stretch/>
        </p:blipFill>
        <p:spPr>
          <a:xfrm>
            <a:off x="6194520" y="0"/>
            <a:ext cx="59976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John Lock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37720" y="1825200"/>
            <a:ext cx="5356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nsen zijn als gelijke gebo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abula ras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rijheid van geloof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nafhankelijkheidsverklaring 1776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hristen en grondlegger liberalism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8" name="Afbeelding 1" descr=""/>
          <p:cNvPicPr/>
          <p:nvPr/>
        </p:nvPicPr>
        <p:blipFill>
          <a:blip r:embed="rId1"/>
          <a:stretch/>
        </p:blipFill>
        <p:spPr>
          <a:xfrm>
            <a:off x="6261120" y="-25560"/>
            <a:ext cx="593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oelichting met afgeronde rechthoek 4"/>
          <p:cNvSpPr/>
          <p:nvPr/>
        </p:nvSpPr>
        <p:spPr>
          <a:xfrm>
            <a:off x="4224240" y="404640"/>
            <a:ext cx="2279880" cy="1016280"/>
          </a:xfrm>
          <a:prstGeom prst="wedgeRoundRectCallout">
            <a:avLst>
              <a:gd name="adj1" fmla="val -58407"/>
              <a:gd name="adj2" fmla="val 194837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woon omdat ze elkaar verkeerd begrijp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Toelichting met afgeronde rechthoek 7"/>
          <p:cNvSpPr/>
          <p:nvPr/>
        </p:nvSpPr>
        <p:spPr>
          <a:xfrm>
            <a:off x="6024600" y="3068640"/>
            <a:ext cx="3392280" cy="1440000"/>
          </a:xfrm>
          <a:prstGeom prst="wedgeRoundRectCallout">
            <a:avLst>
              <a:gd name="adj1" fmla="val -93587"/>
              <a:gd name="adj2" fmla="val 10027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f soms vinden ze zichzelf geweldig en moet iedereen maar begrijpen wat ze will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Toelichting met afgeronde rechthoek 8"/>
          <p:cNvSpPr/>
          <p:nvPr/>
        </p:nvSpPr>
        <p:spPr>
          <a:xfrm>
            <a:off x="5448240" y="1628640"/>
            <a:ext cx="2519280" cy="1295640"/>
          </a:xfrm>
          <a:prstGeom prst="wedgeRoundRectCallout">
            <a:avLst>
              <a:gd name="adj1" fmla="val -83041"/>
              <a:gd name="adj2" fmla="val 71560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f soms omdat hun gezicht ze niet aanstaat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Tekstvak 9"/>
          <p:cNvSpPr/>
          <p:nvPr/>
        </p:nvSpPr>
        <p:spPr>
          <a:xfrm>
            <a:off x="6504120" y="5956200"/>
            <a:ext cx="1655640" cy="368280"/>
          </a:xfrm>
          <a:prstGeom prst="rect">
            <a:avLst/>
          </a:prstGeom>
          <a:solidFill>
            <a:srgbClr val="92d05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Picture 2" descr="http://www.judygruen.com/images/uploads/angry_old_lady_iStock_000012793912XSm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5160" y="2243160"/>
            <a:ext cx="3079800" cy="4614840"/>
          </a:xfrm>
          <a:prstGeom prst="rect">
            <a:avLst/>
          </a:prstGeom>
          <a:ln w="0">
            <a:noFill/>
          </a:ln>
        </p:spPr>
      </p:pic>
      <p:sp>
        <p:nvSpPr>
          <p:cNvPr id="234" name="Toelichting met afgeronde rechthoek 10"/>
          <p:cNvSpPr/>
          <p:nvPr/>
        </p:nvSpPr>
        <p:spPr>
          <a:xfrm>
            <a:off x="914400" y="476280"/>
            <a:ext cx="3156120" cy="720720"/>
          </a:xfrm>
          <a:prstGeom prst="wedgeRoundRectCallout">
            <a:avLst>
              <a:gd name="adj1" fmla="val 26777"/>
              <a:gd name="adj2" fmla="val 263347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oms haten mensen elkaar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De strijd tussen haat en lief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38080" y="1825200"/>
            <a:ext cx="70185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mmige mensen haten anderen als die een andere huidskleur, geloof of seksuele geaardheid heef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 de 20</a:t>
            </a:r>
            <a:r>
              <a:rPr b="0" lang="nl-NL" sz="1800" spc="-1" strike="noStrike" baseline="30000">
                <a:solidFill>
                  <a:srgbClr val="404040"/>
                </a:solidFill>
                <a:latin typeface="Trebuchet MS"/>
              </a:rPr>
              <a:t>e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eeuw was deze haat heel sterk, vooral onder Adolf Hitl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oe moesten gewone mensen ermee omgaan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Afbeelding 3" descr=""/>
          <p:cNvPicPr/>
          <p:nvPr/>
        </p:nvPicPr>
        <p:blipFill>
          <a:blip r:embed="rId1"/>
          <a:stretch/>
        </p:blipFill>
        <p:spPr>
          <a:xfrm>
            <a:off x="7997760" y="0"/>
            <a:ext cx="419436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kstvak 1"/>
          <p:cNvSpPr/>
          <p:nvPr/>
        </p:nvSpPr>
        <p:spPr>
          <a:xfrm>
            <a:off x="1523880" y="0"/>
            <a:ext cx="9144000" cy="39888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Diversiteit en de rechten van de arme mens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2" descr="http://2.bp.blogspot.com/_osrVjnPbdEM/SC6zkmszPfI/AAAAAAAABKI/DvBJOtthv8g/s400/Funny+Grandma+12.jpg"/>
          <p:cNvPicPr/>
          <p:nvPr/>
        </p:nvPicPr>
        <p:blipFill>
          <a:blip r:embed="rId1"/>
          <a:srcRect l="3326" t="23671" r="1663" b="1795"/>
          <a:stretch/>
        </p:blipFill>
        <p:spPr>
          <a:xfrm>
            <a:off x="2279520" y="2033640"/>
            <a:ext cx="4103640" cy="4824360"/>
          </a:xfrm>
          <a:prstGeom prst="rect">
            <a:avLst/>
          </a:prstGeom>
          <a:ln w="0">
            <a:noFill/>
          </a:ln>
        </p:spPr>
      </p:pic>
      <p:sp>
        <p:nvSpPr>
          <p:cNvPr id="240" name="Toelichting met afgeronde rechthoek 3"/>
          <p:cNvSpPr/>
          <p:nvPr/>
        </p:nvSpPr>
        <p:spPr>
          <a:xfrm>
            <a:off x="5842080" y="687240"/>
            <a:ext cx="3600360" cy="1346400"/>
          </a:xfrm>
          <a:prstGeom prst="wedgeRoundRectCallout">
            <a:avLst>
              <a:gd name="adj1" fmla="val -59296"/>
              <a:gd name="adj2" fmla="val 128171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oeder Theresa was geheel anders. Ze is niet bepaald mijn type. Ze hielp de arme mens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Toelichting met afgeronde rechthoek 4"/>
          <p:cNvSpPr/>
          <p:nvPr/>
        </p:nvSpPr>
        <p:spPr>
          <a:xfrm>
            <a:off x="6608880" y="3475080"/>
            <a:ext cx="3384360" cy="647640"/>
          </a:xfrm>
          <a:prstGeom prst="wedgeRoundRectCallout">
            <a:avLst>
              <a:gd name="adj1" fmla="val -85453"/>
              <a:gd name="adj2" fmla="val 8611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denk er liever niet over na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Toelichting met afgeronde rechthoek 5"/>
          <p:cNvSpPr/>
          <p:nvPr/>
        </p:nvSpPr>
        <p:spPr>
          <a:xfrm>
            <a:off x="7104240" y="4941720"/>
            <a:ext cx="2889000" cy="711360"/>
          </a:xfrm>
          <a:prstGeom prst="wedgeRoundRectCallout">
            <a:avLst>
              <a:gd name="adj1" fmla="val -105546"/>
              <a:gd name="adj2" fmla="val -133199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ar blijf je nou met je aansteker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Rechthoek 6"/>
          <p:cNvSpPr/>
          <p:nvPr/>
        </p:nvSpPr>
        <p:spPr>
          <a:xfrm>
            <a:off x="387360" y="1147680"/>
            <a:ext cx="955800" cy="425520"/>
          </a:xfrm>
          <a:prstGeom prst="rect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rebuchet MS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oeder Theresa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77880" y="2160360"/>
            <a:ext cx="3713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Je kunt nog een stap verder gaan: mensen helpen die door niemand gewenst zij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at deed Moeder Theres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iet vreemd dat ze er de Nobelprijs voor kree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Afbeelding 3" descr=""/>
          <p:cNvPicPr/>
          <p:nvPr/>
        </p:nvPicPr>
        <p:blipFill>
          <a:blip r:embed="rId1"/>
          <a:stretch/>
        </p:blipFill>
        <p:spPr>
          <a:xfrm>
            <a:off x="4237200" y="1468440"/>
            <a:ext cx="795492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04T08:47:41Z</dcterms:created>
  <dc:creator>Adela van Stiphout</dc:creator>
  <dc:description/>
  <dc:language>en-US</dc:language>
  <cp:lastModifiedBy>Adela van Stiphout</cp:lastModifiedBy>
  <dcterms:modified xsi:type="dcterms:W3CDTF">2020-01-30T17:34:31Z</dcterms:modified>
  <cp:revision>12</cp:revision>
  <dc:subject/>
  <dc:title>Gelijk maar toch verschillend</dc:title>
</cp:coreProperties>
</file>