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B357-C350-4C49-ADA1-7DC731F0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7192-0C35-49B1-9938-2ED17A4D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6D9B-DD0B-46DE-AD76-748C2F16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61E0-EF5D-4343-BAF1-01C8410A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E44B-4449-4F3A-9521-7369E8CA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5E93F-C35D-4864-A64C-BDE8B034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C951-D3B3-4A60-B993-0F50D377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4CA6-BF6B-4633-B551-1EA85EF6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1789C-B8A0-42E5-AC19-E54A2B36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08CE-916F-4C57-9E7B-E3EB46E9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07B1-8956-4235-9005-606C1D21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EB2-0437-4A06-9A7E-0F4CD2B0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2AD0-8304-4A25-805A-0C4B0676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D994-571B-4273-91DB-E0A2AC54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6B59-50B9-4676-83E6-2FC6040A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2403-6F22-4AAF-B093-B901B4C5D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5990-E0E6-4216-8D57-601387A7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26C25-364A-4AA6-93D8-FD8FFA6F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49C6C-033D-4B4E-A909-4AAE472C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F2EA8-61AD-4537-993C-42F85E42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FB0B2-057F-4D8E-B310-A645FEFB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0D299-9BB4-4338-B8BD-40C19228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183-EE44-4D4B-ABAC-1F0E0503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77E30-9F59-4F62-8D28-ECB9A9837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EFCDC-CDE1-44E0-88C0-1CB0F15C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5F293-52AE-4354-9F19-723FD0D8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C5009-CCA3-4AB3-BBF7-340B6523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F0B08-6EB5-49A2-9D02-816CE25D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F2876-0A2C-4847-8FAF-E0FE1A9B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12AE0-3763-4CEF-8204-FD996447C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37AC3-7B05-40E5-A20A-B31209497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0B897-9335-4BFF-9675-4DA2B7AE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C2877-9639-43F8-B29C-56CF52D9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292-B1AF-436A-B5F8-A094C795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E1196-3EB0-4FA8-85F6-B30193AA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76214-2F68-488F-9D1D-B7391923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78171-B3B4-49A3-9D20-661BF432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125E6-07C8-4FBB-9F55-FB96ADE2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940F2-EEA7-4FCD-AB0B-2167BFA6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5FF9E-50AF-49AF-B9A1-A2557F5C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01232-2FB3-4F0A-A655-9856B6DEB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7842E-EAB7-40C6-A04D-1E549ACD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DFCA1-476B-47AC-B6FA-660A34F4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1BC-85C3-494F-BE4C-909ED395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FA84-49CA-414F-ABC3-1700B077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6EE6-CD4E-4870-AD70-2CDC9FB5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2321-684D-4824-892D-231E2D91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2BCD-3B6E-49F2-A09D-91E10EAB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8DCC-8D19-42E6-80CF-63BB743D01F3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7963-44F0-4D40-8301-2A6682B71F4D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616E-1520-4878-A803-5F1098B95AB6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315D-B553-49D2-A5A4-43D85E9D3B8A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Bn_vpDZaRwCZgM&amp;tbnid=zwK_KWvzce9rNM:&amp;ved=0CAUQjRw&amp;url=http://smallbusiness.chron.com/deal-teasing-work-10271.html&amp;ei=qjCiUaCUAorB0QXtg4HIDg&amp;bvm=bv.47008514,d.d2k&amp;psig=AFQjCNGVcnjTQ-Eb8ndQdgiRkyK108yDvg&amp;ust=1369670182268935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s://www.youtube.com/watch?v=VDnBJzlbUl0&amp;list=PLi_srCikhtghrNa6Ti1d4aSyPQzQ3JI63&amp;index=45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n4l4nxTG_nwMrM&amp;tbnid=novWnmP3GckzKM:&amp;ved=0CAUQjRw&amp;url=http://www.judygruen.com/index.php/offmynoodle/comments/bad_gifts_and_the_women_who_regift_them&amp;ei=GBGiUdaDEuOd0AWm1oCIDg&amp;psig=AFQjCNGyhcpT-pUKSUl1taDKugh47ofS_g&amp;ust=1369662089661955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600" y="2404800"/>
            <a:ext cx="68263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Gelijk maar toch verschillend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600" y="4051080"/>
            <a:ext cx="6826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7f7f7f"/>
                </a:solidFill>
                <a:latin typeface="Trebuchet MS"/>
              </a:rPr>
              <a:t>De strijd tussen haat en lief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rechten van de me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7720" y="1825200"/>
            <a:ext cx="3900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 de Tweede wereldoorlog: geen racisme me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erpen van het idee van Hitler: rassen zijn verschillend en krijgen geen gelijke kan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 zijn gelijk, maar toch verschillend. Hoe kan dat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Afbeelding 3" descr=""/>
          <p:cNvPicPr/>
          <p:nvPr/>
        </p:nvPicPr>
        <p:blipFill>
          <a:blip r:embed="rId1"/>
          <a:stretch/>
        </p:blipFill>
        <p:spPr>
          <a:xfrm>
            <a:off x="4919760" y="1274760"/>
            <a:ext cx="72723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kstvak 10"/>
          <p:cNvSpPr/>
          <p:nvPr/>
        </p:nvSpPr>
        <p:spPr>
          <a:xfrm>
            <a:off x="911160" y="5234040"/>
            <a:ext cx="1657440" cy="368280"/>
          </a:xfrm>
          <a:prstGeom prst="rect">
            <a:avLst/>
          </a:prstGeom>
          <a:solidFill>
            <a:srgbClr val="92d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Picture 2" descr="http://smallbusiness.chron.com/DM-Resize/photos.demandstudios.com/getty/article/175/20/rbc3_10.jpg?w=600&amp;h=600&amp;keep_ratio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3520" y="333360"/>
            <a:ext cx="5634000" cy="6524640"/>
          </a:xfrm>
          <a:prstGeom prst="rect">
            <a:avLst/>
          </a:prstGeom>
          <a:ln w="0">
            <a:noFill/>
          </a:ln>
        </p:spPr>
      </p:pic>
      <p:sp>
        <p:nvSpPr>
          <p:cNvPr id="219" name="Toelichting met afgeronde rechthoek 11"/>
          <p:cNvSpPr/>
          <p:nvPr/>
        </p:nvSpPr>
        <p:spPr>
          <a:xfrm>
            <a:off x="216000" y="115920"/>
            <a:ext cx="4464000" cy="720720"/>
          </a:xfrm>
          <a:prstGeom prst="wedgeRoundRectCallout">
            <a:avLst>
              <a:gd name="adj1" fmla="val 78615"/>
              <a:gd name="adj2" fmla="val 71226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 zijn allemaal verschillend. Begrijp dat nou!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Toelichting met afgeronde rechthoek 12"/>
          <p:cNvSpPr/>
          <p:nvPr/>
        </p:nvSpPr>
        <p:spPr>
          <a:xfrm>
            <a:off x="8493120" y="135000"/>
            <a:ext cx="2516040" cy="836640"/>
          </a:xfrm>
          <a:prstGeom prst="wedgeRoundRectCallout">
            <a:avLst>
              <a:gd name="adj1" fmla="val -58828"/>
              <a:gd name="adj2" fmla="val 105388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kt de huidskleur iets uit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Toelichting met afgeronde rechthoek 13"/>
          <p:cNvSpPr/>
          <p:nvPr/>
        </p:nvSpPr>
        <p:spPr>
          <a:xfrm>
            <a:off x="1631880" y="2766960"/>
            <a:ext cx="2570400" cy="720720"/>
          </a:xfrm>
          <a:prstGeom prst="wedgeRoundRectCallout">
            <a:avLst>
              <a:gd name="adj1" fmla="val 86949"/>
              <a:gd name="adj2" fmla="val -71768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lang ze doen wat ik zeg niet natuurlijk!!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oelichting met afgeronde rechthoek 14"/>
          <p:cNvSpPr/>
          <p:nvPr/>
        </p:nvSpPr>
        <p:spPr>
          <a:xfrm>
            <a:off x="9010800" y="3127320"/>
            <a:ext cx="2124000" cy="1295280"/>
          </a:xfrm>
          <a:prstGeom prst="wedgeRoundRectCallout">
            <a:avLst>
              <a:gd name="adj1" fmla="val -66583"/>
              <a:gd name="adj2" fmla="val -66203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ijk eens naar het verhaal van 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3"/>
              </a:rPr>
              <a:t>Martin Luther King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artin Luther K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7720" y="1825200"/>
            <a:ext cx="5356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cisme is moeilijk uit te ba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 wereldgeschiedenis is er vol van: slavernij is van alle tijden en komt uit alle delen van de wer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t gevaar voor eigen leven streed Martin Luther King ert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eel bijzonder: hij gebruikte geen gew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Afbeelding 3" descr=""/>
          <p:cNvPicPr/>
          <p:nvPr/>
        </p:nvPicPr>
        <p:blipFill>
          <a:blip r:embed="rId1"/>
          <a:stretch/>
        </p:blipFill>
        <p:spPr>
          <a:xfrm>
            <a:off x="6194520" y="0"/>
            <a:ext cx="59976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John Lock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7720" y="1825200"/>
            <a:ext cx="5356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nsen zijn als gelijke geb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abula ra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rijheid van geloo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nafhankelijkheidsverklaring 1776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hristen en grondlegger liberalis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Afbeelding 1" descr=""/>
          <p:cNvPicPr/>
          <p:nvPr/>
        </p:nvPicPr>
        <p:blipFill>
          <a:blip r:embed="rId1"/>
          <a:stretch/>
        </p:blipFill>
        <p:spPr>
          <a:xfrm>
            <a:off x="6261120" y="-25560"/>
            <a:ext cx="593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oelichting met afgeronde rechthoek 4"/>
          <p:cNvSpPr/>
          <p:nvPr/>
        </p:nvSpPr>
        <p:spPr>
          <a:xfrm>
            <a:off x="4224240" y="404640"/>
            <a:ext cx="2279880" cy="1016280"/>
          </a:xfrm>
          <a:prstGeom prst="wedgeRoundRectCallout">
            <a:avLst>
              <a:gd name="adj1" fmla="val -58407"/>
              <a:gd name="adj2" fmla="val 19483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woon omdat ze elkaar verkeerd begrijp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Toelichting met afgeronde rechthoek 7"/>
          <p:cNvSpPr/>
          <p:nvPr/>
        </p:nvSpPr>
        <p:spPr>
          <a:xfrm>
            <a:off x="6024600" y="3068640"/>
            <a:ext cx="3392280" cy="1440000"/>
          </a:xfrm>
          <a:prstGeom prst="wedgeRoundRectCallout">
            <a:avLst>
              <a:gd name="adj1" fmla="val -93587"/>
              <a:gd name="adj2" fmla="val 1002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soms vinden ze zichzelf geweldig en moet iedereen maar begrijpen wat ze will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Toelichting met afgeronde rechthoek 8"/>
          <p:cNvSpPr/>
          <p:nvPr/>
        </p:nvSpPr>
        <p:spPr>
          <a:xfrm>
            <a:off x="5448240" y="1628640"/>
            <a:ext cx="2519280" cy="1295640"/>
          </a:xfrm>
          <a:prstGeom prst="wedgeRoundRectCallout">
            <a:avLst>
              <a:gd name="adj1" fmla="val -83041"/>
              <a:gd name="adj2" fmla="val 71560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soms omdat hun gezicht ze niet aanstaat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Tekstvak 9"/>
          <p:cNvSpPr/>
          <p:nvPr/>
        </p:nvSpPr>
        <p:spPr>
          <a:xfrm>
            <a:off x="6504120" y="5956200"/>
            <a:ext cx="1655640" cy="368280"/>
          </a:xfrm>
          <a:prstGeom prst="rect">
            <a:avLst/>
          </a:prstGeom>
          <a:solidFill>
            <a:srgbClr val="92d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http://www.judygruen.com/images/uploads/angry_old_lady_iStock_000012793912XSm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5160" y="2243160"/>
            <a:ext cx="3079800" cy="4614840"/>
          </a:xfrm>
          <a:prstGeom prst="rect">
            <a:avLst/>
          </a:prstGeom>
          <a:ln w="0">
            <a:noFill/>
          </a:ln>
        </p:spPr>
      </p:pic>
      <p:sp>
        <p:nvSpPr>
          <p:cNvPr id="234" name="Toelichting met afgeronde rechthoek 10"/>
          <p:cNvSpPr/>
          <p:nvPr/>
        </p:nvSpPr>
        <p:spPr>
          <a:xfrm>
            <a:off x="914400" y="476280"/>
            <a:ext cx="3156120" cy="720720"/>
          </a:xfrm>
          <a:prstGeom prst="wedgeRoundRectCallout">
            <a:avLst>
              <a:gd name="adj1" fmla="val 26777"/>
              <a:gd name="adj2" fmla="val 26334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s haten mensen elkaa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strijd tussen haat en lief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38080" y="1825200"/>
            <a:ext cx="70185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mmige mensen haten anderen als die een andere huidskleur, geloof of seksuele geaardheid heef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 de 20</a:t>
            </a:r>
            <a:r>
              <a:rPr b="0" lang="nl-NL" sz="1800" spc="-1" strike="noStrike" baseline="30000">
                <a:solidFill>
                  <a:srgbClr val="404040"/>
                </a:solidFill>
                <a:latin typeface="Trebuchet MS"/>
              </a:rPr>
              <a:t>e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eeuw was deze haat heel sterk, vooral onder Adolf Hitl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e moesten gewone mensen ermee omgaan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Afbeelding 3" descr=""/>
          <p:cNvPicPr/>
          <p:nvPr/>
        </p:nvPicPr>
        <p:blipFill>
          <a:blip r:embed="rId1"/>
          <a:stretch/>
        </p:blipFill>
        <p:spPr>
          <a:xfrm>
            <a:off x="7997760" y="0"/>
            <a:ext cx="41943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kstvak 1"/>
          <p:cNvSpPr/>
          <p:nvPr/>
        </p:nvSpPr>
        <p:spPr>
          <a:xfrm>
            <a:off x="1523880" y="0"/>
            <a:ext cx="9144000" cy="3988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Diversiteit en de rechten van de arme mens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http://2.bp.blogspot.com/_osrVjnPbdEM/SC6zkmszPfI/AAAAAAAABKI/DvBJOtthv8g/s400/Funny+Grandma+12.jpg"/>
          <p:cNvPicPr/>
          <p:nvPr/>
        </p:nvPicPr>
        <p:blipFill>
          <a:blip r:embed="rId1"/>
          <a:srcRect l="3326" t="23671" r="1663" b="1795"/>
          <a:stretch/>
        </p:blipFill>
        <p:spPr>
          <a:xfrm>
            <a:off x="2279520" y="2033640"/>
            <a:ext cx="4103640" cy="4824360"/>
          </a:xfrm>
          <a:prstGeom prst="rect">
            <a:avLst/>
          </a:prstGeom>
          <a:ln w="0">
            <a:noFill/>
          </a:ln>
        </p:spPr>
      </p:pic>
      <p:sp>
        <p:nvSpPr>
          <p:cNvPr id="240" name="Toelichting met afgeronde rechthoek 3"/>
          <p:cNvSpPr/>
          <p:nvPr/>
        </p:nvSpPr>
        <p:spPr>
          <a:xfrm>
            <a:off x="5842080" y="687240"/>
            <a:ext cx="3600360" cy="1346400"/>
          </a:xfrm>
          <a:prstGeom prst="wedgeRoundRectCallout">
            <a:avLst>
              <a:gd name="adj1" fmla="val -59296"/>
              <a:gd name="adj2" fmla="val 128171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oeder Theresa was geheel anders. Ze is niet bepaald mijn type. Ze hielp de arme mens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Toelichting met afgeronde rechthoek 4"/>
          <p:cNvSpPr/>
          <p:nvPr/>
        </p:nvSpPr>
        <p:spPr>
          <a:xfrm>
            <a:off x="6608880" y="3475080"/>
            <a:ext cx="3384360" cy="647640"/>
          </a:xfrm>
          <a:prstGeom prst="wedgeRoundRectCallout">
            <a:avLst>
              <a:gd name="adj1" fmla="val -85453"/>
              <a:gd name="adj2" fmla="val 8611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denk er liever niet over na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Toelichting met afgeronde rechthoek 5"/>
          <p:cNvSpPr/>
          <p:nvPr/>
        </p:nvSpPr>
        <p:spPr>
          <a:xfrm>
            <a:off x="7104240" y="4941720"/>
            <a:ext cx="2889000" cy="711360"/>
          </a:xfrm>
          <a:prstGeom prst="wedgeRoundRectCallout">
            <a:avLst>
              <a:gd name="adj1" fmla="val -105546"/>
              <a:gd name="adj2" fmla="val -133199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ar blijf je nou met je aansteker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Rechthoek 6"/>
          <p:cNvSpPr/>
          <p:nvPr/>
        </p:nvSpPr>
        <p:spPr>
          <a:xfrm>
            <a:off x="387360" y="1147680"/>
            <a:ext cx="955800" cy="425520"/>
          </a:xfrm>
          <a:prstGeom prst="rect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rebuchet MS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oeder Theres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77880" y="2160360"/>
            <a:ext cx="3713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Je kunt nog een stap verder gaan: mensen helpen die door niemand gewenst zij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at deed Moeder Theres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iet vreemd dat ze er de Nobelprijs voor kree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Afbeelding 3" descr=""/>
          <p:cNvPicPr/>
          <p:nvPr/>
        </p:nvPicPr>
        <p:blipFill>
          <a:blip r:embed="rId1"/>
          <a:stretch/>
        </p:blipFill>
        <p:spPr>
          <a:xfrm>
            <a:off x="4237200" y="1468440"/>
            <a:ext cx="795492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4T08:47:41Z</dcterms:created>
  <dc:creator>Adela van Stiphout</dc:creator>
  <dc:description/>
  <dc:language>en-US</dc:language>
  <cp:lastModifiedBy>Adela van Stiphout</cp:lastModifiedBy>
  <dcterms:modified xsi:type="dcterms:W3CDTF">2020-01-30T17:34:31Z</dcterms:modified>
  <cp:revision>12</cp:revision>
  <dc:subject/>
  <dc:title>Gelijk maar toch verschillend</dc:title>
</cp:coreProperties>
</file>