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2FAC-6019-4E85-B8F9-A5602586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6332-A70B-4357-803A-9F00464C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4212-3E21-4639-B732-FB7B5ACA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744C-1C21-46A0-862E-9BBC768E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264B-2927-4E4A-B9CA-5B2867FA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FADC-6451-41C3-8CDC-A9C1FC0D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B5E0-73C4-4CAA-BAC8-05D4D72A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18AA-986A-4564-A14A-2F9DA277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0FBB-23D6-470A-BB93-0DF84FF8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1838-5A42-4EA2-B945-17307BC3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9404-775A-4C02-B6D9-4123236F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7A28-0329-4B43-8628-7B660A6F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2A4C-1EA2-462D-8A6F-7D68AE82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BB4A-B5A3-4780-AD17-68BA5DFC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A0DA-AE9F-4250-944C-00284600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874C-0BD7-4D64-B6D2-D6B73C17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E719-B2D0-4C9F-8CB7-0CF12A7D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30B8B-F40E-4209-993D-4CDD898A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CBE8D-6F7A-4CD8-9790-9C19B3B8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FB259-BA93-4E20-A922-FF90B1CE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095DF-5337-4667-82D3-1BD287E4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23C37-37FB-4129-93C8-9B5028A9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F1AD-A8E2-4148-8FC7-834AA1DC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2C117-CCAE-490D-8A42-B3CDDE82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3394E-2A5E-4C22-B154-2C03AE82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24018-56D6-42C2-BEB8-DB87ED9C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9930F-31F8-412B-A784-BCB9DBC5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793B7-8A1F-48E0-88BB-7433E4B0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767B3-9B92-4840-8C9A-20A4A5E1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09D3D-7A9F-4B7A-ABAF-24D1D562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53B10-D6ED-4C98-AA39-B7493324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771D8-B658-4FAF-879F-8A68BE39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1ACEE-37BB-4970-816D-11729B4E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7837-6E11-47D8-B35C-3BB06F15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BE38E-82B4-4858-A160-E153F2D8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1D56C-2C34-4407-9DCF-E9CF40D4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29C63-F368-4F9D-A3ED-B2745606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D8FE2-ED98-4603-8A6B-3B04B90E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C07D0-F8D0-4FE7-AD07-B39D7D11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0D293-E4D5-4C36-BA81-FFD57C66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182D1-1BFE-4E9A-A4ED-1AB7D07F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26AD9-7851-469A-9B68-1CBB59EE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D5374-8DA1-45EB-8201-7C4782AE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F9C-B1DD-449A-AA47-4E1F1EC6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E3B7-6DA0-4AEE-8373-6DADC43F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1B4-5D07-4676-AA4B-8C3C49F5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399-387A-490B-85C4-0AD23F1D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A19-2FF1-4435-82E7-94E4B76A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B4E5-4418-480F-A066-15A70A93EE06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81D8-CDFC-4B6C-81E2-B232407B446B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5CF4-DBBC-451B-8E0E-781A4464142C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BCBF-1D48-46BD-A82E-5527FC66C1C4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Bn_vpDZaRwCZgM&amp;tbnid=zwK_KWvzce9rNM:&amp;ved=0CAUQjRw&amp;url=http://smallbusiness.chron.com/deal-teasing-work-10271.html&amp;ei=qjCiUaCUAorB0QXtg4HIDg&amp;bvm=bv.47008514,d.d2k&amp;psig=AFQjCNGVcnjTQ-Eb8ndQdgiRkyK108yDvg&amp;ust=1369670182268935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s://www.youtube.com/watch?v=VDnBJzlbUl0&amp;list=PLi_srCikhtghrNa6Ti1d4aSyPQzQ3JI63&amp;index=45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n4l4nxTG_nwMrM&amp;tbnid=novWnmP3GckzKM:&amp;ved=0CAUQjRw&amp;url=http://www.judygruen.com/index.php/offmynoodle/comments/bad_gifts_and_the_women_who_regift_them&amp;ei=GBGiUdaDEuOd0AWm1oCIDg&amp;psig=AFQjCNGyhcpT-pUKSUl1taDKugh47ofS_g&amp;ust=1369662089661955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600" y="2404800"/>
            <a:ext cx="68263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Gelijk maar toch verschillend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600" y="4051080"/>
            <a:ext cx="6826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7f7f7f"/>
                </a:solidFill>
                <a:latin typeface="Trebuchet MS"/>
              </a:rPr>
              <a:t>De strijd tussen haat en lief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rechten van de me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7720" y="1825200"/>
            <a:ext cx="3900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 de Tweede wereldoorlog: geen racisme me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erpen van het idee van Hitler: rassen zijn verschillend en krijgen geen gelijke kan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 zijn gelijk, maar toch verschillend. Hoe kan dat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Afbeelding 3" descr=""/>
          <p:cNvPicPr/>
          <p:nvPr/>
        </p:nvPicPr>
        <p:blipFill>
          <a:blip r:embed="rId1"/>
          <a:stretch/>
        </p:blipFill>
        <p:spPr>
          <a:xfrm>
            <a:off x="4919760" y="1274760"/>
            <a:ext cx="72723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kstvak 10"/>
          <p:cNvSpPr/>
          <p:nvPr/>
        </p:nvSpPr>
        <p:spPr>
          <a:xfrm>
            <a:off x="911160" y="5234040"/>
            <a:ext cx="1657440" cy="368280"/>
          </a:xfrm>
          <a:prstGeom prst="rect">
            <a:avLst/>
          </a:prstGeom>
          <a:solidFill>
            <a:srgbClr val="92d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Picture 2" descr="http://smallbusiness.chron.com/DM-Resize/photos.demandstudios.com/getty/article/175/20/rbc3_10.jpg?w=600&amp;h=600&amp;keep_ratio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3520" y="333360"/>
            <a:ext cx="5634000" cy="6524640"/>
          </a:xfrm>
          <a:prstGeom prst="rect">
            <a:avLst/>
          </a:prstGeom>
          <a:ln w="0">
            <a:noFill/>
          </a:ln>
        </p:spPr>
      </p:pic>
      <p:sp>
        <p:nvSpPr>
          <p:cNvPr id="219" name="Toelichting met afgeronde rechthoek 11"/>
          <p:cNvSpPr/>
          <p:nvPr/>
        </p:nvSpPr>
        <p:spPr>
          <a:xfrm>
            <a:off x="216000" y="115920"/>
            <a:ext cx="4464000" cy="720720"/>
          </a:xfrm>
          <a:prstGeom prst="wedgeRoundRectCallout">
            <a:avLst>
              <a:gd name="adj1" fmla="val 78615"/>
              <a:gd name="adj2" fmla="val 71226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 zijn allemaal verschillend. Begrijp dat nou!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Toelichting met afgeronde rechthoek 12"/>
          <p:cNvSpPr/>
          <p:nvPr/>
        </p:nvSpPr>
        <p:spPr>
          <a:xfrm>
            <a:off x="8493120" y="135000"/>
            <a:ext cx="2516040" cy="836640"/>
          </a:xfrm>
          <a:prstGeom prst="wedgeRoundRectCallout">
            <a:avLst>
              <a:gd name="adj1" fmla="val -58828"/>
              <a:gd name="adj2" fmla="val 105388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kt de huidskleur iets uit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Toelichting met afgeronde rechthoek 13"/>
          <p:cNvSpPr/>
          <p:nvPr/>
        </p:nvSpPr>
        <p:spPr>
          <a:xfrm>
            <a:off x="1631880" y="2766960"/>
            <a:ext cx="2570400" cy="720720"/>
          </a:xfrm>
          <a:prstGeom prst="wedgeRoundRectCallout">
            <a:avLst>
              <a:gd name="adj1" fmla="val 86949"/>
              <a:gd name="adj2" fmla="val -71768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lang ze doen wat ik zeg niet natuurlijk!!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oelichting met afgeronde rechthoek 14"/>
          <p:cNvSpPr/>
          <p:nvPr/>
        </p:nvSpPr>
        <p:spPr>
          <a:xfrm>
            <a:off x="9010800" y="3127320"/>
            <a:ext cx="2124000" cy="1295280"/>
          </a:xfrm>
          <a:prstGeom prst="wedgeRoundRectCallout">
            <a:avLst>
              <a:gd name="adj1" fmla="val -66583"/>
              <a:gd name="adj2" fmla="val -66203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ijk eens naar het verhaal van 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3"/>
              </a:rPr>
              <a:t>Martin Luther King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artin Luther K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7720" y="1825200"/>
            <a:ext cx="5356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cisme is moeilijk uit te ba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 wereldgeschiedenis is er vol van: slavernij is van alle tijden en komt uit alle delen van de wer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t gevaar voor eigen leven streed Martin Luther King ert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eel bijzonder: hij gebruikte geen gew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Afbeelding 3" descr=""/>
          <p:cNvPicPr/>
          <p:nvPr/>
        </p:nvPicPr>
        <p:blipFill>
          <a:blip r:embed="rId1"/>
          <a:stretch/>
        </p:blipFill>
        <p:spPr>
          <a:xfrm>
            <a:off x="6194520" y="0"/>
            <a:ext cx="59976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John Lock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7720" y="1825200"/>
            <a:ext cx="5356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nsen zijn als gelijke geb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abula ra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rijheid van geloo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nafhankelijkheidsverklaring 1776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hristen en grondlegger liberalis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Afbeelding 1" descr=""/>
          <p:cNvPicPr/>
          <p:nvPr/>
        </p:nvPicPr>
        <p:blipFill>
          <a:blip r:embed="rId1"/>
          <a:stretch/>
        </p:blipFill>
        <p:spPr>
          <a:xfrm>
            <a:off x="6261120" y="-25560"/>
            <a:ext cx="593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oelichting met afgeronde rechthoek 4"/>
          <p:cNvSpPr/>
          <p:nvPr/>
        </p:nvSpPr>
        <p:spPr>
          <a:xfrm>
            <a:off x="4224240" y="404640"/>
            <a:ext cx="2279880" cy="1016280"/>
          </a:xfrm>
          <a:prstGeom prst="wedgeRoundRectCallout">
            <a:avLst>
              <a:gd name="adj1" fmla="val -58407"/>
              <a:gd name="adj2" fmla="val 19483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woon omdat ze elkaar verkeerd begrijp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Toelichting met afgeronde rechthoek 7"/>
          <p:cNvSpPr/>
          <p:nvPr/>
        </p:nvSpPr>
        <p:spPr>
          <a:xfrm>
            <a:off x="6024600" y="3068640"/>
            <a:ext cx="3392280" cy="1440000"/>
          </a:xfrm>
          <a:prstGeom prst="wedgeRoundRectCallout">
            <a:avLst>
              <a:gd name="adj1" fmla="val -93587"/>
              <a:gd name="adj2" fmla="val 1002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soms vinden ze zichzelf geweldig en moet iedereen maar begrijpen wat ze will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Toelichting met afgeronde rechthoek 8"/>
          <p:cNvSpPr/>
          <p:nvPr/>
        </p:nvSpPr>
        <p:spPr>
          <a:xfrm>
            <a:off x="5448240" y="1628640"/>
            <a:ext cx="2519280" cy="1295640"/>
          </a:xfrm>
          <a:prstGeom prst="wedgeRoundRectCallout">
            <a:avLst>
              <a:gd name="adj1" fmla="val -83041"/>
              <a:gd name="adj2" fmla="val 71560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soms omdat hun gezicht ze niet aanstaat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Tekstvak 9"/>
          <p:cNvSpPr/>
          <p:nvPr/>
        </p:nvSpPr>
        <p:spPr>
          <a:xfrm>
            <a:off x="6504120" y="5956200"/>
            <a:ext cx="1655640" cy="368280"/>
          </a:xfrm>
          <a:prstGeom prst="rect">
            <a:avLst/>
          </a:prstGeom>
          <a:solidFill>
            <a:srgbClr val="92d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http://www.judygruen.com/images/uploads/angry_old_lady_iStock_000012793912XSm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5160" y="2243160"/>
            <a:ext cx="3079800" cy="4614840"/>
          </a:xfrm>
          <a:prstGeom prst="rect">
            <a:avLst/>
          </a:prstGeom>
          <a:ln w="0">
            <a:noFill/>
          </a:ln>
        </p:spPr>
      </p:pic>
      <p:sp>
        <p:nvSpPr>
          <p:cNvPr id="234" name="Toelichting met afgeronde rechthoek 10"/>
          <p:cNvSpPr/>
          <p:nvPr/>
        </p:nvSpPr>
        <p:spPr>
          <a:xfrm>
            <a:off x="914400" y="476280"/>
            <a:ext cx="3156120" cy="720720"/>
          </a:xfrm>
          <a:prstGeom prst="wedgeRoundRectCallout">
            <a:avLst>
              <a:gd name="adj1" fmla="val 26777"/>
              <a:gd name="adj2" fmla="val 26334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s haten mensen elkaa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strijd tussen haat en lief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38080" y="1825200"/>
            <a:ext cx="70185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mmige mensen haten anderen als die een andere huidskleur, geloof of seksuele geaardheid heef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 de 20</a:t>
            </a:r>
            <a:r>
              <a:rPr b="0" lang="nl-NL" sz="1800" spc="-1" strike="noStrike" baseline="30000">
                <a:solidFill>
                  <a:srgbClr val="404040"/>
                </a:solidFill>
                <a:latin typeface="Trebuchet MS"/>
              </a:rPr>
              <a:t>e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eeuw was deze haat heel sterk, vooral onder Adolf Hitl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e moesten gewone mensen ermee omgaan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Afbeelding 3" descr=""/>
          <p:cNvPicPr/>
          <p:nvPr/>
        </p:nvPicPr>
        <p:blipFill>
          <a:blip r:embed="rId1"/>
          <a:stretch/>
        </p:blipFill>
        <p:spPr>
          <a:xfrm>
            <a:off x="7997760" y="0"/>
            <a:ext cx="41943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kstvak 1"/>
          <p:cNvSpPr/>
          <p:nvPr/>
        </p:nvSpPr>
        <p:spPr>
          <a:xfrm>
            <a:off x="1523880" y="0"/>
            <a:ext cx="9144000" cy="3988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Diversiteit en de rechten van de arme mens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http://2.bp.blogspot.com/_osrVjnPbdEM/SC6zkmszPfI/AAAAAAAABKI/DvBJOtthv8g/s400/Funny+Grandma+12.jpg"/>
          <p:cNvPicPr/>
          <p:nvPr/>
        </p:nvPicPr>
        <p:blipFill>
          <a:blip r:embed="rId1"/>
          <a:srcRect l="3326" t="23671" r="1663" b="1795"/>
          <a:stretch/>
        </p:blipFill>
        <p:spPr>
          <a:xfrm>
            <a:off x="2279520" y="2033640"/>
            <a:ext cx="4103640" cy="4824360"/>
          </a:xfrm>
          <a:prstGeom prst="rect">
            <a:avLst/>
          </a:prstGeom>
          <a:ln w="0">
            <a:noFill/>
          </a:ln>
        </p:spPr>
      </p:pic>
      <p:sp>
        <p:nvSpPr>
          <p:cNvPr id="240" name="Toelichting met afgeronde rechthoek 3"/>
          <p:cNvSpPr/>
          <p:nvPr/>
        </p:nvSpPr>
        <p:spPr>
          <a:xfrm>
            <a:off x="5842080" y="687240"/>
            <a:ext cx="3600360" cy="1346400"/>
          </a:xfrm>
          <a:prstGeom prst="wedgeRoundRectCallout">
            <a:avLst>
              <a:gd name="adj1" fmla="val -59296"/>
              <a:gd name="adj2" fmla="val 128171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oeder Theresa was geheel anders. Ze is niet bepaald mijn type. Ze hielp de arme mens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Toelichting met afgeronde rechthoek 4"/>
          <p:cNvSpPr/>
          <p:nvPr/>
        </p:nvSpPr>
        <p:spPr>
          <a:xfrm>
            <a:off x="6608880" y="3475080"/>
            <a:ext cx="3384360" cy="647640"/>
          </a:xfrm>
          <a:prstGeom prst="wedgeRoundRectCallout">
            <a:avLst>
              <a:gd name="adj1" fmla="val -85453"/>
              <a:gd name="adj2" fmla="val 8611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denk er liever niet over na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Toelichting met afgeronde rechthoek 5"/>
          <p:cNvSpPr/>
          <p:nvPr/>
        </p:nvSpPr>
        <p:spPr>
          <a:xfrm>
            <a:off x="7104240" y="4941720"/>
            <a:ext cx="2889000" cy="711360"/>
          </a:xfrm>
          <a:prstGeom prst="wedgeRoundRectCallout">
            <a:avLst>
              <a:gd name="adj1" fmla="val -105546"/>
              <a:gd name="adj2" fmla="val -133199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ar blijf je nou met je aansteker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Rechthoek 6"/>
          <p:cNvSpPr/>
          <p:nvPr/>
        </p:nvSpPr>
        <p:spPr>
          <a:xfrm>
            <a:off x="387360" y="1147680"/>
            <a:ext cx="955800" cy="425520"/>
          </a:xfrm>
          <a:prstGeom prst="rect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rebuchet MS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oeder Theres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77880" y="2160360"/>
            <a:ext cx="3713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Je kunt nog een stap verder gaan: mensen helpen die door niemand gewenst zij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at deed Moeder Theres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iet vreemd dat ze er de Nobelprijs voor kree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Afbeelding 3" descr=""/>
          <p:cNvPicPr/>
          <p:nvPr/>
        </p:nvPicPr>
        <p:blipFill>
          <a:blip r:embed="rId1"/>
          <a:stretch/>
        </p:blipFill>
        <p:spPr>
          <a:xfrm>
            <a:off x="4237200" y="1468440"/>
            <a:ext cx="795492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4T08:47:41Z</dcterms:created>
  <dc:creator>Adela van Stiphout</dc:creator>
  <dc:description/>
  <dc:language>en-US</dc:language>
  <cp:lastModifiedBy>Adela van Stiphout</cp:lastModifiedBy>
  <dcterms:modified xsi:type="dcterms:W3CDTF">2020-01-30T17:34:31Z</dcterms:modified>
  <cp:revision>12</cp:revision>
  <dc:subject/>
  <dc:title>Gelijk maar toch verschillend</dc:title>
</cp:coreProperties>
</file>