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AEAA-DA16-4DB5-9EBC-3F19C94DE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1E67-79AD-41C8-BE30-E76D05F58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7212-F105-4496-BF4D-468EB9337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C46D-FF66-4B72-B846-569E89D46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24AAB-0A8D-42A5-B4E0-629C6A4AF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EE284-F42C-4DB4-88A2-DCA834673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415BB-5988-4B2F-8C2D-BA7EAAA4F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DA327-0770-4C05-BED9-90633275F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28CA3-B77F-4A6C-91D4-083BAAFB7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545BB-1247-4D3C-BCBA-98604E6C9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1E863-93DF-445E-8858-FAB8881A8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0082-6FF4-4563-BD78-99BBE57BD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85BA2-40B9-40F7-BF89-B9A5FAA36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560C5-F8EB-4F2F-AEF6-2AC2B4C84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1BDF7-0F77-4109-A76D-7EE75D2DE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E4E96-C6E3-47F7-8010-44940CA22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3D8B6-E69D-41C4-960D-2369F92E9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D89FA-1A0F-4F6A-8C3A-6331EC846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CDED9-EBB6-444F-8DB2-61EF31F17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B8ADF-149D-46E7-A426-ECCF5601B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EB96B-B26D-47C0-B2B8-EE16D131D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0458C-DBB2-4881-8E37-65F4AED0F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62AE-989C-41CA-9EB8-FBD062928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D5835-24D6-4796-A76F-0830B24DB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29307-7BB5-4944-8401-9633A736A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F9221-1E26-4E35-B209-1885C5396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8B1E0-C5D4-4C27-947F-78889DDE1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00548-9DC5-4276-962E-1456A2A98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E9C26-DFF1-410F-AB7D-803554C1C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E9A38-1696-463C-97A8-F5B381E21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DD058-3C40-42CC-9174-51EC6B10D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E1348-95D9-4F09-AD65-0759F2F39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A45DD-E3DB-44D5-9BD6-1C1D2F051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8448-3DC6-41EB-8BEA-4D76A3D9B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43E85-4980-47FF-855F-EA85B2A3F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9473F-6C37-4640-8828-8F1F8543F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9B150-3513-4DE4-A958-CE1F2E20D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E70EE-E214-42C4-A8A8-CE927F779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F4CF9-78C4-4F88-B233-A32E7E4E9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3BACA-E906-476E-A4C5-38686995F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BE3C9-98FC-4719-B1D1-3E878F4AC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5F9DF-F766-486C-A022-3D55ADCB3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770F1-A408-4FC1-84A4-EC8AAEEAB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9BD6-3143-4F88-96EF-15F5FF910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8794-CFC9-403B-BD27-840A05824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869C-BA2A-418C-84D5-B46A8ACAB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F7F1-9F68-45C3-8F20-2365CC4BC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F61B-59D2-4756-B698-B6840037B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40895-5071-4CB0-BB52-5429708175CA}" type="slidenum">
              <a:rPr b="0" lang="de-DE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360" y="-7920"/>
            <a:ext cx="12192480" cy="6865920"/>
            <a:chOff x="-360" y="-7920"/>
            <a:chExt cx="12192480" cy="6865920"/>
          </a:xfrm>
        </p:grpSpPr>
        <p:sp>
          <p:nvSpPr>
            <p:cNvPr id="53" name="Straight Connector 31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Isosceles Triangle 26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Isosceles Triangle 30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Isosceles Triangle 18"/>
            <p:cNvSpPr/>
            <p:nvPr/>
          </p:nvSpPr>
          <p:spPr>
            <a:xfrm rot="10800000">
              <a:off x="0" y="-360"/>
              <a:ext cx="842760" cy="566604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2AD62-48AC-4A9E-9F1E-8F9062ECE88F}" type="slidenum">
              <a:rPr b="0" lang="de-DE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05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9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1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F608B-5F86-4C22-B7AB-3EEFB428122E}" type="slidenum">
              <a:rPr b="0" lang="de-DE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59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A68E5-0A73-4768-B558-4E51969D0151}" type="slidenum">
              <a:rPr b="0" lang="de-DE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&amp;esrc=s&amp;frm=1&amp;source=images&amp;cd=&amp;cad=rja&amp;docid=Bn_vpDZaRwCZgM&amp;tbnid=zwK_KWvzce9rNM:&amp;ved=0CAUQjRw&amp;url=http://smallbusiness.chron.com/deal-teasing-work-10271.html&amp;ei=qjCiUaCUAorB0QXtg4HIDg&amp;bvm=bv.47008514,d.d2k&amp;psig=AFQjCNGVcnjTQ-Eb8ndQdgiRkyK108yDvg&amp;ust=1369670182268935" TargetMode="External"/><Relationship Id="rId2" Type="http://schemas.openxmlformats.org/officeDocument/2006/relationships/image" Target="../media/image2.png"/><Relationship Id="rId3" Type="http://schemas.openxmlformats.org/officeDocument/2006/relationships/hyperlink" Target="https://www.youtube.com/watch?v=VDnBJzlbUl0&amp;list=PLi_srCikhtghrNa6Ti1d4aSyPQzQ3JI63&amp;index=45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&amp;esrc=s&amp;frm=1&amp;source=images&amp;cd=&amp;cad=rja&amp;docid=n4l4nxTG_nwMrM&amp;tbnid=novWnmP3GckzKM:&amp;ved=0CAUQjRw&amp;url=http://www.judygruen.com/index.php/offmynoodle/comments/bad_gifts_and_the_women_who_regift_them&amp;ei=GBGiUdaDEuOd0AWm1oCIDg&amp;psig=AFQjCNGyhcpT-pUKSUl1taDKugh47ofS_g&amp;ust=1369662089661955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06600" y="2404800"/>
            <a:ext cx="682632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90c226"/>
                </a:solidFill>
                <a:latin typeface="Trebuchet MS"/>
              </a:rPr>
              <a:t>Gelijk maar toch verschillend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506600" y="4051080"/>
            <a:ext cx="682632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7f7f7f"/>
                </a:solidFill>
                <a:latin typeface="Trebuchet MS"/>
              </a:rPr>
              <a:t>De strijd tussen haat en liefd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De rechten van de men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837720" y="1825200"/>
            <a:ext cx="3900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Na de Tweede wereldoorlog: geen racisme me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erwerpen van het idee van Hitler: rassen zijn verschillend en krijgen geen gelijke kans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We zijn gelijk, maar toch verschillend. Hoe kan dat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6" name="Afbeelding 3" descr=""/>
          <p:cNvPicPr/>
          <p:nvPr/>
        </p:nvPicPr>
        <p:blipFill>
          <a:blip r:embed="rId1"/>
          <a:stretch/>
        </p:blipFill>
        <p:spPr>
          <a:xfrm>
            <a:off x="4919760" y="1274760"/>
            <a:ext cx="7272360" cy="56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kstvak 10"/>
          <p:cNvSpPr/>
          <p:nvPr/>
        </p:nvSpPr>
        <p:spPr>
          <a:xfrm>
            <a:off x="911160" y="5234040"/>
            <a:ext cx="1657440" cy="368280"/>
          </a:xfrm>
          <a:prstGeom prst="rect">
            <a:avLst/>
          </a:prstGeom>
          <a:solidFill>
            <a:srgbClr val="92d050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ideo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8" name="Picture 2" descr="http://smallbusiness.chron.com/DM-Resize/photos.demandstudios.com/getty/article/175/20/rbc3_10.jpg?w=600&amp;h=600&amp;keep_ratio=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3520" y="333360"/>
            <a:ext cx="5634000" cy="6524640"/>
          </a:xfrm>
          <a:prstGeom prst="rect">
            <a:avLst/>
          </a:prstGeom>
          <a:ln w="0">
            <a:noFill/>
          </a:ln>
        </p:spPr>
      </p:pic>
      <p:sp>
        <p:nvSpPr>
          <p:cNvPr id="219" name="Toelichting met afgeronde rechthoek 11"/>
          <p:cNvSpPr/>
          <p:nvPr/>
        </p:nvSpPr>
        <p:spPr>
          <a:xfrm>
            <a:off x="216000" y="115920"/>
            <a:ext cx="4464000" cy="720720"/>
          </a:xfrm>
          <a:prstGeom prst="wedgeRoundRectCallout">
            <a:avLst>
              <a:gd name="adj1" fmla="val 78615"/>
              <a:gd name="adj2" fmla="val 71226"/>
              <a:gd name="adj3" fmla="val 16667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We zijn allemaal verschillend. Begrijp dat nou!!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Toelichting met afgeronde rechthoek 12"/>
          <p:cNvSpPr/>
          <p:nvPr/>
        </p:nvSpPr>
        <p:spPr>
          <a:xfrm>
            <a:off x="8493120" y="135000"/>
            <a:ext cx="2516040" cy="836640"/>
          </a:xfrm>
          <a:prstGeom prst="wedgeRoundRectCallout">
            <a:avLst>
              <a:gd name="adj1" fmla="val -58828"/>
              <a:gd name="adj2" fmla="val 105388"/>
              <a:gd name="adj3" fmla="val 16667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aakt de huidskleur iets uit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Toelichting met afgeronde rechthoek 13"/>
          <p:cNvSpPr/>
          <p:nvPr/>
        </p:nvSpPr>
        <p:spPr>
          <a:xfrm>
            <a:off x="1631880" y="2766960"/>
            <a:ext cx="2570400" cy="720720"/>
          </a:xfrm>
          <a:prstGeom prst="wedgeRoundRectCallout">
            <a:avLst>
              <a:gd name="adj1" fmla="val 86949"/>
              <a:gd name="adj2" fmla="val -71768"/>
              <a:gd name="adj3" fmla="val 16667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Zolang ze doen wat ik zeg niet natuurlijk!!!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Toelichting met afgeronde rechthoek 14"/>
          <p:cNvSpPr/>
          <p:nvPr/>
        </p:nvSpPr>
        <p:spPr>
          <a:xfrm>
            <a:off x="9010800" y="3127320"/>
            <a:ext cx="2124000" cy="1295280"/>
          </a:xfrm>
          <a:prstGeom prst="wedgeRoundRectCallout">
            <a:avLst>
              <a:gd name="adj1" fmla="val -66583"/>
              <a:gd name="adj2" fmla="val -66203"/>
              <a:gd name="adj3" fmla="val 16667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Kijk eens naar het verhaal van </a:t>
            </a:r>
            <a:r>
              <a:rPr b="0" lang="nl-NL" sz="1800" spc="-1" strike="noStrike" u="sng">
                <a:solidFill>
                  <a:srgbClr val="99ca3c"/>
                </a:solidFill>
                <a:uFillTx/>
                <a:latin typeface="Arial"/>
                <a:ea typeface="Arial"/>
                <a:hlinkClick r:id="rId3"/>
              </a:rPr>
              <a:t>Martin Luther King.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Martin Luther King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837720" y="1825200"/>
            <a:ext cx="5356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Racisme is moeilijk uit te bann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e wereldgeschiedenis is er vol van: slavernij is van alle tijden en komt uit alle delen van de werel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et gevaar voor eigen leven streed Martin Luther King erte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Heel bijzonder: hij gebruikte geen gewel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5" name="Afbeelding 3" descr=""/>
          <p:cNvPicPr/>
          <p:nvPr/>
        </p:nvPicPr>
        <p:blipFill>
          <a:blip r:embed="rId1"/>
          <a:stretch/>
        </p:blipFill>
        <p:spPr>
          <a:xfrm>
            <a:off x="6194520" y="0"/>
            <a:ext cx="599760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John Lock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837720" y="1825200"/>
            <a:ext cx="5356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ensen zijn als gelijke gebo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Tabula rasa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rijheid van geloof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Onafhankelijkheidsverklaring 1776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Christen en grondlegger liberalism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8" name="Afbeelding 1" descr=""/>
          <p:cNvPicPr/>
          <p:nvPr/>
        </p:nvPicPr>
        <p:blipFill>
          <a:blip r:embed="rId1"/>
          <a:stretch/>
        </p:blipFill>
        <p:spPr>
          <a:xfrm>
            <a:off x="6261120" y="-25560"/>
            <a:ext cx="5931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oelichting met afgeronde rechthoek 4"/>
          <p:cNvSpPr/>
          <p:nvPr/>
        </p:nvSpPr>
        <p:spPr>
          <a:xfrm>
            <a:off x="4224240" y="404640"/>
            <a:ext cx="2279880" cy="1016280"/>
          </a:xfrm>
          <a:prstGeom prst="wedgeRoundRectCallout">
            <a:avLst>
              <a:gd name="adj1" fmla="val -58407"/>
              <a:gd name="adj2" fmla="val 194837"/>
              <a:gd name="adj3" fmla="val 16667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Gewoon omdat ze elkaar verkeerd begrijpen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Toelichting met afgeronde rechthoek 7"/>
          <p:cNvSpPr/>
          <p:nvPr/>
        </p:nvSpPr>
        <p:spPr>
          <a:xfrm>
            <a:off x="6024600" y="3068640"/>
            <a:ext cx="3392280" cy="1440000"/>
          </a:xfrm>
          <a:prstGeom prst="wedgeRoundRectCallout">
            <a:avLst>
              <a:gd name="adj1" fmla="val -93587"/>
              <a:gd name="adj2" fmla="val 10027"/>
              <a:gd name="adj3" fmla="val 16667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f soms vinden ze zichzelf geweldig en moet iedereen maar begrijpen wat ze willen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Toelichting met afgeronde rechthoek 8"/>
          <p:cNvSpPr/>
          <p:nvPr/>
        </p:nvSpPr>
        <p:spPr>
          <a:xfrm>
            <a:off x="5448240" y="1628640"/>
            <a:ext cx="2519280" cy="1295640"/>
          </a:xfrm>
          <a:prstGeom prst="wedgeRoundRectCallout">
            <a:avLst>
              <a:gd name="adj1" fmla="val -83041"/>
              <a:gd name="adj2" fmla="val 71560"/>
              <a:gd name="adj3" fmla="val 16667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f soms omdat hun gezicht ze niet aanstaat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Tekstvak 9"/>
          <p:cNvSpPr/>
          <p:nvPr/>
        </p:nvSpPr>
        <p:spPr>
          <a:xfrm>
            <a:off x="6504120" y="5956200"/>
            <a:ext cx="1655640" cy="368280"/>
          </a:xfrm>
          <a:prstGeom prst="rect">
            <a:avLst/>
          </a:prstGeom>
          <a:solidFill>
            <a:srgbClr val="92d050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ideo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3" name="Picture 2" descr="http://www.judygruen.com/images/uploads/angry_old_lady_iStock_000012793912XSm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35160" y="2243160"/>
            <a:ext cx="3079800" cy="4614840"/>
          </a:xfrm>
          <a:prstGeom prst="rect">
            <a:avLst/>
          </a:prstGeom>
          <a:ln w="0">
            <a:noFill/>
          </a:ln>
        </p:spPr>
      </p:pic>
      <p:sp>
        <p:nvSpPr>
          <p:cNvPr id="234" name="Toelichting met afgeronde rechthoek 10"/>
          <p:cNvSpPr/>
          <p:nvPr/>
        </p:nvSpPr>
        <p:spPr>
          <a:xfrm>
            <a:off x="914400" y="476280"/>
            <a:ext cx="3156120" cy="720720"/>
          </a:xfrm>
          <a:prstGeom prst="wedgeRoundRectCallout">
            <a:avLst>
              <a:gd name="adj1" fmla="val 26777"/>
              <a:gd name="adj2" fmla="val 263347"/>
              <a:gd name="adj3" fmla="val 16667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Soms haten mensen elkaar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De strijd tussen haat en lief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838080" y="1825200"/>
            <a:ext cx="70185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ommige mensen haten anderen als die een andere huidskleur, geloof of seksuele geaardheid heef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In de 20</a:t>
            </a:r>
            <a:r>
              <a:rPr b="0" lang="nl-NL" sz="1800" spc="-1" strike="noStrike" baseline="30000">
                <a:solidFill>
                  <a:srgbClr val="404040"/>
                </a:solidFill>
                <a:latin typeface="Trebuchet MS"/>
              </a:rPr>
              <a:t>e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eeuw was deze haat heel sterk, vooral onder Adolf Hitl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Hoe moesten gewone mensen ermee omgaan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7" name="Afbeelding 3" descr=""/>
          <p:cNvPicPr/>
          <p:nvPr/>
        </p:nvPicPr>
        <p:blipFill>
          <a:blip r:embed="rId1"/>
          <a:stretch/>
        </p:blipFill>
        <p:spPr>
          <a:xfrm>
            <a:off x="7997760" y="0"/>
            <a:ext cx="4194360" cy="68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kstvak 1"/>
          <p:cNvSpPr/>
          <p:nvPr/>
        </p:nvSpPr>
        <p:spPr>
          <a:xfrm>
            <a:off x="1523880" y="0"/>
            <a:ext cx="9144000" cy="398880"/>
          </a:xfrm>
          <a:prstGeom prst="rect">
            <a:avLst/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Diversiteit en de rechten van de arme mense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Picture 2" descr="http://2.bp.blogspot.com/_osrVjnPbdEM/SC6zkmszPfI/AAAAAAAABKI/DvBJOtthv8g/s400/Funny+Grandma+12.jpg"/>
          <p:cNvPicPr/>
          <p:nvPr/>
        </p:nvPicPr>
        <p:blipFill>
          <a:blip r:embed="rId1"/>
          <a:srcRect l="3326" t="23671" r="1663" b="1795"/>
          <a:stretch/>
        </p:blipFill>
        <p:spPr>
          <a:xfrm>
            <a:off x="2279520" y="2033640"/>
            <a:ext cx="4103640" cy="4824360"/>
          </a:xfrm>
          <a:prstGeom prst="rect">
            <a:avLst/>
          </a:prstGeom>
          <a:ln w="0">
            <a:noFill/>
          </a:ln>
        </p:spPr>
      </p:pic>
      <p:sp>
        <p:nvSpPr>
          <p:cNvPr id="240" name="Toelichting met afgeronde rechthoek 3"/>
          <p:cNvSpPr/>
          <p:nvPr/>
        </p:nvSpPr>
        <p:spPr>
          <a:xfrm>
            <a:off x="5842080" y="687240"/>
            <a:ext cx="3600360" cy="1346400"/>
          </a:xfrm>
          <a:prstGeom prst="wedgeRoundRectCallout">
            <a:avLst>
              <a:gd name="adj1" fmla="val -59296"/>
              <a:gd name="adj2" fmla="val 128171"/>
              <a:gd name="adj3" fmla="val 16667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oeder Theresa was geheel anders. Ze is niet bepaald mijn type. Ze hielp de arme mensen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Toelichting met afgeronde rechthoek 4"/>
          <p:cNvSpPr/>
          <p:nvPr/>
        </p:nvSpPr>
        <p:spPr>
          <a:xfrm>
            <a:off x="6608880" y="3475080"/>
            <a:ext cx="3384360" cy="647640"/>
          </a:xfrm>
          <a:prstGeom prst="wedgeRoundRectCallout">
            <a:avLst>
              <a:gd name="adj1" fmla="val -85453"/>
              <a:gd name="adj2" fmla="val 8611"/>
              <a:gd name="adj3" fmla="val 16667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denk er liever niet over na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Toelichting met afgeronde rechthoek 5"/>
          <p:cNvSpPr/>
          <p:nvPr/>
        </p:nvSpPr>
        <p:spPr>
          <a:xfrm>
            <a:off x="7104240" y="4941720"/>
            <a:ext cx="2889000" cy="711360"/>
          </a:xfrm>
          <a:prstGeom prst="wedgeRoundRectCallout">
            <a:avLst>
              <a:gd name="adj1" fmla="val -105546"/>
              <a:gd name="adj2" fmla="val -133199"/>
              <a:gd name="adj3" fmla="val 16667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Waar blijf je nou met je aansteker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Rechthoek 6"/>
          <p:cNvSpPr/>
          <p:nvPr/>
        </p:nvSpPr>
        <p:spPr>
          <a:xfrm>
            <a:off x="387360" y="1147680"/>
            <a:ext cx="955800" cy="425520"/>
          </a:xfrm>
          <a:prstGeom prst="rect">
            <a:avLst/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rebuchet MS"/>
              </a:rPr>
              <a:t>video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Moeder Theresa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77880" y="2160360"/>
            <a:ext cx="37130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Je kunt nog een stap verder gaan: mensen helpen die door niemand gewenst zij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at deed Moeder Theresa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Niet vreemd dat ze er de Nobelprijs voor kree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6" name="Afbeelding 3" descr=""/>
          <p:cNvPicPr/>
          <p:nvPr/>
        </p:nvPicPr>
        <p:blipFill>
          <a:blip r:embed="rId1"/>
          <a:stretch/>
        </p:blipFill>
        <p:spPr>
          <a:xfrm>
            <a:off x="4237200" y="1468440"/>
            <a:ext cx="795492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7-04T08:47:41Z</dcterms:created>
  <dc:creator>Adela van Stiphout</dc:creator>
  <dc:description/>
  <dc:language>en-US</dc:language>
  <cp:lastModifiedBy>Adela van Stiphout</cp:lastModifiedBy>
  <dcterms:modified xsi:type="dcterms:W3CDTF">2020-01-30T17:34:31Z</dcterms:modified>
  <cp:revision>12</cp:revision>
  <dc:subject/>
  <dc:title>Gelijk maar toch verschillend</dc:title>
</cp:coreProperties>
</file>