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D502-1A41-4964-81C5-B91E4D020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7AB-8543-4D3C-9ADC-BA78DB797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E695-7B4B-4ADD-87E7-C7B7B4F00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1735-D402-446E-A134-E0E979588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6AF93-34AE-452B-802D-EA9F998E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03FC-001E-47D8-9A76-7EB44864C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AAE97-6254-4F31-BD28-AD4A37D5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124B4-4E42-443D-A9BB-C4EAACEDB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7C5DE-BFEF-42FC-8A15-2CC81EF9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67CE-E31A-4A40-974A-A44E4994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4FFD3-78CE-41A7-9C40-DFFB7FFF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C8A8-2907-4335-BF85-10D3EC9B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C24E9-BD7E-480B-97AA-899232D4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893C5-7431-4513-BBE0-F70C0AB01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F87B-EBD0-49C1-A1FD-5B84EE51D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49029-6E33-4A3D-B651-8C684B6C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1E25D-F944-48EE-9AC5-34EE0CB6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99EE6-EFBA-40EA-9963-CD07BCA2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A753A-C115-47E9-BC10-CA982CA52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CB9F-B4D5-4476-A743-51F65061D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8C905-4A07-452C-9538-99917F60F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9AB4D-3C1A-44EA-85E9-671EA162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5729-91D0-4772-8C98-B86EE1274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C38A-A629-40E2-81CD-EA3792044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08A287-0CCA-495D-BDA2-5DB3CD26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975E2-F055-4FC9-BCBE-8FC754FC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A4845-BC8E-4984-A7BF-59457DFC8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BC9B4-794F-4FB3-8CB3-3F8442D75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2109D-100D-4CD3-944A-83363AF0A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76E2A1-1BAD-4F6D-8830-8A900261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4907E-AE3D-4D0F-8654-1FC7EC56C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1483B-3F9C-42ED-8EB9-25CD3C78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6250D-74AB-4B0F-91E3-7F66DD52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26C7-E8BD-479E-8095-37231F93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B25888-8A70-4DEC-9778-4E545F08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CFDB0-E36F-4615-BD9D-5868B997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8357E-B3A0-45A2-963D-8B20B2EA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88703-450C-4266-BE8D-64465CF2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DBD02-4CBF-4EB0-B466-4F0CFF10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98CAC-5A51-463E-AAE3-E6922197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C55D72-9CFF-4899-92F2-2F29DE97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41F52-5A92-451F-8045-BBF2DFED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621D4-E3F9-49D9-81CF-8577B1FF0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F35C-EF08-44F9-92B5-3AF6898D5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7A9-EA68-4427-A0E4-060842F7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B7F-7E2C-460E-9246-F969F1AF9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99ED-A928-4AD9-A542-44B598ED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7491-ACF9-4B7B-94A4-5159CA1A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8EA9-12CD-45A3-8E7A-8E7DE008E758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360" y="-7920"/>
            <a:ext cx="12192480" cy="6865920"/>
            <a:chOff x="-360" y="-7920"/>
            <a:chExt cx="1219248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-360"/>
              <a:ext cx="842760" cy="566604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BAE9-56BA-4FAF-AABC-F09B618F65A4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4B16-EF21-4191-9D19-9352A7623CBE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B1A1-9EFA-460E-ABAF-8102B5779C58}" type="slidenum">
              <a:rPr b="0" lang="de-DE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Bn_vpDZaRwCZgM&amp;tbnid=zwK_KWvzce9rNM:&amp;ved=0CAUQjRw&amp;url=http://smallbusiness.chron.com/deal-teasing-work-10271.html&amp;ei=qjCiUaCUAorB0QXtg4HIDg&amp;bvm=bv.47008514,d.d2k&amp;psig=AFQjCNGVcnjTQ-Eb8ndQdgiRkyK108yDvg&amp;ust=1369670182268935" TargetMode="External"/><Relationship Id="rId2" Type="http://schemas.openxmlformats.org/officeDocument/2006/relationships/image" Target="../media/image2.png"/><Relationship Id="rId3" Type="http://schemas.openxmlformats.org/officeDocument/2006/relationships/hyperlink" Target="https://www.youtube.com/watch?v=VDnBJzlbUl0&amp;list=PLi_srCikhtghrNa6Ti1d4aSyPQzQ3JI63&amp;index=45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n4l4nxTG_nwMrM&amp;tbnid=novWnmP3GckzKM:&amp;ved=0CAUQjRw&amp;url=http://www.judygruen.com/index.php/offmynoodle/comments/bad_gifts_and_the_women_who_regift_them&amp;ei=GBGiUdaDEuOd0AWm1oCIDg&amp;psig=AFQjCNGyhcpT-pUKSUl1taDKugh47ofS_g&amp;ust=1369662089661955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506600" y="2404800"/>
            <a:ext cx="682632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90c226"/>
                </a:solidFill>
                <a:latin typeface="Trebuchet MS"/>
              </a:rPr>
              <a:t>Gelijk maar toch verschillend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600" y="4051080"/>
            <a:ext cx="682632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7f7f7f"/>
                </a:solidFill>
                <a:latin typeface="Trebuchet MS"/>
              </a:rPr>
              <a:t>De strijd tussen haat en lief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rechten van de mens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837720" y="1825200"/>
            <a:ext cx="3900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 de Tweede wereldoorlog: geen racisme me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erpen van het idee van Hitler: rassen zijn verschillend en krijgen geen gelijke kan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e zijn gelijk, maar toch verschillend. Hoe kan dat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6" name="Afbeelding 3" descr=""/>
          <p:cNvPicPr/>
          <p:nvPr/>
        </p:nvPicPr>
        <p:blipFill>
          <a:blip r:embed="rId1"/>
          <a:stretch/>
        </p:blipFill>
        <p:spPr>
          <a:xfrm>
            <a:off x="4919760" y="1274760"/>
            <a:ext cx="7272360" cy="567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kstvak 10"/>
          <p:cNvSpPr/>
          <p:nvPr/>
        </p:nvSpPr>
        <p:spPr>
          <a:xfrm>
            <a:off x="911160" y="5234040"/>
            <a:ext cx="16574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8" name="Picture 2" descr="http://smallbusiness.chron.com/DM-Resize/photos.demandstudios.com/getty/article/175/20/rbc3_10.jpg?w=600&amp;h=600&amp;keep_ratio=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3520" y="333360"/>
            <a:ext cx="5634000" cy="6524640"/>
          </a:xfrm>
          <a:prstGeom prst="rect">
            <a:avLst/>
          </a:prstGeom>
          <a:ln w="0">
            <a:noFill/>
          </a:ln>
        </p:spPr>
      </p:pic>
      <p:sp>
        <p:nvSpPr>
          <p:cNvPr id="219" name="Toelichting met afgeronde rechthoek 11"/>
          <p:cNvSpPr/>
          <p:nvPr/>
        </p:nvSpPr>
        <p:spPr>
          <a:xfrm>
            <a:off x="216000" y="115920"/>
            <a:ext cx="4464000" cy="720720"/>
          </a:xfrm>
          <a:prstGeom prst="wedgeRoundRectCallout">
            <a:avLst>
              <a:gd name="adj1" fmla="val 78615"/>
              <a:gd name="adj2" fmla="val 71226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e zijn allemaal verschillend. Begrijp dat nou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Toelichting met afgeronde rechthoek 12"/>
          <p:cNvSpPr/>
          <p:nvPr/>
        </p:nvSpPr>
        <p:spPr>
          <a:xfrm>
            <a:off x="8493120" y="135000"/>
            <a:ext cx="2516040" cy="836640"/>
          </a:xfrm>
          <a:prstGeom prst="wedgeRoundRectCallout">
            <a:avLst>
              <a:gd name="adj1" fmla="val -58828"/>
              <a:gd name="adj2" fmla="val 10538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kt de huidskleur iets uit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Toelichting met afgeronde rechthoek 13"/>
          <p:cNvSpPr/>
          <p:nvPr/>
        </p:nvSpPr>
        <p:spPr>
          <a:xfrm>
            <a:off x="1631880" y="2766960"/>
            <a:ext cx="2570400" cy="720720"/>
          </a:xfrm>
          <a:prstGeom prst="wedgeRoundRectCallout">
            <a:avLst>
              <a:gd name="adj1" fmla="val 86949"/>
              <a:gd name="adj2" fmla="val -71768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lang ze doen wat ik zeg niet natuurlijk!!!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oelichting met afgeronde rechthoek 14"/>
          <p:cNvSpPr/>
          <p:nvPr/>
        </p:nvSpPr>
        <p:spPr>
          <a:xfrm>
            <a:off x="9010800" y="3127320"/>
            <a:ext cx="2124000" cy="1295280"/>
          </a:xfrm>
          <a:prstGeom prst="wedgeRoundRectCallout">
            <a:avLst>
              <a:gd name="adj1" fmla="val -66583"/>
              <a:gd name="adj2" fmla="val -66203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eens naar het verhaal van </a:t>
            </a:r>
            <a:r>
              <a:rPr b="0" lang="nl-NL" sz="1800" spc="-1" strike="noStrike" u="sng">
                <a:solidFill>
                  <a:srgbClr val="99ca3c"/>
                </a:solidFill>
                <a:uFillTx/>
                <a:latin typeface="Arial"/>
                <a:ea typeface="Arial"/>
                <a:hlinkClick r:id="rId3"/>
              </a:rPr>
              <a:t>Martin Luther King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artin Luther King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cisme is moeilijk uit te ban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 wereldgeschiedenis is er vol van: slavernij is van alle tijden en komt uit alle delen van de wer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t gevaar voor eigen leven streed Martin Luther King erte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el bijzonder: hij gebruikte geen gewel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Afbeelding 3" descr=""/>
          <p:cNvPicPr/>
          <p:nvPr/>
        </p:nvPicPr>
        <p:blipFill>
          <a:blip r:embed="rId1"/>
          <a:stretch/>
        </p:blipFill>
        <p:spPr>
          <a:xfrm>
            <a:off x="6194520" y="0"/>
            <a:ext cx="599760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John Lock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37720" y="1825200"/>
            <a:ext cx="5356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nsen zijn als gelijke gebo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abula rasa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rijheid van geloo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Onafhankelijkheidsverklaring 1776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hristen en grondlegger liberalis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Afbeelding 1" descr=""/>
          <p:cNvPicPr/>
          <p:nvPr/>
        </p:nvPicPr>
        <p:blipFill>
          <a:blip r:embed="rId1"/>
          <a:stretch/>
        </p:blipFill>
        <p:spPr>
          <a:xfrm>
            <a:off x="6261120" y="-25560"/>
            <a:ext cx="5931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oelichting met afgeronde rechthoek 4"/>
          <p:cNvSpPr/>
          <p:nvPr/>
        </p:nvSpPr>
        <p:spPr>
          <a:xfrm>
            <a:off x="4224240" y="404640"/>
            <a:ext cx="2279880" cy="1016280"/>
          </a:xfrm>
          <a:prstGeom prst="wedgeRoundRectCallout">
            <a:avLst>
              <a:gd name="adj1" fmla="val -58407"/>
              <a:gd name="adj2" fmla="val 19483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Gewoon omdat ze elkaar verkeerd begrijp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0" name="Toelichting met afgeronde rechthoek 7"/>
          <p:cNvSpPr/>
          <p:nvPr/>
        </p:nvSpPr>
        <p:spPr>
          <a:xfrm>
            <a:off x="6024600" y="3068640"/>
            <a:ext cx="3392280" cy="1440000"/>
          </a:xfrm>
          <a:prstGeom prst="wedgeRoundRectCallout">
            <a:avLst>
              <a:gd name="adj1" fmla="val -93587"/>
              <a:gd name="adj2" fmla="val 1002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vinden ze zichzelf geweldig en moet iedereen maar begrijpen wat ze will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oelichting met afgeronde rechthoek 8"/>
          <p:cNvSpPr/>
          <p:nvPr/>
        </p:nvSpPr>
        <p:spPr>
          <a:xfrm>
            <a:off x="5448240" y="1628640"/>
            <a:ext cx="2519280" cy="1295640"/>
          </a:xfrm>
          <a:prstGeom prst="wedgeRoundRectCallout">
            <a:avLst>
              <a:gd name="adj1" fmla="val -83041"/>
              <a:gd name="adj2" fmla="val 71560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f soms omdat hun gezicht ze niet aanstaat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Tekstvak 9"/>
          <p:cNvSpPr/>
          <p:nvPr/>
        </p:nvSpPr>
        <p:spPr>
          <a:xfrm>
            <a:off x="6504120" y="5956200"/>
            <a:ext cx="1655640" cy="368280"/>
          </a:xfrm>
          <a:prstGeom prst="rect">
            <a:avLst/>
          </a:prstGeom>
          <a:solidFill>
            <a:srgbClr val="92d050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http://www.judygruen.com/images/uploads/angry_old_lady_iStock_000012793912XSmall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35160" y="2243160"/>
            <a:ext cx="3079800" cy="4614840"/>
          </a:xfrm>
          <a:prstGeom prst="rect">
            <a:avLst/>
          </a:prstGeom>
          <a:ln w="0">
            <a:noFill/>
          </a:ln>
        </p:spPr>
      </p:pic>
      <p:sp>
        <p:nvSpPr>
          <p:cNvPr id="234" name="Toelichting met afgeronde rechthoek 10"/>
          <p:cNvSpPr/>
          <p:nvPr/>
        </p:nvSpPr>
        <p:spPr>
          <a:xfrm>
            <a:off x="914400" y="476280"/>
            <a:ext cx="3156120" cy="720720"/>
          </a:xfrm>
          <a:prstGeom prst="wedgeRoundRectCallout">
            <a:avLst>
              <a:gd name="adj1" fmla="val 26777"/>
              <a:gd name="adj2" fmla="val 263347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aten mensen elkaa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De strijd tussen haat en lief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38080" y="1825200"/>
            <a:ext cx="70185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mmige mensen haten anderen als die een andere huidskleur, geloof of seksuele geaardheid heef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In de 20</a:t>
            </a:r>
            <a:r>
              <a:rPr b="0" lang="nl-NL" sz="1800" spc="-1" strike="noStrike" baseline="30000">
                <a:solidFill>
                  <a:srgbClr val="404040"/>
                </a:solidFill>
                <a:latin typeface="Trebuchet MS"/>
              </a:rPr>
              <a:t>e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eeuw was deze haat heel sterk, vooral onder Adolf Hitl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e moesten gewone mensen ermee omgaan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7" name="Afbeelding 3" descr=""/>
          <p:cNvPicPr/>
          <p:nvPr/>
        </p:nvPicPr>
        <p:blipFill>
          <a:blip r:embed="rId1"/>
          <a:stretch/>
        </p:blipFill>
        <p:spPr>
          <a:xfrm>
            <a:off x="7997760" y="0"/>
            <a:ext cx="41943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kstvak 1"/>
          <p:cNvSpPr/>
          <p:nvPr/>
        </p:nvSpPr>
        <p:spPr>
          <a:xfrm>
            <a:off x="1523880" y="0"/>
            <a:ext cx="9144000" cy="398880"/>
          </a:xfrm>
          <a:prstGeom prst="rect">
            <a:avLst/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Diversiteit en de rechten van de arme mensen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http://2.bp.blogspot.com/_osrVjnPbdEM/SC6zkmszPfI/AAAAAAAABKI/DvBJOtthv8g/s400/Funny+Grandma+12.jpg"/>
          <p:cNvPicPr/>
          <p:nvPr/>
        </p:nvPicPr>
        <p:blipFill>
          <a:blip r:embed="rId1"/>
          <a:srcRect l="3326" t="23671" r="1663" b="1795"/>
          <a:stretch/>
        </p:blipFill>
        <p:spPr>
          <a:xfrm>
            <a:off x="2279520" y="2033640"/>
            <a:ext cx="4103640" cy="4824360"/>
          </a:xfrm>
          <a:prstGeom prst="rect">
            <a:avLst/>
          </a:prstGeom>
          <a:ln w="0">
            <a:noFill/>
          </a:ln>
        </p:spPr>
      </p:pic>
      <p:sp>
        <p:nvSpPr>
          <p:cNvPr id="240" name="Toelichting met afgeronde rechthoek 3"/>
          <p:cNvSpPr/>
          <p:nvPr/>
        </p:nvSpPr>
        <p:spPr>
          <a:xfrm>
            <a:off x="5842080" y="687240"/>
            <a:ext cx="3600360" cy="1346400"/>
          </a:xfrm>
          <a:prstGeom prst="wedgeRoundRectCallout">
            <a:avLst>
              <a:gd name="adj1" fmla="val -59296"/>
              <a:gd name="adj2" fmla="val 12817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oeder Theresa was geheel anders. Ze is niet bepaald mijn type. Ze hielp de arme mense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Toelichting met afgeronde rechthoek 4"/>
          <p:cNvSpPr/>
          <p:nvPr/>
        </p:nvSpPr>
        <p:spPr>
          <a:xfrm>
            <a:off x="6608880" y="3475080"/>
            <a:ext cx="3384360" cy="647640"/>
          </a:xfrm>
          <a:prstGeom prst="wedgeRoundRectCallout">
            <a:avLst>
              <a:gd name="adj1" fmla="val -85453"/>
              <a:gd name="adj2" fmla="val 8611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denk er liever niet over na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Toelichting met afgeronde rechthoek 5"/>
          <p:cNvSpPr/>
          <p:nvPr/>
        </p:nvSpPr>
        <p:spPr>
          <a:xfrm>
            <a:off x="7104240" y="4941720"/>
            <a:ext cx="2889000" cy="711360"/>
          </a:xfrm>
          <a:prstGeom prst="wedgeRoundRectCallout">
            <a:avLst>
              <a:gd name="adj1" fmla="val -105546"/>
              <a:gd name="adj2" fmla="val -133199"/>
              <a:gd name="adj3" fmla="val 16667"/>
            </a:avLst>
          </a:prstGeom>
          <a:solidFill>
            <a:srgbClr val="ffffff"/>
          </a:solidFill>
          <a:ln cap="rnd"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ar blijf je nou met je aansteker?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Rechthoek 6"/>
          <p:cNvSpPr/>
          <p:nvPr/>
        </p:nvSpPr>
        <p:spPr>
          <a:xfrm>
            <a:off x="387360" y="1147680"/>
            <a:ext cx="955800" cy="425520"/>
          </a:xfrm>
          <a:prstGeom prst="rect">
            <a:avLst/>
          </a:prstGeom>
          <a:solidFill>
            <a:srgbClr val="90c226"/>
          </a:solidFill>
          <a:ln cap="rnd" w="19080">
            <a:solidFill>
              <a:srgbClr val="688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Trebuchet MS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90c226"/>
                </a:solidFill>
                <a:latin typeface="Trebuchet MS"/>
              </a:rPr>
              <a:t>Moeder Theresa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77880" y="2160360"/>
            <a:ext cx="37130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Je kunt nog een stap verder gaan: mensen helpen die door niemand gewenst zij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at deed Moeder Theres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iet vreemd dat ze er de Nobelprijs voor kree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6" name="Afbeelding 3" descr=""/>
          <p:cNvPicPr/>
          <p:nvPr/>
        </p:nvPicPr>
        <p:blipFill>
          <a:blip r:embed="rId1"/>
          <a:stretch/>
        </p:blipFill>
        <p:spPr>
          <a:xfrm>
            <a:off x="4237200" y="1468440"/>
            <a:ext cx="795492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7-04T08:47:41Z</dcterms:created>
  <dc:creator>Adela van Stiphout</dc:creator>
  <dc:description/>
  <dc:language>en-US</dc:language>
  <cp:lastModifiedBy>Adela van Stiphout</cp:lastModifiedBy>
  <dcterms:modified xsi:type="dcterms:W3CDTF">2020-01-30T17:34:31Z</dcterms:modified>
  <cp:revision>12</cp:revision>
  <dc:subject/>
  <dc:title>Gelijk maar toch verschillend</dc:title>
</cp:coreProperties>
</file>