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F1D-1896-48AC-AD35-F3FA9692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525-2AD7-49A3-944D-0BA756C9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FFD-5412-418C-B99F-A5B84F60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BF5-31D5-44CE-8BA8-C42F8821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909-85B4-4B3D-8368-7CB371E8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EE8-D477-47E4-8902-A60B9C6A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E29-24A0-4055-A074-1CF613FA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565-740F-4DCC-93C1-DC277F8E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7C2-9C36-4B1D-827E-92AB9704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548-6681-452D-80A9-260DF0D7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22C-884C-42C1-ACF3-1B8B28F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02D-1BCE-466F-A533-EC8DA304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7E21-C0FA-4011-871E-4964939D23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3"/>
          <p:cNvSpPr/>
          <p:nvPr/>
        </p:nvSpPr>
        <p:spPr>
          <a:xfrm>
            <a:off x="0" y="48769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oolbox graafcampag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3048120" y="533520"/>
            <a:ext cx="294300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0" y="16765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kunnen gevolgen van graafschade zij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onlijk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eiligheid en gezondheid machi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 scha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an kabels en leidingen: van krassen tot br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olgschade door onderbreking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ensen, maatschappij, economie, milieu / omgeving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0" y="9144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gedruk transportgasleiding van Gasunie heeft 8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k: gevolg is dat de machine letterlijk de lucht in vli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bran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2005: in Zuidbroek langs Winschoter Diep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leiding van Essent van 8 bar kapot bij dam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laan. Machinist gewond en graafmachine volle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itgebr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li 2004: in Ghislenghein in België hogedruk gas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 dertig dodelijke slachtoffers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3"/>
          <p:cNvSpPr/>
          <p:nvPr/>
        </p:nvSpPr>
        <p:spPr>
          <a:xfrm>
            <a:off x="0" y="160020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veel is de schade in euro’s als gevolg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schade, voor bijvoorbeeld personenbedrijven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kels, spoorweg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3"/>
          <p:cNvSpPr/>
          <p:nvPr/>
        </p:nvSpPr>
        <p:spPr>
          <a:xfrm>
            <a:off x="0" y="10666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4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beken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orbeelden van ‘gevolgschade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rieskist met etenswaren ontdo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rein staat stil op 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Bedrijf zonder 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ijk zond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tad 24 uur zonder stroom (gevolg: geboortego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0" y="91440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zin zelf een aantal voorbeelden van gevolgen va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derbreking van stroom, gas, water, telefoon, tv-kabel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"/>
          <p:cNvSpPr/>
          <p:nvPr/>
        </p:nvSpPr>
        <p:spPr>
          <a:xfrm>
            <a:off x="0" y="1295280"/>
            <a:ext cx="9144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ef veil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(lage dr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V-k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iere verbind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ijvoorbeeld tussen kantoorgebouw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"/>
          <p:cNvSpPr/>
          <p:nvPr/>
        </p:nvSpPr>
        <p:spPr>
          <a:xfrm>
            <a:off x="0" y="1295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aarlijk voor machinist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; van lagedruk (1 bar) tot hogedruk (80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iciteit; van huisaansluiting (220 V) tot 1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ndstof (olie/kerosine/naf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3"/>
          <p:cNvSpPr/>
          <p:nvPr/>
        </p:nvSpPr>
        <p:spPr>
          <a:xfrm>
            <a:off x="-228600" y="685800"/>
            <a:ext cx="9372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kmanschap, opleiding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rgvuldig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/ opzicht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ed samenspel b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zichter / uitvoerd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bestuder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Kloppen ze wel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Hoofd)aannemer/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werk melden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3"/>
          <p:cNvSpPr/>
          <p:nvPr/>
        </p:nvSpPr>
        <p:spPr>
          <a:xfrm>
            <a:off x="-457200" y="685800"/>
            <a:ext cx="93726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LIC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graafplek opvr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kabel- en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bel- leidingbeheerders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afdrukken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s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drachtgev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et bij opdracht verstrekk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ngeven dat er bij graafwer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kening met kabels en leidin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t ge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41936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94804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kabel- en leidingschade en wat doet KL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175248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ar staan de letters KLIC v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Klachten Inzake Code-deel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Kabel- en Leiding Informatie Commis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6668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5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"/>
          <p:cNvSpPr/>
          <p:nvPr/>
        </p:nvSpPr>
        <p:spPr>
          <a:xfrm>
            <a:off x="0" y="106668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is / doet KL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trekt informatie over ligging kabels en 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pgericht door kabel- en leidingbehee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ijgt de melding van ‘grondroering’ bi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 ‘KLIC-melding’: 135.000 per ja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t de locatie van het graafwerk v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arschuwt vervolgens alle netbeheerders in graafgeb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 terug aan de KLIC-melder welke netbeheerders zij heef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waarschu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organiseert campagn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'Graafschade voorkomen we samen'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0" y="160020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nneer moet je de KLIC-melding do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alle werkzaamheden in 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diep maakt daarbij niet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gaat niet alleen om graafwerkzaamheden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Deelnemers laten discussiëren ov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neer een KLIC-melding nodig is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0" y="990720"/>
            <a:ext cx="9144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 KLIC-melding gaat niet alleen om graafwerkzaamhede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en’ als verzamelwoord (ook)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pplo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gg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in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 van b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atsen van verkeersb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raven vuil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kken z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fdekken van kuilh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nnen én buiten de bebouwde k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3"/>
          <p:cNvSpPr/>
          <p:nvPr/>
        </p:nvSpPr>
        <p:spPr>
          <a:xfrm>
            <a:off x="0" y="11430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oet je doen na ontvangst van bevestiging van de KLIC-meld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er of alle netbeheerders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arten of informatie hebben verstr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breekt er informatie, neem dan contact op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netbeheerder (niet met KLIC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en reactie van een netbeheerder?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er dan NIET van uit dat er niets li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d foute telefoonnummers of namen v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personen bij netbeheerders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2971800" y="914400"/>
            <a:ext cx="2943360" cy="4267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campagnelogo met de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-380880" y="990720"/>
            <a:ext cx="9296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ezo 'Graafschade voorkomen we samen'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elijke campag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gezet door ‘campagnepartner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etbeheerders, KLIC, CUMELA Nederl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Zwarte Corps, 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 meer schadevr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betere samenwerking alle spelers graafk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werken volgens ‘Graafcod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el publiciteit over schadevrij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er begrip voor vakwerk machin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7848720" y="4495680"/>
            <a:ext cx="1100160" cy="1595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De Graafcode"/>
          <p:cNvPicPr/>
          <p:nvPr/>
        </p:nvPicPr>
        <p:blipFill>
          <a:blip r:embed="rId3"/>
          <a:stretch/>
        </p:blipFill>
        <p:spPr>
          <a:xfrm>
            <a:off x="2666880" y="1295280"/>
            <a:ext cx="4065840" cy="4535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668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graaf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5"/>
          <p:cNvSpPr/>
          <p:nvPr/>
        </p:nvSpPr>
        <p:spPr>
          <a:xfrm>
            <a:off x="762120" y="2819520"/>
            <a:ext cx="79246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Kort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aven is een leuk en mooi v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wel een hoop gedoe tegenwoordig.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-152280" y="0"/>
            <a:ext cx="9296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29480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aak je als machinist / graver zoal me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groepsgesprek]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"/>
          <p:cNvSpPr/>
          <p:nvPr/>
        </p:nvSpPr>
        <p:spPr>
          <a:xfrm>
            <a:off x="0" y="34290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Einde 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ar module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, (hoofd)aannemer en opdrachtgever &gt;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de totale lengte van alle kabels en leid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de Nederlandse gro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17,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144792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1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 vergelijk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t is bijna 45 keer de aarde r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 jouw auto 25 duizend km per jaar rijdt,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 je zeventig jaar over 1,75 miljoen k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aak per dag wordt machinaal de grond geroe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emiddeld in Neder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6668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x per d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 zijn meer dan 15.000 graafmachines i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erland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0" y="167652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eel kabel- en leidingschadegevallen gebeuren 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middeld per werkdag?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200 k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44792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x 200 werkdagen = 40.000 schadegevallen per 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ke graafschade kost gemiddeld € 1.000,- 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recte schade aan de kabel of 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schadegevallen per dag x € 1.000,- per ke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€ 200.000 per da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10:12Z</dcterms:created>
  <dc:creator>van Nimwegen &amp; Partners</dc:creator>
  <dc:description/>
  <dc:language>en-US</dc:language>
  <cp:lastModifiedBy>Stephan de Wit</cp:lastModifiedBy>
  <dcterms:modified xsi:type="dcterms:W3CDTF">2019-09-17T09:39:43Z</dcterms:modified>
  <cp:revision>35</cp:revision>
  <dc:subject/>
  <dc:title>PowerPoint-presentatie</dc:title>
</cp:coreProperties>
</file>