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9.png" ContentType="image/png"/>
  <Override PartName="/ppt/media/image5.png" ContentType="image/pn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4FD8-6FF3-40EC-A5E7-13D4643D0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6B52-31FF-4D91-A732-ED6B4BB5A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E1A8-B604-4EB8-94D9-13400482F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1899-5C02-42E9-BE54-FCB643911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71194-467E-43B9-9304-3A82F600F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EBA48-8356-47DE-A9DA-6A466B960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35174-0882-4502-9D55-604C3DEFB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36D29-F8B5-46FD-9159-EBE953497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DA006-D4AB-4D85-B78D-DAC2DFD1D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ED95B-1378-4D0F-8D84-2066C407F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74BE5-CF82-41D1-A468-E73E2CCF0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9D89-AAC8-448F-975C-E71999C0C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F85DA-F51D-4411-A062-96C1537DD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475B0-BD77-44B3-8ED5-A022E528A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FE539-1647-4146-B41E-8326D201A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520E6-7CF9-4157-9243-A823EAA61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DD89A-2BBA-4F6C-90BC-32E1DDE02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9602C-69FA-4A6E-B228-63874CEAA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97E76-24E1-423A-B876-97BFFC49C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8CAB9-D6F7-4DC9-9BE0-497D64DCE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A6A37-3235-425A-B53C-8DEBB8FC8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0757E-A05B-4217-8D30-CAA29BCA5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EE55-4A44-43B3-A0F2-0C22E3854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CD190-5AFE-4BF7-869D-3C52BA6BD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6E306-FE93-4533-9D65-EB2D8CBFF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5243B-6EAC-4AB9-A8D3-B4411F41C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67E7B-FC75-43B1-939F-371B33AC2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7314B-40C9-42F6-8BC2-B5D79BF19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C61F1-DC7D-4F68-AD1D-5A512CD2E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52CBE-50ED-461D-AD26-AADCFD7B9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4CD4C-6BE0-4F2C-87F3-3A5815BCC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192B7-2A74-4E66-A3EE-945CBBE89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1AA38-0A56-4F02-8CFC-16BF6A93F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CD90-B5FC-4D49-A1A9-3C16EF0BD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948C1-3EFD-43D9-BD3F-1D4C37301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84EE5-A438-41F2-952D-C29B54CBB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7C69CB-5210-49DD-B1BC-ECC72B4C5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8871B-A83F-4951-AE3E-83FF3AA41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67645-0483-496D-89A2-ECCA632EF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9F527-A9D4-441B-B118-3E3F76378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80FE4-CD3A-4987-AD35-487000B56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5E78F-C729-4AFC-907F-0C57C9913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F607D-07AF-4493-AC97-573954DBF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527E-FC82-4B43-8448-1ECC98C2C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C324-45BD-4A64-B7FC-E0EF527B1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B811-1AB9-444C-A1FC-DCC268EA9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CDF0-95CC-4E98-83CD-A08DCB331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24C6-1ED0-445A-9504-2CE64D54C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7DA4B-CBCA-4953-9EB4-2216E65149F7}" type="slidenum"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11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2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56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FB6B3-428C-4BC1-A130-8AC52B90A28A}" type="slidenum"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106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Gill San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77C59-923A-4016-84F1-2F00D2BA9052}" type="slidenum"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hthoek met één afgeknipte en afgeronde hoek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Rechthoekige driehoek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Vrije v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Vrije v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10C59-EE1D-4B8B-91A7-F7A29D85139C}" type="slidenum"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el 1" descr=""/>
          <p:cNvPicPr/>
          <p:nvPr/>
        </p:nvPicPr>
        <p:blipFill>
          <a:blip r:embed="rId1"/>
          <a:stretch/>
        </p:blipFill>
        <p:spPr>
          <a:xfrm>
            <a:off x="0" y="401760"/>
            <a:ext cx="7223040" cy="19699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394920" y="4365720"/>
            <a:ext cx="2592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6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197" name="Afbeelding 4" descr="fokke en sukke diarree.jpg"/>
          <p:cNvPicPr/>
          <p:nvPr/>
        </p:nvPicPr>
        <p:blipFill>
          <a:blip r:embed="rId2"/>
          <a:stretch/>
        </p:blipFill>
        <p:spPr>
          <a:xfrm>
            <a:off x="4500720" y="2060640"/>
            <a:ext cx="385416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cties bij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orkomen beter dan genez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ak kleine beetjes dan heel glas in een kee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anvullen bij tekort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ouillo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RS (oral rehydration salts) bij braken/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5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0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0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5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Plaatsen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Enke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uik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on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oms o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0" name="Afbeelding 3" descr="oedeem 2.jpg"/>
          <p:cNvPicPr/>
          <p:nvPr/>
        </p:nvPicPr>
        <p:blipFill>
          <a:blip r:embed="rId1"/>
          <a:stretch/>
        </p:blipFill>
        <p:spPr>
          <a:xfrm>
            <a:off x="3995640" y="2317680"/>
            <a:ext cx="463860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ndere oorzaak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ymfe-oedeem (ledemaat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bruik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rednis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(hele lichaam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3" name="Afbeelding 4" descr="oedeem.jpg"/>
          <p:cNvPicPr/>
          <p:nvPr/>
        </p:nvPicPr>
        <p:blipFill>
          <a:blip r:embed="rId1"/>
          <a:stretch/>
        </p:blipFill>
        <p:spPr>
          <a:xfrm>
            <a:off x="3419640" y="2924280"/>
            <a:ext cx="504000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spannen glanzende hui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utje in druk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wichtstoename 1-2 kg in paar da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ortademigheid bij inspanning/ plat lig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dlegerige zv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uwen in huid van stuit en ru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cties bij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1988640"/>
            <a:ext cx="8434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a na wat de oorzaak i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inderen met zout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wegen: stimuleert doorbloeding/spierfuncti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nen hoog als zi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artfalen: 3 x per week wegen (ma, woe, vrij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teunkous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Zwachtel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8" name="Afbeelding 3" descr="wegenschaal.jpg"/>
          <p:cNvPicPr/>
          <p:nvPr/>
        </p:nvPicPr>
        <p:blipFill>
          <a:blip r:embed="rId1"/>
          <a:stretch/>
        </p:blipFill>
        <p:spPr>
          <a:xfrm>
            <a:off x="6732720" y="4724280"/>
            <a:ext cx="192384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2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2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7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32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7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2" dur="5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Functie van zouten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langrijke zouten: natrium, kaliu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Uitscheiden bij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ken/ 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lasmedicatie (diuretica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anvullen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RS, bouillon, medicatie (Kalium tabletten)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31" name="Afbeelding 3" descr="braken.jpg"/>
          <p:cNvPicPr/>
          <p:nvPr/>
        </p:nvPicPr>
        <p:blipFill>
          <a:blip r:embed="rId1"/>
          <a:stretch/>
        </p:blipFill>
        <p:spPr>
          <a:xfrm>
            <a:off x="6875640" y="242100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4" dur="5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7" dur="50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ragen?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pic>
        <p:nvPicPr>
          <p:cNvPr id="233" name="Tijdelijke aanduiding voor inhoud 3" descr="griep1.jpg"/>
          <p:cNvPicPr/>
          <p:nvPr/>
        </p:nvPicPr>
        <p:blipFill>
          <a:blip r:embed="rId1"/>
          <a:stretch/>
        </p:blipFill>
        <p:spPr>
          <a:xfrm>
            <a:off x="2484360" y="2421000"/>
            <a:ext cx="418320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nodig voor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plossen van voedingsstoff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plossen van afvalstoff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tofwisselingsstelsel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etabolisme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intak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ormaal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ink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1000 – 16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Et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800 – 10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brandingsprocess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200 – 4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outpu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ormaal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ieren 1100 – 18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ongen 400 – 5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uid 400 – 5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armen 100 – 2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balans 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 u="sng">
                <a:solidFill>
                  <a:srgbClr val="000000"/>
                </a:solidFill>
                <a:uFillTx/>
                <a:latin typeface="Gill Sans MT"/>
              </a:rPr>
              <a:t>Duur: 24 uur (8 uur tot volgende ochtend 8 uur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egatieve vochtbalans =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cht opname minder dan vocht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volg: uitdroging (dehydratie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ositieve vochtbalans =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cht opname groter dan vocht 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volg: vocht vasthouden (oedeem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1 – 3% vocht tekor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orstgevo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oge mon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iratie en up dal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oofdpij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4 – 6 % vocht tek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usteloo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moeidhei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isselij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oofdpij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nelle/ zwakke po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intelende lichaamsuitein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naf 7 % vocht tek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aaieri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demnoo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age bloeddru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minder zich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uidplooi blijft staa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Up houdt op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iep liggende holle o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naf 15-20% overlij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2" name="Afbeelding 3" descr="vocht 3.jpg"/>
          <p:cNvPicPr/>
          <p:nvPr/>
        </p:nvPicPr>
        <p:blipFill>
          <a:blip r:embed="rId1"/>
          <a:stretch/>
        </p:blipFill>
        <p:spPr>
          <a:xfrm>
            <a:off x="4427640" y="3933720"/>
            <a:ext cx="441144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Oorzak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e weinig drin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itt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oort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loed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irati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edicijn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5" name="Afbeelding 4" descr="vocht 1.bmp"/>
          <p:cNvPicPr/>
          <p:nvPr/>
        </p:nvPicPr>
        <p:blipFill>
          <a:blip r:embed="rId1"/>
          <a:stretch/>
        </p:blipFill>
        <p:spPr>
          <a:xfrm>
            <a:off x="5003640" y="1989000"/>
            <a:ext cx="273708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inda</dc:creator>
  <dc:description/>
  <dc:language>en-US</dc:language>
  <cp:lastModifiedBy>E. Scheltens-Flink</cp:lastModifiedBy>
  <dcterms:modified xsi:type="dcterms:W3CDTF">2015-08-23T14:35:03Z</dcterms:modified>
  <cp:revision>15</cp:revision>
  <dc:subject/>
  <dc:title>Vocht huishouding</dc:title>
</cp:coreProperties>
</file>