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2C1-DFF9-454A-BFF4-52228702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1FD-772E-49C7-A0E2-ED560A1E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BF3-1BC3-47C0-80DC-BAC02114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261-7EDD-4CDC-B014-585F7F3B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E7F-86B0-431C-9FEA-4E8A9177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02BA-1CA1-4785-BCC9-C87A71ED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2C5-797B-47C9-81F5-512C3639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6B7-EDE1-4AA9-B2BA-F23F4BD2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8F2-77CE-442A-BC27-A708A630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B70-7FAA-4C75-A4D4-729FF1D4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CF5-97DB-4A09-A0E7-7709C9CC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F39-360A-476E-9D16-4544C683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6113-AB98-426E-9CC2-CC47F2EF2FA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s://www.youtube.com/watch?v=JBEUm2axME0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11004"/>
              <a:gd name="adj2" fmla="val 227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en mens goed of slech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nk je aan oorlogen? Dan is de mens slec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78750"/>
              <a:gd name="adj2" fmla="val 9518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ook denken aan alle goede dingen die de mensen hebben ged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t is andere koe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3963960"/>
            <a:ext cx="4465440" cy="194328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misschien denken we allemaal niet goed na. En oordelen we te sn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uim 2000 jaar geleden deden de Grieken dat ook 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dra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64500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2556000" y="1965240"/>
            <a:ext cx="252072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627280" cy="2160720"/>
          </a:xfrm>
          <a:prstGeom prst="wedgeRoundRectCallout">
            <a:avLst>
              <a:gd name="adj1" fmla="val 55134"/>
              <a:gd name="adj2" fmla="val 7076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 is Socrates. Hij zei dat hij niets wist, maar hij kon eindeloos door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2413080" cy="800280"/>
          </a:xfrm>
          <a:prstGeom prst="wedgeRoundRectCallout">
            <a:avLst>
              <a:gd name="adj1" fmla="val -122115"/>
              <a:gd name="adj2" fmla="val -152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hoe keken ze tegen Socrates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419040" y="4197240"/>
            <a:ext cx="1719360" cy="927360"/>
          </a:xfrm>
          <a:prstGeom prst="wedgeRoundRectCallout">
            <a:avLst>
              <a:gd name="adj1" fmla="val 83976"/>
              <a:gd name="adj2" fmla="val -20248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oe keek hij tegen de mensen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Socrates en het zoeken naar de waar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8" descr=""/>
          <p:cNvPicPr/>
          <p:nvPr/>
        </p:nvPicPr>
        <p:blipFill>
          <a:blip r:embed="rId4"/>
          <a:stretch/>
        </p:blipFill>
        <p:spPr>
          <a:xfrm>
            <a:off x="5037120" y="0"/>
            <a:ext cx="4121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05264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lgens Plato hebben we oogkleppen op. Net zoals paarden. Dan zien we een heleboel gewoon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Je levensbeschou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2227320"/>
            <a:ext cx="40370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maakt een keu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r waa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uit welk idee maak je die keuz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kijk de video over Epicurus nog eens. Vanuit welk idee handelde hi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Afbeelding 3" descr=""/>
          <p:cNvPicPr/>
          <p:nvPr/>
        </p:nvPicPr>
        <p:blipFill>
          <a:blip r:embed="rId1"/>
          <a:stretch/>
        </p:blipFill>
        <p:spPr>
          <a:xfrm>
            <a:off x="5364000" y="1714680"/>
            <a:ext cx="3864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oelichting met afgeronde rechthoek 8"/>
          <p:cNvSpPr/>
          <p:nvPr/>
        </p:nvSpPr>
        <p:spPr>
          <a:xfrm>
            <a:off x="4514760" y="5950080"/>
            <a:ext cx="43927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2-08T17:23:03Z</dcterms:modified>
  <cp:revision>343</cp:revision>
  <dc:subject/>
  <dc:title>Dia 1</dc:title>
</cp:coreProperties>
</file>