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11B-4319-40D2-B49E-B0492AFD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1FD-C3F4-440D-8B53-6BC227E1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3D1-2A1C-472D-A7A7-2B08A6D4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743-5686-4862-9991-6AF13D03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24F-CAD9-447C-8C0D-EDD16DE7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BD4-B412-444F-96F8-43475764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3D2-6DF1-4785-AC6A-FB0EB870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46C-0802-430C-A9DB-2F4D12C4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722-A6E0-4CD2-8D35-F9B52897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0E8-43AB-49E4-A276-06E924C5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FB2-A846-4982-9033-EA1DBA4D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9FE-1CDB-4A09-975F-30CA0596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FC96-3311-4891-BD76-1646B0FB715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s://www.youtube.com/watch?v=JBEUm2axME0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11004"/>
              <a:gd name="adj2" fmla="val 227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en mens goed of slech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nk je aan oorlogen? Dan is de mens sle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78750"/>
              <a:gd name="adj2" fmla="val 9518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ook denken aan alle goede dingen die de mensen hebben ged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t is andere ko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3963960"/>
            <a:ext cx="4465440" cy="194328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misschien denken we allemaal niet goed na. En oordelen we te sn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uim 2000 jaar geleden deden de Grieken dat ook 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64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2556000" y="1965240"/>
            <a:ext cx="252072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627280" cy="2160720"/>
          </a:xfrm>
          <a:prstGeom prst="wedgeRoundRectCallout">
            <a:avLst>
              <a:gd name="adj1" fmla="val 55134"/>
              <a:gd name="adj2" fmla="val 70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 is Socrates. Hij zei dat hij niets wist, maar hij kon eindeloos door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2413080" cy="800280"/>
          </a:xfrm>
          <a:prstGeom prst="wedgeRoundRectCallout">
            <a:avLst>
              <a:gd name="adj1" fmla="val -122115"/>
              <a:gd name="adj2" fmla="val -152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hoe keken ze tegen Socrates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419040" y="4197240"/>
            <a:ext cx="1719360" cy="927360"/>
          </a:xfrm>
          <a:prstGeom prst="wedgeRoundRectCallout">
            <a:avLst>
              <a:gd name="adj1" fmla="val 83976"/>
              <a:gd name="adj2" fmla="val -20248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oe keek hij tegen de mensen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ocrates en het zoeken naar de waar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8" descr=""/>
          <p:cNvPicPr/>
          <p:nvPr/>
        </p:nvPicPr>
        <p:blipFill>
          <a:blip r:embed="rId4"/>
          <a:stretch/>
        </p:blipFill>
        <p:spPr>
          <a:xfrm>
            <a:off x="5037120" y="0"/>
            <a:ext cx="4121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05264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lgens Plato hebben we oogkleppen op. Net zoals paarden. Dan zien we een heleboel gewoon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Je levensbeschou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2227320"/>
            <a:ext cx="40370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akt een keu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welk idee maak je die keu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kijk de video over Epicurus nog eens. Vanuit welk idee handelde hi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Afbeelding 3" descr=""/>
          <p:cNvPicPr/>
          <p:nvPr/>
        </p:nvPicPr>
        <p:blipFill>
          <a:blip r:embed="rId1"/>
          <a:stretch/>
        </p:blipFill>
        <p:spPr>
          <a:xfrm>
            <a:off x="5364000" y="1714680"/>
            <a:ext cx="3864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oelichting met afgeronde rechthoek 8"/>
          <p:cNvSpPr/>
          <p:nvPr/>
        </p:nvSpPr>
        <p:spPr>
          <a:xfrm>
            <a:off x="4514760" y="5950080"/>
            <a:ext cx="43927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2-08T17:23:03Z</dcterms:modified>
  <cp:revision>343</cp:revision>
  <dc:subject/>
  <dc:title>Dia 1</dc:title>
</cp:coreProperties>
</file>