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D529-CD39-46C1-BD2E-C0FE37006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93A0-226E-43AE-95B5-CB9A08014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9C5A-4C41-4D2F-B416-358FD9FA0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79F0-878E-491B-8B1B-FD9C432F7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D3C2-56C2-4594-8095-6E1F4AB9C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FAF4-3220-40C6-8F19-895E47055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5A35-28F3-4A19-B575-C59DF5842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E3DA-A4FF-49EC-93CA-B15B0EE7B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69F7-B94C-47FA-BCAB-20D485725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912E-C5A2-4490-88D5-DAC83027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55C8-402E-4A6F-8135-B44B3AFA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61D9-3AE8-46C4-B0F7-8A92B27B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6CCA9-329F-41EC-9682-25A0E2C4FC69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google.nl/url?sa=i&amp;rct=j&amp;q=&amp;esrc=s&amp;frm=1&amp;source=images&amp;cd=&amp;cad=rja&amp;docid=6bmbnCauUZAEGM&amp;tbnid=7hTpWPUKYpSR0M:&amp;ved=0CAUQjRw&amp;url=http://animatiewinkel.crazy4us.com/t87-zodiac-anmaties&amp;ei=yhCiUaqJD4SQ0AWQ94BY&amp;psig=AFQjCNEDGjBJIlwHOfXRGRSGYZxY8df-bA&amp;ust=1369661995591704" TargetMode="Externa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docid=aao6u_gjZRfPJM&amp;tbnid=WmBYVlpDn8LGtM:&amp;ved=0CAUQjRw&amp;url=http://www.alexmandossian.com/2009/04/16/got-affiliate-signup-access-on-your-blog/&amp;ei=Z0FYUYr0EqnE0QWtjYHICA&amp;bvm=bv.44442042,d.d2k&amp;psig=AFQjCNHR3D0gvLArmibrXOD1byha8Vi_aA&amp;ust=1364824795160493" TargetMode="External"/><Relationship Id="rId2" Type="http://schemas.openxmlformats.org/officeDocument/2006/relationships/image" Target="../media/image4.png"/><Relationship Id="rId3" Type="http://schemas.openxmlformats.org/officeDocument/2006/relationships/hyperlink" Target="https://www.youtube.com/watch?v=JBEUm2axME0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fbeelding 3" descr=""/>
          <p:cNvPicPr/>
          <p:nvPr/>
        </p:nvPicPr>
        <p:blipFill>
          <a:blip r:embed="rId1"/>
          <a:stretch/>
        </p:blipFill>
        <p:spPr>
          <a:xfrm>
            <a:off x="4321080" y="-20520"/>
            <a:ext cx="48085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kstvak 2"/>
          <p:cNvSpPr/>
          <p:nvPr/>
        </p:nvSpPr>
        <p:spPr>
          <a:xfrm>
            <a:off x="407880" y="262080"/>
            <a:ext cx="3816360" cy="1922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Je mensbeeld en de invloed op je levensstij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kstvak 5"/>
          <p:cNvSpPr/>
          <p:nvPr/>
        </p:nvSpPr>
        <p:spPr>
          <a:xfrm>
            <a:off x="250920" y="6448320"/>
            <a:ext cx="23032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Burgerscha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kstvak 7"/>
          <p:cNvSpPr/>
          <p:nvPr/>
        </p:nvSpPr>
        <p:spPr>
          <a:xfrm>
            <a:off x="6308640" y="6245280"/>
            <a:ext cx="23036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Altijd goed spe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oelichting met afgeronde rechthoek 8"/>
          <p:cNvSpPr/>
          <p:nvPr/>
        </p:nvSpPr>
        <p:spPr>
          <a:xfrm>
            <a:off x="604800" y="2924280"/>
            <a:ext cx="2427480" cy="2952720"/>
          </a:xfrm>
          <a:prstGeom prst="wedgeRoundRectCallout">
            <a:avLst>
              <a:gd name="adj1" fmla="val 165675"/>
              <a:gd name="adj2" fmla="val -4730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Sorry…. Maar ik wil nou even iets anders dan voetbal…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wil videoclips en een quiz op socrative!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Afbeelding 1" descr=""/>
          <p:cNvPicPr/>
          <p:nvPr/>
        </p:nvPicPr>
        <p:blipFill>
          <a:blip r:embed="rId1"/>
          <a:stretch/>
        </p:blipFill>
        <p:spPr>
          <a:xfrm>
            <a:off x="5500800" y="7920"/>
            <a:ext cx="3624120" cy="2717640"/>
          </a:xfrm>
          <a:prstGeom prst="rect">
            <a:avLst/>
          </a:prstGeom>
          <a:ln w="0">
            <a:noFill/>
          </a:ln>
        </p:spPr>
      </p:pic>
      <p:sp>
        <p:nvSpPr>
          <p:cNvPr id="47" name="Toelichting met afgeronde rechthoek 3"/>
          <p:cNvSpPr/>
          <p:nvPr/>
        </p:nvSpPr>
        <p:spPr>
          <a:xfrm>
            <a:off x="144360" y="136440"/>
            <a:ext cx="1943280" cy="1224000"/>
          </a:xfrm>
          <a:prstGeom prst="wedgeRoundRectCallout">
            <a:avLst>
              <a:gd name="adj1" fmla="val -11004"/>
              <a:gd name="adj2" fmla="val 227087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ensbeelde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s een mens goed of slech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oelichting met afgeronde rechthoek 4"/>
          <p:cNvSpPr/>
          <p:nvPr/>
        </p:nvSpPr>
        <p:spPr>
          <a:xfrm>
            <a:off x="1146240" y="1628640"/>
            <a:ext cx="1625400" cy="1382760"/>
          </a:xfrm>
          <a:prstGeom prst="wedgeRoundRectCallout">
            <a:avLst>
              <a:gd name="adj1" fmla="val -23004"/>
              <a:gd name="adj2" fmla="val 14879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enk je aan oorlogen? Dan is de mens slech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r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oelichting met afgeronde rechthoek 5"/>
          <p:cNvSpPr/>
          <p:nvPr/>
        </p:nvSpPr>
        <p:spPr>
          <a:xfrm>
            <a:off x="2987640" y="1360440"/>
            <a:ext cx="2448000" cy="1852560"/>
          </a:xfrm>
          <a:prstGeom prst="wedgeRoundRectCallout">
            <a:avLst>
              <a:gd name="adj1" fmla="val -78750"/>
              <a:gd name="adj2" fmla="val 9518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Je kunt ook denken aan alle goede dingen die de mensen hebben gedaa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at is andere koek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oelichting met afgeronde rechthoek 7"/>
          <p:cNvSpPr/>
          <p:nvPr/>
        </p:nvSpPr>
        <p:spPr>
          <a:xfrm>
            <a:off x="4427640" y="3963960"/>
            <a:ext cx="4465440" cy="1943280"/>
          </a:xfrm>
          <a:prstGeom prst="wedgeRoundRectCallout">
            <a:avLst>
              <a:gd name="adj1" fmla="val -90787"/>
              <a:gd name="adj2" fmla="val -18564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r misschien denken we allemaal niet goed na. En oordelen we te sne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Ruim 2000 jaar geleden deden de Grieken dat ook a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kstvak 8"/>
          <p:cNvSpPr/>
          <p:nvPr/>
        </p:nvSpPr>
        <p:spPr>
          <a:xfrm>
            <a:off x="7242120" y="2941560"/>
            <a:ext cx="16556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pdrach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i877.photobucket.com/albums/ab333/Punkys_animaties/zodiac/mu9zt3.gif">
            <a:hlinkClick r:id="rId2"/>
          </p:cNvPr>
          <p:cNvPicPr/>
          <p:nvPr/>
        </p:nvPicPr>
        <p:blipFill>
          <a:blip r:embed="rId3"/>
          <a:stretch/>
        </p:blipFill>
        <p:spPr>
          <a:xfrm flipH="1">
            <a:off x="324000" y="3645000"/>
            <a:ext cx="2808000" cy="2808360"/>
          </a:xfrm>
          <a:prstGeom prst="rect">
            <a:avLst/>
          </a:prstGeom>
          <a:ln w="0">
            <a:noFill/>
          </a:ln>
        </p:spPr>
      </p:pic>
      <p:sp>
        <p:nvSpPr>
          <p:cNvPr id="53" name="Toelichting met afgeronde rechthoek 11"/>
          <p:cNvSpPr/>
          <p:nvPr/>
        </p:nvSpPr>
        <p:spPr>
          <a:xfrm>
            <a:off x="3689280" y="117360"/>
            <a:ext cx="1728720" cy="1079640"/>
          </a:xfrm>
          <a:prstGeom prst="wedgeRoundRectCallout">
            <a:avLst>
              <a:gd name="adj1" fmla="val 116898"/>
              <a:gd name="adj2" fmla="val 24004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Hmmm… ik duik liever weer onder water…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http://www.alexmandossian.com/wp-content/uploads/2009/04/alex-point-up1.jpg">
            <a:hlinkClick r:id="rId1"/>
          </p:cNvPr>
          <p:cNvPicPr/>
          <p:nvPr/>
        </p:nvPicPr>
        <p:blipFill>
          <a:blip r:embed="rId2"/>
          <a:srcRect l="0" t="0" r="0" b="9403"/>
          <a:stretch/>
        </p:blipFill>
        <p:spPr>
          <a:xfrm>
            <a:off x="2556000" y="1965240"/>
            <a:ext cx="2520720" cy="4830840"/>
          </a:xfrm>
          <a:prstGeom prst="rect">
            <a:avLst/>
          </a:prstGeom>
          <a:ln w="0">
            <a:noFill/>
          </a:ln>
        </p:spPr>
      </p:pic>
      <p:sp>
        <p:nvSpPr>
          <p:cNvPr id="55" name="Toelichting met afgeronde rechthoek 4"/>
          <p:cNvSpPr/>
          <p:nvPr/>
        </p:nvSpPr>
        <p:spPr>
          <a:xfrm>
            <a:off x="0" y="0"/>
            <a:ext cx="2627280" cy="2160720"/>
          </a:xfrm>
          <a:prstGeom prst="wedgeRoundRectCallout">
            <a:avLst>
              <a:gd name="adj1" fmla="val 55134"/>
              <a:gd name="adj2" fmla="val 70768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aar is Socrates. Hij zei dat hij niets wist, maar hij kon eindeloos doorvrag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oelichting met afgeronde rechthoek 5"/>
          <p:cNvSpPr/>
          <p:nvPr/>
        </p:nvSpPr>
        <p:spPr>
          <a:xfrm>
            <a:off x="5219640" y="3860640"/>
            <a:ext cx="2413080" cy="800280"/>
          </a:xfrm>
          <a:prstGeom prst="wedgeRoundRectCallout">
            <a:avLst>
              <a:gd name="adj1" fmla="val -122115"/>
              <a:gd name="adj2" fmla="val -15224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n hoe keken ze tegen Socrates aa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oelichting met afgeronde rechthoek 6"/>
          <p:cNvSpPr/>
          <p:nvPr/>
        </p:nvSpPr>
        <p:spPr>
          <a:xfrm>
            <a:off x="419040" y="4197240"/>
            <a:ext cx="1719360" cy="927360"/>
          </a:xfrm>
          <a:prstGeom prst="wedgeRoundRectCallout">
            <a:avLst>
              <a:gd name="adj1" fmla="val 83976"/>
              <a:gd name="adj2" fmla="val -20248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oe keek hij tegen de mensen aa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kstvak 7"/>
          <p:cNvSpPr/>
          <p:nvPr/>
        </p:nvSpPr>
        <p:spPr>
          <a:xfrm>
            <a:off x="5940360" y="6119640"/>
            <a:ext cx="30243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ideo: </a:t>
            </a:r>
            <a:r>
              <a:rPr b="0" lang="nl-NL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Socrates en het zoeken naar de waarhe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Afbeelding 8" descr=""/>
          <p:cNvPicPr/>
          <p:nvPr/>
        </p:nvPicPr>
        <p:blipFill>
          <a:blip r:embed="rId4"/>
          <a:stretch/>
        </p:blipFill>
        <p:spPr>
          <a:xfrm>
            <a:off x="5037120" y="0"/>
            <a:ext cx="412128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http://www.alexmandossian.com/wp-content/uploads/2009/04/alex-point-up1.jpg"/>
          <p:cNvPicPr/>
          <p:nvPr/>
        </p:nvPicPr>
        <p:blipFill>
          <a:blip r:embed="rId1"/>
          <a:srcRect l="0" t="0" r="0" b="9403"/>
          <a:stretch/>
        </p:blipFill>
        <p:spPr>
          <a:xfrm>
            <a:off x="4500720" y="1751040"/>
            <a:ext cx="2663640" cy="5106960"/>
          </a:xfrm>
          <a:prstGeom prst="rect">
            <a:avLst/>
          </a:prstGeom>
          <a:ln w="0">
            <a:noFill/>
          </a:ln>
        </p:spPr>
      </p:pic>
      <p:sp>
        <p:nvSpPr>
          <p:cNvPr id="61" name="Toelichting met afgeronde rechthoek 4"/>
          <p:cNvSpPr/>
          <p:nvPr/>
        </p:nvSpPr>
        <p:spPr>
          <a:xfrm>
            <a:off x="3708360" y="0"/>
            <a:ext cx="5184720" cy="1052640"/>
          </a:xfrm>
          <a:prstGeom prst="wedgeRoundRectCallout">
            <a:avLst>
              <a:gd name="adj1" fmla="val -2870"/>
              <a:gd name="adj2" fmla="val 14800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olgens Plato hebben we oogkleppen op. Net zoals paarden. Dan zien we een heleboel gewoon nie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oelichting met afgeronde rechthoek 5"/>
          <p:cNvSpPr/>
          <p:nvPr/>
        </p:nvSpPr>
        <p:spPr>
          <a:xfrm>
            <a:off x="7237440" y="4402080"/>
            <a:ext cx="1728720" cy="1079640"/>
          </a:xfrm>
          <a:prstGeom prst="wedgeRoundRectCallout">
            <a:avLst>
              <a:gd name="adj1" fmla="val -75222"/>
              <a:gd name="adj2" fmla="val -23005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ij maakte een vergelijk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oelichting met afgeronde rechthoek 6"/>
          <p:cNvSpPr/>
          <p:nvPr/>
        </p:nvSpPr>
        <p:spPr>
          <a:xfrm>
            <a:off x="1763640" y="3933720"/>
            <a:ext cx="2664000" cy="2016360"/>
          </a:xfrm>
          <a:prstGeom prst="wedgeRoundRectCallout">
            <a:avLst>
              <a:gd name="adj1" fmla="val 92791"/>
              <a:gd name="adj2" fmla="val -66671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et is alsof we in een grot wonen en daardoor niet goed weten hoe de wereld echt in elkaar zi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n erger: we willen het niet wet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kstvak 7"/>
          <p:cNvSpPr/>
          <p:nvPr/>
        </p:nvSpPr>
        <p:spPr>
          <a:xfrm>
            <a:off x="287280" y="6211800"/>
            <a:ext cx="2952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ideo: Plato en de parabel van de gro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Afbeelding 1" descr=""/>
          <p:cNvPicPr/>
          <p:nvPr/>
        </p:nvPicPr>
        <p:blipFill>
          <a:blip r:embed="rId2"/>
          <a:stretch/>
        </p:blipFill>
        <p:spPr>
          <a:xfrm>
            <a:off x="-34920" y="0"/>
            <a:ext cx="345456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Je levensbeschouw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28560" y="2227320"/>
            <a:ext cx="403704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Je maakt een keuz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aar waaro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anuit welk idee maak je die keuz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kijk de video over Epicurus nog eens. Vanuit welk idee handelde hij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Afbeelding 3" descr=""/>
          <p:cNvPicPr/>
          <p:nvPr/>
        </p:nvPicPr>
        <p:blipFill>
          <a:blip r:embed="rId1"/>
          <a:stretch/>
        </p:blipFill>
        <p:spPr>
          <a:xfrm>
            <a:off x="5364000" y="1714680"/>
            <a:ext cx="386424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Afbeelding 1" descr=""/>
          <p:cNvPicPr/>
          <p:nvPr/>
        </p:nvPicPr>
        <p:blipFill>
          <a:blip r:embed="rId1"/>
          <a:stretch/>
        </p:blipFill>
        <p:spPr>
          <a:xfrm>
            <a:off x="3603600" y="23760"/>
            <a:ext cx="554508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oelichting met afgeronde rechthoek 2"/>
          <p:cNvSpPr/>
          <p:nvPr/>
        </p:nvSpPr>
        <p:spPr>
          <a:xfrm>
            <a:off x="2216160" y="185760"/>
            <a:ext cx="3543120" cy="503280"/>
          </a:xfrm>
          <a:prstGeom prst="wedgeRoundRectCallout">
            <a:avLst>
              <a:gd name="adj1" fmla="val 66907"/>
              <a:gd name="adj2" fmla="val 160097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k. Ik zie er wat vaal ui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oelichting met afgeronde rechthoek 3"/>
          <p:cNvSpPr/>
          <p:nvPr/>
        </p:nvSpPr>
        <p:spPr>
          <a:xfrm>
            <a:off x="237960" y="866880"/>
            <a:ext cx="3830760" cy="428400"/>
          </a:xfrm>
          <a:prstGeom prst="wedgeRoundRectCallout">
            <a:avLst>
              <a:gd name="adj1" fmla="val 93481"/>
              <a:gd name="adj2" fmla="val 9373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ben ook uit de Griekse tij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oelichting met afgeronde rechthoek 4"/>
          <p:cNvSpPr/>
          <p:nvPr/>
        </p:nvSpPr>
        <p:spPr>
          <a:xfrm>
            <a:off x="101520" y="1411200"/>
            <a:ext cx="3384720" cy="638280"/>
          </a:xfrm>
          <a:prstGeom prst="wedgeRoundRectCallout">
            <a:avLst>
              <a:gd name="adj1" fmla="val 78356"/>
              <a:gd name="adj2" fmla="val 54754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r ze hebben toch een moderne video gemaak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oelichting met afgeronde rechthoek 5"/>
          <p:cNvSpPr/>
          <p:nvPr/>
        </p:nvSpPr>
        <p:spPr>
          <a:xfrm>
            <a:off x="46080" y="2938320"/>
            <a:ext cx="3240000" cy="613080"/>
          </a:xfrm>
          <a:prstGeom prst="wedgeRoundRectCallout">
            <a:avLst>
              <a:gd name="adj1" fmla="val 125125"/>
              <a:gd name="adj2" fmla="val -4124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vind dat we meer moeten genieten van ons lev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oelichting met afgeronde rechthoek 6"/>
          <p:cNvSpPr/>
          <p:nvPr/>
        </p:nvSpPr>
        <p:spPr>
          <a:xfrm>
            <a:off x="0" y="3943440"/>
            <a:ext cx="3603600" cy="718920"/>
          </a:xfrm>
          <a:prstGeom prst="wedgeRoundRectCallout">
            <a:avLst>
              <a:gd name="adj1" fmla="val 103847"/>
              <a:gd name="adj2" fmla="val -154481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n met genieten heb ik het niet over korte termijn pleziertj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oelichting met afgeronde rechthoek 7"/>
          <p:cNvSpPr/>
          <p:nvPr/>
        </p:nvSpPr>
        <p:spPr>
          <a:xfrm>
            <a:off x="128520" y="5661000"/>
            <a:ext cx="4145040" cy="1062000"/>
          </a:xfrm>
          <a:prstGeom prst="wedgeRoundRectCallout">
            <a:avLst>
              <a:gd name="adj1" fmla="val 93537"/>
              <a:gd name="adj2" fmla="val -26147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aarom vind ik echte vriendschappen en goede gesprekken heel belangrijk. En het gaat zeker niet om het hebben van veel gel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oelichting met afgeronde rechthoek 8"/>
          <p:cNvSpPr/>
          <p:nvPr/>
        </p:nvSpPr>
        <p:spPr>
          <a:xfrm>
            <a:off x="4514760" y="5950080"/>
            <a:ext cx="4392720" cy="907920"/>
          </a:xfrm>
          <a:prstGeom prst="wedgeRoundRectCallout">
            <a:avLst>
              <a:gd name="adj1" fmla="val 6120"/>
              <a:gd name="adj2" fmla="val -33597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heb een positief mensbeeld over  degene die zichzelf traint in het lange termijn geluk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kstvak 9"/>
          <p:cNvSpPr/>
          <p:nvPr/>
        </p:nvSpPr>
        <p:spPr>
          <a:xfrm>
            <a:off x="30240" y="114480"/>
            <a:ext cx="16574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ideo over Epicur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1T10:01:07Z</dcterms:created>
  <dc:creator>ha.barten</dc:creator>
  <dc:description/>
  <dc:language>en-US</dc:language>
  <cp:lastModifiedBy>Adela van Stiphout</cp:lastModifiedBy>
  <dcterms:modified xsi:type="dcterms:W3CDTF">2020-02-08T17:23:03Z</dcterms:modified>
  <cp:revision>343</cp:revision>
  <dc:subject/>
  <dc:title>Dia 1</dc:title>
</cp:coreProperties>
</file>