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227763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6240" y="685440"/>
            <a:ext cx="4565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345C59C7-8CA2-488C-A48F-8C576B78BC7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F50DE597-09A3-4990-B512-2F55EBF177C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4365B9C3-3611-481E-9861-7193F229CC9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D96210AF-00DE-412C-9A27-CF3321D5DF0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353BAB6B-861B-40EE-989B-B5B378FAE25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09F50288-77ED-4673-91CE-DFDF2D30E5E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5A702A12-CE98-4A01-AAB7-74C0D8A3582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E77D-345D-4913-A3F0-754C2153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D71-B2AB-4EA1-8569-25F2F39F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ADB-6A5A-4476-BAE5-416736A9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0644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0220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068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0644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0220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D2D4-117A-489B-899C-29AC60F1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78E-AD8C-4E87-85C4-C0A0EC85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FB8-0F7A-48BC-99A6-46D0E876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BF4F-36DA-46E8-9A20-3E2E1E8A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A917-2E79-4311-B507-5539719F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0680" y="187200"/>
            <a:ext cx="56070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CCE2-E56C-4F38-BC03-9B62387E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7AE-830F-4C54-B4B2-3C4954DD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988F-9367-411D-99C8-A326F4E3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6AC-AC48-4E0F-9068-143D70B6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77960" indent="-155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1040" y="4336560"/>
            <a:ext cx="145440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8320" y="4336560"/>
            <a:ext cx="197172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63640" y="4336560"/>
            <a:ext cx="145404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D30C4808-82FC-4B37-A723-835C2D2E1842}" type="slidenum">
              <a:rPr b="0" lang="nl-NL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aardrijkskunde.hlz.nl/portaal%20BTNL1%20H2/BTNL1%20H2%20par%2001V-E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oordelijk en zuidelijk halfr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gratisppltheorie.nl/Navigation%201_bestanden/image001.png"/>
          <p:cNvPicPr/>
          <p:nvPr/>
        </p:nvPicPr>
        <p:blipFill>
          <a:blip r:embed="rId1"/>
          <a:stretch/>
        </p:blipFill>
        <p:spPr>
          <a:xfrm>
            <a:off x="0" y="1209600"/>
            <a:ext cx="4022640" cy="3318120"/>
          </a:xfrm>
          <a:prstGeom prst="rect">
            <a:avLst/>
          </a:prstGeom>
          <a:ln w="0">
            <a:noFill/>
          </a:ln>
        </p:spPr>
      </p:pic>
      <p:sp>
        <p:nvSpPr>
          <p:cNvPr id="50" name="Tekstvak 4"/>
          <p:cNvSpPr/>
          <p:nvPr/>
        </p:nvSpPr>
        <p:spPr>
          <a:xfrm>
            <a:off x="4194000" y="1946160"/>
            <a:ext cx="16192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or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kstvak 5"/>
          <p:cNvSpPr/>
          <p:nvPr/>
        </p:nvSpPr>
        <p:spPr>
          <a:xfrm>
            <a:off x="4095720" y="3125880"/>
            <a:ext cx="1521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ui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kstvak 6"/>
          <p:cNvSpPr/>
          <p:nvPr/>
        </p:nvSpPr>
        <p:spPr>
          <a:xfrm>
            <a:off x="1004760" y="3913200"/>
            <a:ext cx="47595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ografische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 is de afstand van een plaats tot de evenaar. Een plaats dicht bij de evenaar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a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Een plaats dicht bij de pool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ho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matigde Breedte: 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gebieden er tussenin (Bijv. Nederl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urania.be/sterrenkunde/images/coordinaten-aarde.png"/>
          <p:cNvPicPr/>
          <p:nvPr/>
        </p:nvPicPr>
        <p:blipFill>
          <a:blip r:embed="rId1"/>
          <a:stretch/>
        </p:blipFill>
        <p:spPr>
          <a:xfrm>
            <a:off x="1257480" y="625320"/>
            <a:ext cx="3657600" cy="3333960"/>
          </a:xfrm>
          <a:prstGeom prst="rect">
            <a:avLst/>
          </a:prstGeom>
          <a:ln w="0">
            <a:noFill/>
          </a:ln>
        </p:spPr>
      </p:pic>
      <p:sp>
        <p:nvSpPr>
          <p:cNvPr id="54" name="Tekstvak 3"/>
          <p:cNvSpPr/>
          <p:nvPr/>
        </p:nvSpPr>
        <p:spPr>
          <a:xfrm>
            <a:off x="614520" y="3625920"/>
            <a:ext cx="4714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engtecirkels of meridianen: lijnen die van Noordpool naar Zuidpool 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Breedtecirkels of parallellen zijn lijnen die van links naar rechts l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estand:Wereldbol met evenaar en nulmeridiaan.jpg"/>
          <p:cNvPicPr/>
          <p:nvPr/>
        </p:nvPicPr>
        <p:blipFill>
          <a:blip r:embed="rId1"/>
          <a:stretch/>
        </p:blipFill>
        <p:spPr>
          <a:xfrm>
            <a:off x="368280" y="669960"/>
            <a:ext cx="5191200" cy="270972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685800" y="3625920"/>
            <a:ext cx="500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noordelijk halfrond , dan zeg je ook wel dat deze op N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orderbreedte ligt (N.B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zuidelijk halfrond, dan ligt deze op zuid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erbreedte (Z.B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evena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nulmeridi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f de Noord en Zuidpool 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leng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breed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het Noordelijk halfrond ro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Zuidelijk halfrond blau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Westelijk halfrond gro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Oostelijk halfrond ge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keshyweb.com/astro/basis/lengtegraden/lengte1.gif"/>
          <p:cNvPicPr/>
          <p:nvPr/>
        </p:nvPicPr>
        <p:blipFill>
          <a:blip r:embed="rId1"/>
          <a:stretch/>
        </p:blipFill>
        <p:spPr>
          <a:xfrm>
            <a:off x="2614680" y="982800"/>
            <a:ext cx="3276360" cy="3333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aatsbepaling met de ka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NH of Z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OH of W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flezen breedteligging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tallen aflezen li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ngteligging: bov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onderkant v.d kaar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(W.L of O.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limaatgrafi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aardrijkskunde.hlz.nl/portaal%20BTNL1%20H2/BTNL1%20H2%20PICS/par%2001V/E2%20KG%20de%20Bilt.gif"/>
          <p:cNvPicPr/>
          <p:nvPr/>
        </p:nvPicPr>
        <p:blipFill>
          <a:blip r:embed="rId1"/>
          <a:stretch/>
        </p:blipFill>
        <p:spPr>
          <a:xfrm>
            <a:off x="2538360" y="1187280"/>
            <a:ext cx="3140280" cy="3140280"/>
          </a:xfrm>
          <a:prstGeom prst="rect">
            <a:avLst/>
          </a:prstGeom>
          <a:ln w="0">
            <a:noFill/>
          </a:ln>
        </p:spPr>
      </p:pic>
      <p:sp>
        <p:nvSpPr>
          <p:cNvPr id="64" name="Tekstvak 6"/>
          <p:cNvSpPr/>
          <p:nvPr/>
        </p:nvSpPr>
        <p:spPr>
          <a:xfrm>
            <a:off x="378000" y="183528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xtra info Klimaatgraf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8:05:41Z</dcterms:created>
  <dc:creator>Frederik</dc:creator>
  <dc:description/>
  <dc:language>en-US</dc:language>
  <cp:lastModifiedBy>Stephanie Lohuis</cp:lastModifiedBy>
  <dcterms:modified xsi:type="dcterms:W3CDTF">2013-11-11T10:14:55Z</dcterms:modified>
  <cp:revision>153</cp:revision>
  <dc:subject/>
  <dc:title>Dia 1</dc:title>
</cp:coreProperties>
</file>