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18.png" ContentType="image/png"/>
  <Override PartName="/ppt/media/image15.jpeg" ContentType="image/jpeg"/>
  <Override PartName="/ppt/media/image16.jpeg" ContentType="image/jpe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9.jpeg" ContentType="image/jpe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D26E5-B06E-445C-B57D-31077A417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AC52A-886A-49E5-A945-3D2B31AC3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C0781-D6B3-4511-9321-8A2709427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B707D-4C6A-49D7-9D09-FC497228A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0A931-78CC-4F64-BB8E-A72A08B04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EACBF-7294-47A0-AF58-E9F4633C6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372C3-B352-49C9-AB88-2B1244E43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DD184-3CF1-4A45-AFEC-391AF0040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9BF76-6DC1-4549-9914-BC4E02444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D229B-9846-4737-B744-6B1AF18DF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FFC36-FB1F-4100-AEF2-9104D26CF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A99DA-169C-4DEC-8AE4-8720EA8EF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3ACE2-4EDE-455B-BE8F-62737A233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8D9D6-D6E0-40D6-866F-600EDD67A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06C25-2BAE-45CD-90ED-A48B7AA13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C8D9F-8F6C-46E2-BBC1-E949CC0D7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C6690-1749-418A-8758-9DC84AC5D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66C22-EE98-41A8-B8BE-BDB351419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914D3-6891-4D89-8F6B-25D172773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5EB3A-A5EC-4128-B89D-55D5B5453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55DDB-FD0A-415D-86EC-F51082258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F3FC2-A05A-4471-80B2-85174B20A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CD9DE-EC73-4B66-B985-EBE8FC1A0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53303-CB11-4188-9781-9521C771E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98942-3005-489D-92F9-975536845979}" type="slidenum">
              <a:rPr b="0" lang="nl-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71A40-64DE-4DC4-8A63-F88911025F79}" type="slidenum">
              <a:rPr b="0" lang="nl-NL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Maaidors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99" name="Picture 4" descr=""/>
          <p:cNvPicPr/>
          <p:nvPr/>
        </p:nvPicPr>
        <p:blipFill>
          <a:blip r:embed="rId1"/>
          <a:srcRect l="7162" t="24270" r="21928" b="9647"/>
          <a:stretch/>
        </p:blipFill>
        <p:spPr>
          <a:xfrm>
            <a:off x="2050920" y="2276640"/>
            <a:ext cx="4840560" cy="33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basisafstellinge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1" name="Picture 4" descr=""/>
          <p:cNvPicPr/>
          <p:nvPr/>
        </p:nvPicPr>
        <p:blipFill>
          <a:blip r:embed="rId1"/>
          <a:srcRect l="11606" t="26367" r="13086" b="21465"/>
          <a:stretch/>
        </p:blipFill>
        <p:spPr>
          <a:xfrm>
            <a:off x="826920" y="2133720"/>
            <a:ext cx="734544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graanverliestabe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3" name="Picture 4" descr=""/>
          <p:cNvPicPr/>
          <p:nvPr/>
        </p:nvPicPr>
        <p:blipFill>
          <a:blip r:embed="rId1"/>
          <a:srcRect l="19728" t="18512" r="21942" b="8658"/>
          <a:stretch/>
        </p:blipFill>
        <p:spPr>
          <a:xfrm>
            <a:off x="2484360" y="1935000"/>
            <a:ext cx="4824360" cy="451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Perceel dorse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5" name="Picture 4" descr=""/>
          <p:cNvPicPr/>
          <p:nvPr/>
        </p:nvPicPr>
        <p:blipFill>
          <a:blip r:embed="rId1"/>
          <a:srcRect l="35970" t="21465" r="18997" b="12586"/>
          <a:stretch/>
        </p:blipFill>
        <p:spPr>
          <a:xfrm>
            <a:off x="2411280" y="2033640"/>
            <a:ext cx="439272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CCM dorse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7" name="Picture 2" descr="http://www1.trekkerweb.nl/media/default.aspx/emma/org/10342196/P1010191.JPG"/>
          <p:cNvPicPr/>
          <p:nvPr/>
        </p:nvPicPr>
        <p:blipFill>
          <a:blip r:embed="rId1"/>
          <a:srcRect l="0" t="26074" r="0" b="19788"/>
          <a:stretch/>
        </p:blipFill>
        <p:spPr>
          <a:xfrm>
            <a:off x="714240" y="2000160"/>
            <a:ext cx="7745400" cy="31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Mais Dorse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CCM (Corn-Cob-Mix)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Korr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Spi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schutblad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Korrelma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Korre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MKS (maiskolvenschroot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Hele kolf gehaks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Dorser CC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1" name="Picture 2" descr="http://www1.trekkerweb.nl/media/default.aspx/emma/org/10342181/P1010176.JPG"/>
          <p:cNvPicPr/>
          <p:nvPr/>
        </p:nvPicPr>
        <p:blipFill>
          <a:blip r:embed="rId1"/>
          <a:stretch/>
        </p:blipFill>
        <p:spPr>
          <a:xfrm>
            <a:off x="2286000" y="1928880"/>
            <a:ext cx="4753080" cy="35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Werking voorzetstuk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3924360" y="2205000"/>
            <a:ext cx="4851360" cy="384480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971640" y="2205000"/>
            <a:ext cx="3230640" cy="38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kolvenplukk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rcRect l="10872" t="31294" r="43361" b="23419"/>
          <a:stretch/>
        </p:blipFill>
        <p:spPr>
          <a:xfrm>
            <a:off x="1619280" y="2060640"/>
            <a:ext cx="5472000" cy="40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hamermole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8" name="Picture 2" descr="http://www1.trekkerweb.nl/media/default.aspx/emma/org/10342183/P1010178.JPG"/>
          <p:cNvPicPr/>
          <p:nvPr/>
        </p:nvPicPr>
        <p:blipFill>
          <a:blip r:embed="rId1"/>
          <a:stretch/>
        </p:blipFill>
        <p:spPr>
          <a:xfrm>
            <a:off x="2268360" y="1989000"/>
            <a:ext cx="4753080" cy="35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transportwage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40" name="Picture 2" descr="http://www1.trekkerweb.nl/media/default.aspx/emma/org/10342159/P1010152.JPG"/>
          <p:cNvPicPr/>
          <p:nvPr/>
        </p:nvPicPr>
        <p:blipFill>
          <a:blip r:embed="rId1"/>
          <a:stretch/>
        </p:blipFill>
        <p:spPr>
          <a:xfrm>
            <a:off x="1908000" y="2060640"/>
            <a:ext cx="4753080" cy="35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4" descr=""/>
          <p:cNvPicPr/>
          <p:nvPr/>
        </p:nvPicPr>
        <p:blipFill>
          <a:blip r:embed="rId1"/>
          <a:srcRect l="10890" t="24413" r="3138" b="19491"/>
          <a:stretch/>
        </p:blipFill>
        <p:spPr>
          <a:xfrm>
            <a:off x="3564000" y="3987720"/>
            <a:ext cx="5867280" cy="287028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Bouw en werk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71640" y="1916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Maai en invoergedeel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Dorsgedeel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Reinigingsgedeel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Graanopvanggedeel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Inf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www.kennisakker.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Handboek maistee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Maai en invoergedeelt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4" name="Picture 7" descr=""/>
          <p:cNvPicPr/>
          <p:nvPr/>
        </p:nvPicPr>
        <p:blipFill>
          <a:blip r:embed="rId1"/>
          <a:srcRect l="6445" t="26367" r="6445" b="25393"/>
          <a:stretch/>
        </p:blipFill>
        <p:spPr>
          <a:xfrm>
            <a:off x="324000" y="2276640"/>
            <a:ext cx="8496000" cy="35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5" descr=""/>
          <p:cNvPicPr/>
          <p:nvPr/>
        </p:nvPicPr>
        <p:blipFill>
          <a:blip r:embed="rId1"/>
          <a:srcRect l="24154" t="19491" r="17513" b="23419"/>
          <a:stretch/>
        </p:blipFill>
        <p:spPr>
          <a:xfrm>
            <a:off x="4500720" y="2781360"/>
            <a:ext cx="4392360" cy="322416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dorsgedeelt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7" name="Picture 4" descr=""/>
          <p:cNvPicPr/>
          <p:nvPr/>
        </p:nvPicPr>
        <p:blipFill>
          <a:blip r:embed="rId2"/>
          <a:srcRect l="26383" t="17512" r="24903" b="19491"/>
          <a:stretch/>
        </p:blipFill>
        <p:spPr>
          <a:xfrm>
            <a:off x="250920" y="2249640"/>
            <a:ext cx="475128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Reinigingsgedeelt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9" name="Picture 4" descr=""/>
          <p:cNvPicPr/>
          <p:nvPr/>
        </p:nvPicPr>
        <p:blipFill>
          <a:blip r:embed="rId1"/>
          <a:srcRect l="16032" t="21465" r="15301" b="29320"/>
          <a:stretch/>
        </p:blipFill>
        <p:spPr>
          <a:xfrm>
            <a:off x="1258920" y="2565360"/>
            <a:ext cx="669780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Reinigingsgedeelte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1" name="Picture 4" descr=""/>
          <p:cNvPicPr/>
          <p:nvPr/>
        </p:nvPicPr>
        <p:blipFill>
          <a:blip r:embed="rId1"/>
          <a:srcRect l="13817" t="28341" r="11606" b="37200"/>
          <a:stretch/>
        </p:blipFill>
        <p:spPr>
          <a:xfrm>
            <a:off x="324000" y="1844640"/>
            <a:ext cx="8316720" cy="28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Reinigingsgedeelte (3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13" name="Group 6"/>
          <p:cNvGrpSpPr/>
          <p:nvPr/>
        </p:nvGrpSpPr>
        <p:grpSpPr>
          <a:xfrm>
            <a:off x="1908000" y="1989000"/>
            <a:ext cx="5832360" cy="4528800"/>
            <a:chOff x="1908000" y="1989000"/>
            <a:chExt cx="5832360" cy="4528800"/>
          </a:xfrm>
        </p:grpSpPr>
        <p:pic>
          <p:nvPicPr>
            <p:cNvPr id="114" name="Picture 4" descr=""/>
            <p:cNvPicPr/>
            <p:nvPr/>
          </p:nvPicPr>
          <p:blipFill>
            <a:blip r:embed="rId1"/>
            <a:srcRect l="13817" t="20466" r="33024" b="21465"/>
            <a:stretch/>
          </p:blipFill>
          <p:spPr>
            <a:xfrm>
              <a:off x="1908000" y="1989000"/>
              <a:ext cx="5526360" cy="45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Rectangle 5"/>
            <p:cNvSpPr/>
            <p:nvPr/>
          </p:nvSpPr>
          <p:spPr>
            <a:xfrm>
              <a:off x="5745600" y="4598280"/>
              <a:ext cx="1994760" cy="1382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Bedien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7" name="Picture 4" descr=""/>
          <p:cNvPicPr/>
          <p:nvPr/>
        </p:nvPicPr>
        <p:blipFill>
          <a:blip r:embed="rId1"/>
          <a:srcRect l="23423" t="16538" r="21208" b="33273"/>
          <a:stretch/>
        </p:blipFill>
        <p:spPr>
          <a:xfrm>
            <a:off x="1763640" y="2060640"/>
            <a:ext cx="540072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Contro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9" name="Picture 4" descr=""/>
          <p:cNvPicPr/>
          <p:nvPr/>
        </p:nvPicPr>
        <p:blipFill>
          <a:blip r:embed="rId1"/>
          <a:srcRect l="19713" t="12600" r="9376" b="13585"/>
          <a:stretch/>
        </p:blipFill>
        <p:spPr>
          <a:xfrm>
            <a:off x="1332000" y="1484280"/>
            <a:ext cx="6410160" cy="5004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30T06:11:45Z</dcterms:created>
  <dc:creator>Edwin Mellema</dc:creator>
  <dc:description/>
  <dc:language>en-US</dc:language>
  <cp:lastModifiedBy>eme</cp:lastModifiedBy>
  <dcterms:modified xsi:type="dcterms:W3CDTF">2010-04-09T09:48:15Z</dcterms:modified>
  <cp:revision>10</cp:revision>
  <dc:subject/>
  <dc:title>Maaidorser</dc:title>
</cp:coreProperties>
</file>