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9C2-D505-4BE6-95B7-1B916B15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0012-7512-4C0B-997F-81BFE6E5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1D4-C131-4DE9-9BF4-B73740A8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951-569E-4436-B81F-3F8B3B65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0155-43C0-4D75-94B6-A9797199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60CF-CA8C-4A13-9C04-BA339A18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AF6-E815-48A5-A3DF-10702787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84CF-06E6-4F51-B0FF-1C731AF5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440-7435-42CB-A212-D527292B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5BD-3A1F-4006-8C3A-0E6A90C4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271-CB03-460B-AC98-8E1A49ED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E4E-BD12-40C1-A92C-F62EC33B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C997-51C4-41FC-BF03-41223F19C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ydraulisch%20schema%20maaidorser" descr=""/>
          <p:cNvPicPr/>
          <p:nvPr/>
        </p:nvPicPr>
        <p:blipFill>
          <a:blip r:embed="rId1"/>
          <a:stretch/>
        </p:blipFill>
        <p:spPr>
          <a:xfrm>
            <a:off x="0" y="318960"/>
            <a:ext cx="89154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3:26:15Z</dcterms:created>
  <dc:creator>MBO Boxtel</dc:creator>
  <dc:description/>
  <dc:language>en-US</dc:language>
  <cp:lastModifiedBy>MBO Boxtel</cp:lastModifiedBy>
  <dcterms:modified xsi:type="dcterms:W3CDTF">2003-12-04T13:26:34Z</dcterms:modified>
  <cp:revision>1</cp:revision>
  <dc:subject/>
  <dc:title>PowerPoint-presentatie</dc:title>
</cp:coreProperties>
</file>