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E25C-6B4C-4DE9-B247-3DBE2D9895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2EE2-E728-4C14-8308-AF31BC0D05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A568-0BC7-4ABF-82DA-21B72253A2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E6BF-7384-4874-A3ED-CBAE5B04C84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B600-63AD-49E0-8F1D-5864F9AAE3A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65EB-C15E-43E4-9F21-E85F813D25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365C-2A0B-4F79-A059-1EAF710973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8F9A-4BBD-4928-968F-6FA4EDE9D8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47EA-F632-4DF5-B968-92C5AA4AA0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5E97-79AD-4912-A89B-7701512010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0E3A24-76BD-4D58-91B0-D0F6F4C32B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D03B8E72-BB51-470A-9D50-0B870A4E2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C7E39409-8046-49D2-949B-CDB9CC5FB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0B7DC94A-D094-4E91-9930-E198CADE9E6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1E6E7C-13F5-481B-9CEA-8CC810DD5D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DF196C00-7BAF-4FCE-87CE-320043641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1D11926A-B1F0-48AC-B924-7C72ABCBE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206A8267-2B49-49D2-8942-5E94A7A74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06C335A-5436-4E37-8688-495316992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B8696117-867F-4564-9FBE-E45EF43E0D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2A06ED2D-C544-43B4-B0BB-5AE09E29D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B8AFABBB-96C3-47F4-9325-0E188DB8D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EB30831D-903B-45F9-9637-25B423C2D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792DDBBF-D708-4B3A-9E85-E9745BF6E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D6B49768-5197-4E9D-8FB0-6981619AA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698C9F47-8CBA-46A9-89BF-1F3BFCFC8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CE2220B1-8D6F-43D5-A0A1-AC663FD9BD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5155BC0D-51AF-4878-AC88-794365593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5A48B5F-47C0-4D0C-9452-50C727616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54E8D271-007D-4BA1-8BAB-786146597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ADD17DD5-C6A6-4ED7-9B00-5BE593DA8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547C103-7BCB-44F7-9877-F15EE420C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2A666A13-E6F0-421C-82F5-38B1F24DC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20B7FDD-AE68-4E83-84C8-187A8E708FF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8B72-526C-43F9-AEEE-6DD0D571D9DC}"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1BE9-3747-4F46-9776-2EBBC9409243}"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2296-C5B2-44DE-B7C2-987225E31058}" type="datetime3">
              <a:rPr b="0" lang="nl-NL" sz="1400" spc="-1" strike="noStrike">
                <a:solidFill>
                  <a:srgbClr val="3b130a"/>
                </a:solidFill>
                <a:latin typeface="Times New Roman"/>
              </a:rPr>
              <a:t>29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1100-53BB-4A2B-BEA0-CE87044246B7}"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02E9-7809-46F0-83FE-6265A2AA964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69D1-CC7B-4253-AFC8-B212BFBDA30E}"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B389-20B6-4CC9-AF9D-11A5EC90104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14CB-B873-4A66-8ADA-C4279FB9F3B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E449-E9AF-498B-BAEE-7AC1C05750C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A2A5-408C-4F96-8396-AFB5EC5B2F1B}"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A380-5F17-4804-806B-17B7B17BCBE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11A3-5C2F-473B-B5B4-FE78F9B99A8A}"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23DE-F47B-48A1-8FBE-74616E49299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43AE-ADF8-453A-AF78-C38354B60E5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F949-A412-491D-BFB3-47457FC21C1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878A-7F85-49C5-929C-6C2A008A1960}"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231A-694E-4FFB-8C57-8DD350424D3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3E5C-1234-4A92-8CB4-1308DE7ADEAF}"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A0E9-BAD1-4EB3-B492-1F0C1F4CE2C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A84E-FD09-462A-AE07-5D814175818B}"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28B6-DE5A-4932-898D-872E5FA88D1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9C55-8E6B-46F4-941C-65D9BBE0C272}" type="datetime3">
              <a:rPr b="0" lang="nl-NL" sz="1400" spc="-1" strike="noStrike">
                <a:solidFill>
                  <a:srgbClr val="3b130a"/>
                </a:solidFill>
                <a:latin typeface="Arial"/>
              </a:rPr>
              <a:t>29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5394-8749-4908-A7D5-486CA142E0F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