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1B3C-3390-44E4-89FE-F8FAD083C55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87449-2261-4D9A-8060-FB569463A32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9A22-B26E-4111-92E1-9D9B747A200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BB285-FBE6-4040-B138-BCD6E4F67D7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35146-546B-42F2-9DF9-ED5B46C3BC9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F6FF-4AB2-44BE-BCE9-DB9FB50D4FF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8BF89-5EC0-494D-AD97-02446A07F28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2178B-6FDF-4074-88A3-0392BCB1DA5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0F313-211B-4ADF-91C0-1B4B47E3CD7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DB91-09E2-4EE4-8AA5-6B0408D794F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82274E-73C0-48D5-9E41-1B2F0E6BF2B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1134E299-438E-4301-A1A1-696D1CD2C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1E049DEE-2FAB-45AD-AA9D-D3BB847CB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E4D7B962-30C5-4209-8641-F83A477CFA7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286F2E-8F8B-4AE5-8FAB-A62086FA79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21E87401-E00B-4660-8A99-57B2E090DA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F6A72E51-A472-461A-A2E9-FFA50718C2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9DB61355-B996-42CA-B4D2-7027BC6104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95BE3FDF-2EE9-4A5F-8409-40B4032ECF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39189E84-9196-46B7-ACB9-F1D88F61D3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89F78E29-8581-4CEA-AF48-8AE6B41C03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E99FA996-67D9-4364-BD4E-1A7693AFF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1E8F26A0-2BC8-4CE0-8CAA-1A5A6BFEE6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98C27773-C1CE-441A-A96D-19E092FE1E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36793147-2FBF-4DAB-86ED-0A065DAE46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F35BE59C-C346-435A-B3AB-E80A6C7F82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D7D3682D-0F40-46B4-A31E-8BD3144A4C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67345F25-7F37-46D5-8073-C6F25DEDD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59EC7D0B-8715-40DF-BC28-D3EBFA420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7C29C1FC-DEF6-4CBB-A041-6DBDA07EF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CE26ED49-C900-4EE9-A3E5-F817882F7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D01E57B8-4415-4ED1-9017-405580401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D75DFC35-D875-490B-8CA3-47749A75F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434CBAE1-952A-430F-AC8C-480C7DF06A2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B7B4B-99AC-4A6F-AFA2-A3EBB4C3D78E}" type="datetime3">
              <a:rPr b="0" lang="nl-NL" sz="1400" spc="-1" strike="noStrike">
                <a:solidFill>
                  <a:srgbClr val="3b130a"/>
                </a:solidFill>
                <a:latin typeface="Times New Roman"/>
              </a:rPr>
              <a:t>31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6B28-6CAE-4F7A-AAFC-086F87D28145}"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69304-E388-4DDE-B5E4-2CD37A36CDE5}" type="datetime3">
              <a:rPr b="0" lang="nl-NL" sz="1400" spc="-1" strike="noStrike">
                <a:solidFill>
                  <a:srgbClr val="3b130a"/>
                </a:solidFill>
                <a:latin typeface="Times New Roman"/>
              </a:rPr>
              <a:t>31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72C22-7759-459F-A6ED-26A0DC2EB9F7}"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43B9A-FD8A-43A7-AD21-11E17E8D27DA}"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F9BA6-47F2-43E1-9017-5CB3D59F9FF4}"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3133F-015C-4204-8101-1A4D7AB96C9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2524-BCBA-4485-AE44-7A9F4594037E}"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9513B-B1CB-4291-B8A2-64F5B6BC2EF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1094-928B-48E4-A755-A6B9A5D4A2A3}"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1198D-C5B2-415A-A881-764F5EB6F3E6}"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A543-BE21-4711-83F9-38BECF2DDD71}"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E6FA-1779-4F63-AFBF-A49D171FFBD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37920-BF28-4CD2-95E8-E451B99F594F}"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CCB2D-2B77-42D0-8A19-07357BF6D31A}"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38B2-AEE3-4128-9902-39562FFB2568}"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B6E7B-75CA-407A-ACE6-B183651A13D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7AC6-CB25-4874-85C0-CF1FD774D17E}"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2B897-6809-411C-81A5-3DA70D6E47F4}"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959AC-0D50-413B-9BEA-B581445FE77E}"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FF003-9DD4-4CF1-9C34-40EBA8E8A3D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21391-4BF7-4FF7-A2B0-4BEFE52538AA}"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6B6D-035F-4318-A39D-6B362F6A966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