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21CC6C-1D7C-4A3A-9F1A-953F1BC4C8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ADD07-5C44-4290-ACC3-8048E1BAAA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gesteld 2013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07509-1EF9-4B8F-9563-766C5A7FE0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52BFB-8388-4CF1-98C0-179465E75E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8B696-F7FE-4AA2-9FA5-2A121F72052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48891-B332-45CF-93CE-A7663887564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10314E-CDE4-45D0-9626-FF2EB2D1958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726A-6A2A-40E0-9BA8-9E646597EE2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D2124-6DF0-4766-9850-D1F70280AF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04D2F-7A94-4508-8B4A-D797CC4711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5DAA1-6D05-4E72-BAE5-1AEF19FD5B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1E864-DEEC-4CB6-BE4A-9F2A4F7888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57F28-33D0-4CBD-99E6-ED72D113E0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368FA-7086-4ED0-82D1-08D8D75A74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AE9-08DD-42B6-AB53-BA5FA472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C6F-89DF-40F5-B7E7-78DC5251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614-DD4A-47B8-9657-8354D2D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D6B-968D-4195-A988-BB39082F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DC28-5F05-4E73-B5C9-10FE5628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6C94-1A6C-42FD-8915-3D1C4400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7F27-3D96-4B63-8076-A2CC54F5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BC0-25B9-4FA2-BCE6-CA9A905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1C80-A2CC-44E2-BEC4-54A1D6BC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A8F-B521-4486-8337-B1103556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89DD-5DBB-4ED6-8EAD-6F59EE3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9A8-3A9D-49EA-A5F1-901F6A8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7D20-B42D-4560-B785-74EF3D0C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10A0-6651-4A84-862B-F8A5108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5210-7446-4DD6-94E7-EFAF7892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9E82-AEF7-41E4-A4C9-1F676AB6D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9080-5816-4681-8927-7908B34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5DF19-4D01-4CB2-B1D5-7312C1B0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12EB-B862-4445-8574-736C38B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72D2-DF01-4D93-8839-5601D471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70925-E437-4BD5-8ED5-3A9943A0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BD58-1C33-437E-B1BF-53F2087A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4DD-7658-48B1-BF14-F137582D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C6591-5A9E-4FB8-9322-B72C669B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6C914-0AF4-40F2-8931-1D3C9F4B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C019-29B2-4EDF-95F8-1BAEAB04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AB7F-667D-4A22-B355-A443A5ED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3601-7797-4259-A51A-A3EAAE27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AB289-1740-45DF-A2D6-34E2BC97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E0862-4B11-4900-92D4-25045208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134E9-69C0-40F9-B448-87DDB71C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411F-D5F3-42A0-B06A-77AF5215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B6B1-C452-45D6-AF19-EB58E86D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2E0C-0628-4E96-9E81-9B68473E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54A1-B213-4DA8-B96D-C06F78B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9B9B7-550F-4B71-A442-380EDEF8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5EBDE-FA13-4702-800C-4D78BC8F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D27F-7AAE-4ACD-ABB4-3DD604CC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7E066-7003-4D2F-BD96-528B062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13042-56BA-4943-BFA5-F471E40E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2384D-4DAB-46FA-BE7C-234AAA3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0888-5B6D-4708-81DB-0D531C22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6B7F0-BF3A-46A8-89A4-87FEF15A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A3F11-18E9-4516-A737-91613D2C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4FB-B2E3-4FA0-BE1B-42AA48F2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5290D-26C7-4AFA-BE22-2527D6AB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C491D-9F13-415D-BFE4-1A650CA7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809EF-DAF3-4E94-8251-CD5C28B9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691CD-DDBF-43F5-A851-1F54C771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7C42-9F9C-4837-B232-844056D8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E3B5-507B-4015-AE0A-397277E7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37980-8E2C-4E54-AFD2-602AFA91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2944-1887-4430-9C5B-F82433EC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3A9C-3E45-4035-B960-488AE61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68D27-FEF3-4DF2-ADD4-85A530B0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976F-3C36-4492-9A98-5C115172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AC5CC-6848-4252-8C80-6738F316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3AD7-ACFC-4578-80BD-FC2DF8A5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E3F4-5E17-454B-980F-64E3C8BE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7B443-51E7-44B8-83C5-0C5456E7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C4D02-D3AD-4D19-87E3-CC99A333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6768C-7C98-4FD4-8508-1AB08FD2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6054-4753-4BAB-A710-5F500ED6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00A60-41A5-47EE-82CE-8322A8B8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BDE21-CD98-41C0-8880-A4272DA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FDE83-BAF1-4330-8507-ACBF9E57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604-9731-4F70-82EF-31B77B8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DBB8-4A26-407E-B55B-8388CD8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D29B0-C0DE-41D8-AF51-94371C0E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F082B-E0D8-4BED-9E92-EB9F53DE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BE17F-6871-4798-A3D3-EA0B1C55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50BF5-6974-4120-9EE1-164C7F69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66A52-C9B4-433A-B59B-843681A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4B74E-5524-4146-AE27-0251126D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566D3-A34E-4887-AB5A-48EE9E69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F8060-CF66-4437-9E63-541E9179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370E4-3A6B-436B-BB1F-B47634B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92C8-2331-4F06-9F0A-CCC0523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AF897-1A5B-463C-A5DA-BD38903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4C219-DE8A-4BE2-B525-DEB81014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96361-58C6-43FD-B5F0-69617132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E0262-EDE8-4F4E-B3A1-0D2BCE24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F9CDE-B26F-4CB8-BFBE-6B4DAFA1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E015-CBDA-45B6-AE47-31F5C6C7F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9CDA-7C24-4770-9E3A-716990CA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495EB-E176-4A1B-9087-EAFF572C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3E09F-5452-4ACB-BA59-DB7E5DD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1BCC3-4EE5-447F-B138-71C1CF20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B4BE-C9A5-488D-8A86-56F64B1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5958-AC6A-4776-8E14-1E12DBF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69A1-36B0-437C-B9EA-C7BA113F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90DF-ADB9-42B4-AA8E-D738A07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E5A2-C77C-4769-BF7F-3519EBA3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5031E-A6BC-4A69-89FC-6FDEDC81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04279-370B-4C66-9913-68D24B7F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D7932-B40E-4D14-B97C-55A5BC35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6CB2C7-DC55-4DFF-BA7F-9B5076EB917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058080" y="143028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2361E-95E4-430C-948D-1F064EE061D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EFAB0-11AE-440F-8F13-9ADEEB7BC5E2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44474-A439-4276-A9B4-D31A2A6ED40C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140CC-B963-4F9E-A4E9-F7C6BAE135C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9D2B5-0E7F-4CCC-A7BE-669CEB37AA2F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80315-D5E9-473A-A4EB-A0810311A94E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71E67-F900-45F2-9DDA-C0B70BAAC374}" type="slidenum">
              <a:rPr b="0" lang="nl-NL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7146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sweek 5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e en warmte behandel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7" name="Afbeelding 4" descr=""/>
          <p:cNvPicPr/>
          <p:nvPr/>
        </p:nvPicPr>
        <p:blipFill>
          <a:blip r:embed="rId1"/>
          <a:stretch/>
        </p:blipFill>
        <p:spPr>
          <a:xfrm>
            <a:off x="5396040" y="476280"/>
            <a:ext cx="3289320" cy="1185840"/>
          </a:xfrm>
          <a:prstGeom prst="rect">
            <a:avLst/>
          </a:prstGeom>
          <a:ln w="0">
            <a:noFill/>
          </a:ln>
        </p:spPr>
      </p:pic>
      <p:sp>
        <p:nvSpPr>
          <p:cNvPr id="348" name="Rechthoek 1"/>
          <p:cNvSpPr/>
          <p:nvPr/>
        </p:nvSpPr>
        <p:spPr>
          <a:xfrm>
            <a:off x="826920" y="1662120"/>
            <a:ext cx="785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Module 12: verpleegtechnisch handelen 2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84360" y="404640"/>
            <a:ext cx="637704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KOUDE  TOEPASSEN BIJ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0920" y="1413000"/>
            <a:ext cx="6923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verbrand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ppervlakkige wond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ierkramp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Trauma’s van gewricht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Injecties, punctie plaats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tuiking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253960" y="549360"/>
            <a:ext cx="686412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DROG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2057400"/>
            <a:ext cx="6994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Coldpack (koelelementen), koelmatras en  de ijsblaa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atie op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lauwe verkleuring van de huid, bleke, vlekkerige huid, blaren, rillen, verdoofdheid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g de coldpack nooit zo op de hui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62064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PASSEN VAN NATTE KOU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2349000"/>
            <a:ext cx="56260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al toegepast d.m.v.: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chtig kompr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pray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Koud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Afsponse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7858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 BIJ KOU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39280" y="1773360"/>
            <a:ext cx="813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oeningen waarbij de waarneming verstoord is, verminderd of afwezi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lamming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hock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ifere arterioscleros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okale of gehele anesthesi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ewusteloosheid dan wel een verminderd bewustzij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dunnere huid, zoals bij ouderen en kindere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(open) Wonden stoma’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edeem of littekenvorming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bcessen en /of ontstekingen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7400" y="333360"/>
            <a:ext cx="637848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VRAGEN</a:t>
            </a: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84000" y="549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TOEDIENING VAN WARMT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0920" y="2060640"/>
            <a:ext cx="7065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wijding (vasodilatatie)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hoogd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520" y="763560"/>
            <a:ext cx="6576840" cy="12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WARMTE TOEPASSING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4360" y="2530440"/>
            <a:ext cx="64180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en van 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snelling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betering van het genezingsproce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521080" y="475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RMTE TOEPASSEN BIJ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4" name="Afbeelding 1" descr=""/>
          <p:cNvPicPr/>
          <p:nvPr/>
        </p:nvPicPr>
        <p:blipFill>
          <a:blip r:embed="rId1"/>
          <a:stretch/>
        </p:blipFill>
        <p:spPr>
          <a:xfrm>
            <a:off x="763560" y="2421000"/>
            <a:ext cx="7616880" cy="3130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593280" y="1773360"/>
            <a:ext cx="8550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84360" y="475920"/>
            <a:ext cx="637704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DROGE EN NATTE WARMT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1280" y="206064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Stralingswarmte is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Geleidingswarmte: kan vochtig en droo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orbeelden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1.  lichtboog, warmtelamp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2.  elektrische deken/kussen, hot pack,  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ruik, hete omslagen een vochtig/nat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  kompres en een ba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71280" y="18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OBSERVATIEPUNT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0920" y="1844640"/>
            <a:ext cx="699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j straling: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et op dat de lamp niet in aanraking komt met texti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metalen voorwerpen , spuitbussen, papier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Geen crème en zalf nog op de huid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ittekens bedekke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aat de zorgvrager melden al hij zich niet lekker voelt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95640" y="475920"/>
            <a:ext cx="66672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BIJ GELEIDINGSWARMT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94920" y="1988640"/>
            <a:ext cx="828036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met toediening van droge geleidingswarmte bij een zv. met  een kwaadaardige tum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Niet bij oedeem en acute ontstekingen, zwelling kan toenemen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Wees voorzichtig bij zorgvragers met een stoornis in gevoelszin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Observeer de zv. hoe die reageert op de warmt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69120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TOEDIENING VAN KOUDE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34520" y="2276640"/>
            <a:ext cx="7427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atvernauwing ( vasoconstrictie)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Daling van de celmetabolism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de spierspanning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Lokale anesthesie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549000"/>
            <a:ext cx="7128000" cy="129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EFFECTEN VAN KOUDE TOEPASSEN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39640" y="2421000"/>
            <a:ext cx="706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mindering zwell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Stelping lokale bloeding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Pij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ertragen van het ontstekingsproces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25:16Z</dcterms:created>
  <dc:creator>Koopmans</dc:creator>
  <dc:description/>
  <dc:language>en-US</dc:language>
  <cp:lastModifiedBy>Limpt, Julian van</cp:lastModifiedBy>
  <dcterms:modified xsi:type="dcterms:W3CDTF">2020-10-02T06:33:51Z</dcterms:modified>
  <cp:revision>26</cp:revision>
  <dc:subject/>
  <dc:title>Koude en warmtebehand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12C1C14FABDD54C92D826838356CFE8</vt:lpwstr>
  </property>
</Properties>
</file>