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63A144-F091-4A35-B9CF-2CA2E9DC77D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B8216F-572D-4EDB-9EBD-8D8312CF0E8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Bijgesteld 2013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31621D-F31C-4461-8436-C6B5BC58AE2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E9E310-4306-4B46-A344-3436E808A25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4547C2-5224-4492-BDCE-DE7B1E7D9A1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07594B-A0BA-4586-8693-3FA5EEA7892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570515-BAA5-4CFF-A6CA-A4F66C5571C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C4F1D8-C6AA-41FF-905E-2370A75F989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0A8FD0-FD8B-4ED9-8329-666C69FEFA8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57EA7A-2DED-45E0-8395-A3D9DC01B36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60E1D6-B80A-4D54-8135-41778C8BE62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B39327-E26D-4713-AABA-0A6423F94C9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41E56D-B185-4A0D-A3FF-0E738EB0147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69F3F9-E431-42CD-A729-D8A96C35F91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85E1-2D06-434C-A38E-B67696214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9DFB-8E7E-42E2-8C8A-FAB9C1E48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C80B-31EC-4A4F-AF26-BCFB6E978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3BBF-EAE6-4E80-85CB-C55B332FE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A27A4-908A-4273-B840-7319EDEC4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BA051-1B2A-43AE-B30B-F45C23841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9D9E4-CEE7-48A7-9506-4714F9938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90BB1-4765-4FB0-A076-0CF6E59D1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BFBE8-06FC-4CA1-85F9-C29F6EF55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75513-4EAB-4876-9AEB-8FDE37C11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4F0CC-A162-4B75-A9A0-DE2DB939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3CD3-B47F-428F-8CA6-1AF3B8806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20C77-B206-4E82-9410-E8F65A8A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DFF64-0C97-4D4C-B414-F3659D31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7FABB-F526-401C-AB33-F643B8669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6658F-9EB5-4B45-9F73-3338B5D4F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806E7-0EDB-4FEB-B3C1-3F36987E4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02BB9-0B7F-427F-9A58-5624C468B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94659-8337-4B35-8272-1C0A90072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22CCC-7342-4DC6-ABFA-51B8FC105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5AE71-D7CB-4A00-B1E7-A943F62AA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902A0-046B-4F46-B066-1F2B62C52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1CF0-9988-48D8-A6AF-0DB518612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E1275-D2C6-47E0-A2C7-FAA79CBB1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B3418-7FC5-4407-85C6-C830A353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AF894-70A9-4047-A9E9-0A31990F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A4628-D33E-42BF-A789-5EBE266D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45847-B760-481D-89E5-60218729B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C2C35-0A3B-42F0-98B6-3BD65ACA2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9C30B-5906-40B0-8D3D-D6259A788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65DEB-0B06-4364-8B84-6F4954CB6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CD819-845E-4E07-A32F-B14D75B0B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0CF5B-F460-4FF8-8A0E-DA978CB75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2774-92A4-4BEC-9B5A-2BA2B5BD0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458CF-4ED5-4C66-9E28-CFBA56785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998F8-9936-48C4-82B0-FCDCB91D6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DED31-259E-4E12-8F4D-3E478E6D5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8DA9B-1277-4893-A279-A1BA0E1C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E349C-9370-4258-BFBB-8E703043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247AD-52E6-4D7D-9328-6E2FA791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DCBD8-0129-48B3-B89A-12E6896BD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196BD-A0CC-42CF-BDA8-E779FB119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D3019-9795-4880-BD63-96DC14CCA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AE65F-6557-44CC-9CAF-F31AEC139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414D-0E8F-467C-A388-944025F04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8D3F5-E6D1-4288-A48C-33A055339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9E777-AE2D-4E2D-A959-D26E15D0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6F124-6938-44D1-B1E3-D20E64BB5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696B8-F04C-4066-BB4B-51040A988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14A8C-0181-4E99-9C02-A7CE374D5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B13CF-5F18-4DB5-A565-C1232712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D2341-571A-4348-90C0-FAC21A70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43D00-E182-4410-9747-1DE13519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A22C8-05AD-474E-BF88-D41256CBF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E6D03-6652-4057-ADD5-65790DE4C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ACA6-F59D-4521-AF5B-8706B51A5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29FE6-ABC8-4012-BAC0-5C8964B82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613D5-C8CD-4F6E-AE8B-177BEA247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5AA1A-5F47-44A9-AD5A-2AEBA649B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80C2F-84B5-4C4E-A5E3-166B8C8A5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DA0FA2-57FC-4566-9E86-5FE308173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74C2F-BF2F-4513-BFB9-F12F6A222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7473B-245B-42B1-9654-B49341F20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13346A-B2B5-447C-95A2-6AC60200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924E3-C139-4D57-91C7-D2C17E38F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3443B-CFF4-4C4D-AFE7-4F62D6AA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94F8-D336-4EAC-9616-ACA1E609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5A587-E002-452C-95D6-6D8D91294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E1EE5F-F06D-4A05-9CDA-F803602F0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22338E-38D9-4404-997B-42957925F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16BB96-5147-4025-AD90-D6B9F346F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035FA-E001-4573-8EBE-39ACD2925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F299E6-7BC8-49D8-9D3E-3BF1DECB2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3E0E1-1C1E-4DA3-9354-C5580FAD7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2FEDA0-62BF-4B52-BA18-178024C61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86CCA-50ED-4ADD-8794-7BCB2E2D6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BDB31B-72E3-4620-8804-F007732F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F053-A75A-4D37-8EE7-DE996B5A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C8C18-F18A-4D2F-9F1D-0847DB35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B0D94-44CA-4AF9-B274-27748A17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8F443-A59C-40D1-A780-64D2AC260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A93B0-2181-4660-9DDB-72C82033F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3F1D7-592C-43AE-9438-609B2200D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8FEB01-9C2D-4DF5-95E2-ED3629EEB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CC571A-A8C9-4F7D-B539-E6E3ABE1F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1E5457-C054-4EB8-95A9-0F8E42727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4CFDD3-5CDB-4BA8-8BBB-DE5A5C465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BB30CD-F4B0-4602-B27A-6C1A33FD5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BEF8-A5CA-40DB-8E72-554D660B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67249B-A696-45AF-960A-1FFFC8C77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C3F4A1-54CC-44EA-8C9B-4110EA70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BB2C66-0347-40EB-81A1-04ED3D73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F5D4DA-C349-404F-B5FC-0E40FCAB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8C86DD-5375-48A5-BCC7-D4C6143E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3DC68E-E3B2-41B9-A4F4-8B060157E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12874-2160-4084-A3AE-2236971A1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2-HD-TOP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81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9328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71800" y="380520"/>
            <a:ext cx="1978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58434F-BA6B-42C3-919D-42346ACD1965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C2-HD-TOP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81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C2-HD-BTM.png"/>
          <p:cNvPicPr/>
          <p:nvPr/>
        </p:nvPicPr>
        <p:blipFill>
          <a:blip r:embed="rId3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932080" y="4324320"/>
            <a:ext cx="2297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914040" y="4324320"/>
            <a:ext cx="4879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058080" y="1430280"/>
            <a:ext cx="2171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39BEB2-F707-4E6D-BAEA-D9183F2437E4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C2-HD-TOP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81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59328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71800" y="380520"/>
            <a:ext cx="1978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B9C575-780E-422C-91B4-79A379F78E45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8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9D6327-DA82-4FD1-AAD9-4C5EED22B4F7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7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DF5742-F6C3-45C2-A52A-83E07B11E26D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14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212" name="TextBox 12"/>
          <p:cNvSpPr/>
          <p:nvPr/>
        </p:nvSpPr>
        <p:spPr>
          <a:xfrm>
            <a:off x="231840" y="80820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TextBox 13"/>
          <p:cNvSpPr/>
          <p:nvPr/>
        </p:nvSpPr>
        <p:spPr>
          <a:xfrm>
            <a:off x="8147160" y="3021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593280" y="379440"/>
            <a:ext cx="483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52A8E4-232D-4DB8-8E31-BC3224C18503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8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5562360" y="379440"/>
            <a:ext cx="218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593280" y="379440"/>
            <a:ext cx="483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318179-29A2-42B3-8736-B4B622B40DE4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7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22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3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4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4108F3-1A5D-4F81-AB20-4531251FBC01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1332000" y="4653000"/>
            <a:ext cx="7146720" cy="74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Lesweek 5: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Koude en warmte behandeling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47" name="Afbeelding 4" descr=""/>
          <p:cNvPicPr/>
          <p:nvPr/>
        </p:nvPicPr>
        <p:blipFill>
          <a:blip r:embed="rId1"/>
          <a:stretch/>
        </p:blipFill>
        <p:spPr>
          <a:xfrm>
            <a:off x="5396040" y="476280"/>
            <a:ext cx="3289320" cy="1185840"/>
          </a:xfrm>
          <a:prstGeom prst="rect">
            <a:avLst/>
          </a:prstGeom>
          <a:ln w="0">
            <a:noFill/>
          </a:ln>
        </p:spPr>
      </p:pic>
      <p:sp>
        <p:nvSpPr>
          <p:cNvPr id="348" name="Rechthoek 1"/>
          <p:cNvSpPr/>
          <p:nvPr/>
        </p:nvSpPr>
        <p:spPr>
          <a:xfrm>
            <a:off x="826920" y="1662120"/>
            <a:ext cx="7858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Module 12: verpleegtechnisch handelen 2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484360" y="404640"/>
            <a:ext cx="6377040" cy="12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KOUDE  TOEPASSEN BIJ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0920" y="1413000"/>
            <a:ext cx="692316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Oppervlakkige verbranding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Oppervlakkige wond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pierkramp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Trauma’s van gewricht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Injecties, punctie plaats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stuiking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253960" y="549360"/>
            <a:ext cx="686412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TOEPASSEN VAN DROGE KOUDE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68000" y="2057400"/>
            <a:ext cx="699444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Coldpack (koelelementen), koelmatras en  de ijsblaas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Observatie op: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lauwe verkleuring van de huid, bleke, vlekkerige huid, blaren, rillen, verdoofdheid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Leg de coldpack nooit zo op de huid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340000" y="62064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TOEPASSEN VAN NATTE KOUDE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68360" y="2349000"/>
            <a:ext cx="5626080" cy="430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Lokaal toegepast d.m.v.: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ochtig kompres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pray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Koud bad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fsponsen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0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78588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OBSERVATIEPUNTEN BIJ KOUD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539280" y="1773360"/>
            <a:ext cx="81378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andoeningen waarbij de waarneming verstoord is, verminderd of afwezig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erlammingen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hock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Perifere arteriosclerose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Lokale of gehele anesthesie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Bewusteloosheid dan wel een verminderd bewustzijn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iabetes mellitu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Een dunnere huid, zoals bij ouderen en kinderen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(open) Wonden stoma’s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Oedeem of littekenvorming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bcessen en /of ontstekingen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327400" y="333360"/>
            <a:ext cx="6378480" cy="12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VRAGEN</a:t>
            </a:r>
            <a:r>
              <a:rPr b="0" lang="nl-NL" sz="4000" spc="-1" strike="noStrike">
                <a:solidFill>
                  <a:srgbClr val="000000"/>
                </a:solidFill>
                <a:latin typeface="Century Gothic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484000" y="54900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TOEDIENING VAN WARMT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610920" y="2060640"/>
            <a:ext cx="70657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aatverwijding (vasodilatatie)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minderde spierspanning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hoogd celmetabolisme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171520" y="763560"/>
            <a:ext cx="6576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EFFECTEN VAN WARMTE TOEPASSING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684360" y="2530440"/>
            <a:ext cx="64180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minderen van pij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snelling van het ontstekingsproces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betering van het genezingsproces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521080" y="47592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WARMTE TOEPASSEN BIJ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54" name="Afbeelding 1" descr=""/>
          <p:cNvPicPr/>
          <p:nvPr/>
        </p:nvPicPr>
        <p:blipFill>
          <a:blip r:embed="rId1"/>
          <a:stretch/>
        </p:blipFill>
        <p:spPr>
          <a:xfrm>
            <a:off x="763560" y="2421000"/>
            <a:ext cx="7616880" cy="313056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593280" y="1773360"/>
            <a:ext cx="8550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84360" y="475920"/>
            <a:ext cx="6377040" cy="129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DROGE EN NATTE WARMTE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1280" y="2060640"/>
            <a:ext cx="70675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1. Stralingswarmte is droog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2. Geleidingswarmte: kan vochtig en droog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oorbeelden: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1.  lichtboog, warmtelamp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2.  elektrische deken/kussen, hot pack,  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  kruik, hete omslagen een vochtig/nat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  kompres en een bad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771280" y="1886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OBSERVATIEPUNTEN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10920" y="1844640"/>
            <a:ext cx="69958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ij straling: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Let op dat de lamp niet in aanraking komt met texti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Geen metalen voorwerpen , spuitbussen, papier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Geen crème en zalf nog op de huid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Littekens bedekk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Laat de zorgvrager melden al hij zich niet lekker voelt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195640" y="475920"/>
            <a:ext cx="6667200" cy="129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BIJ GELEIDINGSWARMTE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394920" y="1988640"/>
            <a:ext cx="8280360" cy="430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ees voorzichtig met toediening van droge geleidingswarmte bij een zv. met  een kwaadaardige tumor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Niet bij oedeem en acute ontstekingen, zwelling kan toenemen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ees voorzichtig bij zorgvragers met een stoornis in gevoelszin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Observeer de zv. hoe die reageert op de warmte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340000" y="333360"/>
            <a:ext cx="6912000" cy="12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TOEDIENING VAN KOUDE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34520" y="2276640"/>
            <a:ext cx="74278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aatvernauwing ( vasoconstrictie)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aling van de celmetabolisme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minderde spierspanning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Lokale anesthesie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340000" y="549000"/>
            <a:ext cx="7128000" cy="129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EFFECTEN VAN KOUDE TOEPASSEN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539640" y="2421000"/>
            <a:ext cx="70675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mindering zwelling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telping lokale bloeding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Pij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tragen van het ontstekingsproces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0:25:16Z</dcterms:created>
  <dc:creator>Koopmans</dc:creator>
  <dc:description/>
  <dc:language>en-US</dc:language>
  <cp:lastModifiedBy>Limpt, Julian van</cp:lastModifiedBy>
  <dcterms:modified xsi:type="dcterms:W3CDTF">2020-10-02T06:33:51Z</dcterms:modified>
  <cp:revision>26</cp:revision>
  <dc:subject/>
  <dc:title>Koude en warmtebehandel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312C1C14FABDD54C92D826838356CFE8</vt:lpwstr>
  </property>
</Properties>
</file>