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6C4B4-6C75-4D73-B46C-7A5852CAB6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58983-7C5A-4571-A415-459F623B9E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gesteld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440AF-2AE5-42D6-A84B-13C59967F4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58778-8A7F-4336-B730-88945A18298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21553-393A-4348-9C9E-A6B62E77EC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4310D-6707-4BBD-896A-2F355D9C23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9BB4D-8161-4F86-B893-6B3C0DA9A0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C2001-9C43-4A69-A431-FFEA6848326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590C6-4E2A-4C4D-A843-8D6296766A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0266E-18C4-442C-A0FE-C5E36F6DA88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07FBB-6728-4ACA-90CC-B9897EFC80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A7571-0B4C-4B82-BE79-FD2EB7B639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F6382-B99A-4023-B905-E91CF81BFE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13D42-1298-4838-9858-277E2EA9D2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FF0-6B2C-410F-AB81-D5D93098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DFA-3184-4E0E-95C8-7D59D603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00A-A258-427A-AEAD-FE248B37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008-9916-48AE-B79E-215A5DCD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593D-B6FB-4812-8C69-F49C7462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E4B1-7C95-49FA-B5DF-02C4C6F1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88DC-E991-411F-B349-17F26897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8DD5-DEFE-4802-8372-8520333C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47EF-2A09-4986-9014-43934DE4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55D7-C407-4592-B4FE-93B1DF4E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B7AC-DD0F-4E25-95B8-715CFB33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442-ED23-49E3-A072-1AE3F8DB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7B62-999A-4E5C-A1D0-3EDD041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9196-D232-4C93-8E69-53B577ED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D4D0-BE49-4B30-8F69-D1A50010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12DC-09B9-4B9D-90B5-B90AC224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E7C8-7A0C-4E5D-ADED-BC5E350D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3FAB-9378-499C-AA37-D611A94A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7C9F-50B3-48E2-82A0-D86F19A1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8DC5-C9F8-4BED-BB54-4F74729A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8AEA-47DB-4E64-9D57-2BFC6F96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EEAE-2D74-4FE6-BBF6-E0F34D53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E98-D9C6-4A6F-8B1D-81468124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B9D3-D2DC-43F8-B217-FF0DCF84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6F4B-51CA-4B3D-98D0-BACEFDE3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FFE43-0756-4173-9CF1-76363CBF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F066-4C65-4580-A2B7-E1986063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6B19-A95C-4104-99E7-6F042ACF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FFDB-F1E9-4AF5-ADE9-E155F15D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EBD0A-0D10-4A31-9BDA-59D2A106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AD88-B361-4039-858A-5D1A96B8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4AFF3-E86A-4C84-802F-BD1C0F15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EADC-26D9-49A3-89C3-6E9F914C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1D3-139C-4DF0-9101-7BB0884A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6BB00-46ED-4EC0-9532-CB25A8ED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25C5-BC8E-406A-BAEF-3FCEA4B9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164A8-96A3-40BA-B104-DEF596FB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E881-CDB0-4BD7-9B8B-8D61EDBA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B33D-BB38-4047-992A-29361F6C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E901-BF43-4044-A4A1-6142EB71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77826-90AF-49C2-BEB5-B38369FD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DB015-DAC8-4787-8ACD-4C4DD76C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CEB8F-D0BC-40AE-9C20-8AE689F8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1B01-A1AB-4A3C-97FD-F3D20CE2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4F2-ECA2-4321-90F4-B751E079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EFD43-912B-40AF-8651-FE7BB9D9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2A3B0-BC4E-4B27-83DB-8E436A88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C559F-AE55-4B37-9DC2-A855CFA6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787F9-77CA-4049-8CF4-683C02F8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1EBF5-D662-4C85-BA7F-0E762479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C6D26-6C98-4FB7-9DAD-6A16409E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387D5-14EA-4F17-A40E-76BDADE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B651F-D75C-46AB-A3ED-9DD9C067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E5F70-25E0-43C7-8C4A-4DAC2FD1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844B9-3083-45A3-A997-00F81160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DA7-C3F8-4C0F-89D8-E240AA99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FAF41-8E77-4FA2-BE1F-46A71632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D8F3B-E239-45C3-884A-0C44080B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BED57-06C5-4123-9D08-A28C4B10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9CD6E-A198-4FF0-86F8-EA4170FE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90F68-E09E-4359-A41F-A4534774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F0307-6CAB-4BC8-894E-50731472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B7D38-3295-4E72-97C9-935C704C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A967A-6CF8-492D-8060-82778CEC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D0821-D2E8-4C01-A158-261889D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03052-3D40-4D7F-9188-16BF8A39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164-3E34-42E3-B99D-12458DA0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F9041-3A3C-4EFE-BF99-B8AECC4A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FB2E7-D940-44C7-A94B-EAD81A57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322D4-F4D7-41A5-A7F0-6CD89B41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E90D9-E183-4279-94BC-E3367173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8D97D-DC16-4C5B-A0A7-AEB5FC76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2F04-F72C-4E5B-BA96-AC841EF9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D7DE8-E118-437C-9CAA-0102CDFE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A4CB5-39EA-4049-BC41-93222223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76A1-528E-45CC-9F17-94C9AED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B7570-496B-4DCF-BA94-395EE8B8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05D-CF44-430B-86F3-242EDC30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09E1C-8343-4B47-9AE1-11219F8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0BE52-74F2-47EB-80F1-7B4EBAE8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F7C74-B3B9-45E7-8F47-E60CA317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18562-FE2C-4C6B-A8FD-334FEA0C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4A151-BD73-4618-AE18-A70D777D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4F93E-59B0-4CB1-A2CE-2488F3E5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5573C-A429-4D0C-B31C-9170BD0A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66D25-B8D2-4F6C-8539-E4131B49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C55B2-BF76-475B-A266-15848F47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BEBA5-D852-4AA8-BF56-BCE86EA1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AF6-E44D-4653-ADEE-9A405BC0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52559-4D4F-44CD-B17E-481FEDBF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C3C06-214F-4C61-AA3D-D0A97C6D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F7FEA-C568-4622-912F-058121EE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23870-333F-4DED-BE94-11521C12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643D1-EDA0-4F30-8054-762D9656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DC2AF-16A3-4266-8320-20C02A3F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CE002-C740-4D98-B937-B06569C7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C2F8A-A892-4E3F-85F6-F90880432BAC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6C47F-0CEF-477A-8C57-76E363361BAF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6F2F9-8204-4BC7-8EAE-6671592694DF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8A9DC-BE80-4145-80D6-75203CA60106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29D9B-E262-441A-A247-A60954E22D9B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CD747-E7F7-4AAA-966B-4B9ACB270806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339B6-3ADF-4ECB-B2EE-ABCD64F59DF3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DCEF1-CAF4-48D6-92F8-F2CDD473A2F0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714672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sweek 5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 en warmte behandel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7" name="Afbeelding 4" descr=""/>
          <p:cNvPicPr/>
          <p:nvPr/>
        </p:nvPicPr>
        <p:blipFill>
          <a:blip r:embed="rId1"/>
          <a:stretch/>
        </p:blipFill>
        <p:spPr>
          <a:xfrm>
            <a:off x="5396040" y="476280"/>
            <a:ext cx="3289320" cy="1185840"/>
          </a:xfrm>
          <a:prstGeom prst="rect">
            <a:avLst/>
          </a:prstGeom>
          <a:ln w="0">
            <a:noFill/>
          </a:ln>
        </p:spPr>
      </p:pic>
      <p:sp>
        <p:nvSpPr>
          <p:cNvPr id="348" name="Rechthoek 1"/>
          <p:cNvSpPr/>
          <p:nvPr/>
        </p:nvSpPr>
        <p:spPr>
          <a:xfrm>
            <a:off x="826920" y="166212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Module 12: verpleegtechnisch handelen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KOUDE  TOEPASSEN BIJ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0920" y="1413000"/>
            <a:ext cx="6923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verbrand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won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kram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rauma’s van gewri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jecties, punctie plaats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uik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3960" y="549360"/>
            <a:ext cx="686412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DROG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2057400"/>
            <a:ext cx="6994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ldpack (koelelementen), koelmatras en  de ijsblaa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atie op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auwe verkleuring van de huid, bleke, vlekkerige huid, blaren, rillen, verdoofdheid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g de coldpack nooit zo op de hui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NATT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349000"/>
            <a:ext cx="56260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al toegepast d.m.v.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chtig kompr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ray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sponse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858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 BIJ KOU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39280" y="1773360"/>
            <a:ext cx="813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oeningen waarbij de waarneming verstoord is, verminderd of afwezi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lamming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ifere arterioscleros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kale of gehele anesthesi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wusteloosheid dan wel een verminderd bewustz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dunnere huid, zoals bij ouderen en kinder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(open) Wonden stoma’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edeem of littekenvorm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bcessen en /of ontstekinge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27400" y="33336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4000" y="54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TOEDIENING VAN WARMT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2060640"/>
            <a:ext cx="7065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wijding (vasodilatati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520" y="763560"/>
            <a:ext cx="6576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WARMTE TOEPASS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4360" y="2530440"/>
            <a:ext cx="6418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en van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nelling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betering van het genezingsproc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21080" y="475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RMTE TOEPASSEN BIJ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Afbeelding 1" descr=""/>
          <p:cNvPicPr/>
          <p:nvPr/>
        </p:nvPicPr>
        <p:blipFill>
          <a:blip r:embed="rId1"/>
          <a:stretch/>
        </p:blipFill>
        <p:spPr>
          <a:xfrm>
            <a:off x="763560" y="2421000"/>
            <a:ext cx="7616880" cy="3130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93280" y="1773360"/>
            <a:ext cx="855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84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ROGE EN NATTE WARMT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1280" y="206064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Stralingswarmte is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Geleidingswarmte: kan vochtig en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beelde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 lichtboog, warmtelam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 elektrische deken/kussen, hot pack, 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ruik, hete omslagen een vochtig/n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ompres en een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71280" y="188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0920" y="1844640"/>
            <a:ext cx="699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 straling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t op dat de lamp niet in aanraking komt met text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metalen voorwerpen , spuitbussen, papier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crème en zalf nog op de hui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ittekens bede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at de zorgvrager melden al hij zich niet lekker voelt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95640" y="475920"/>
            <a:ext cx="6667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IJ GELEIDINGSWARMT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4920" y="1988640"/>
            <a:ext cx="828036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met toediening van droge geleidingswarmte bij een zv. met  een kwaadaardige tumo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iet bij oedeem en acute ontstekingen, zwelling kan toenem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bij zorgvragers met een stoornis in gevoelszi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eer de zv. hoe die reageert op de warm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69120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DIENING VAN KOUD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34520" y="2276640"/>
            <a:ext cx="7427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nauwing ( vasoconstrictie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ling van de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le anesthes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40000" y="549000"/>
            <a:ext cx="71280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KOUDE TOEPASS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640" y="242100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ing zwell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telping lokale bloed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tragen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25:16Z</dcterms:created>
  <dc:creator>Koopmans</dc:creator>
  <dc:description/>
  <dc:language>en-US</dc:language>
  <cp:lastModifiedBy>Limpt, Julian van</cp:lastModifiedBy>
  <dcterms:modified xsi:type="dcterms:W3CDTF">2020-10-02T06:33:51Z</dcterms:modified>
  <cp:revision>26</cp:revision>
  <dc:subject/>
  <dc:title>Koude en warmtebehande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12C1C14FABDD54C92D826838356CFE8</vt:lpwstr>
  </property>
</Properties>
</file>