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0FCF1-31F3-47DA-B826-03DEF1BB3F7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1EBEF-E133-49E8-ABC7-3DC45F83C8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gesteld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38FE4-1626-4F47-A980-0054C20CFE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DDF93-30E8-4965-84E0-7FB451F0D1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A3EDC-361A-44C7-934E-B53ED051B6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37B9B-7B4C-447D-B5E1-5F34BB0BD8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0DC5F-D75F-40CE-B194-21C67412C2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2AC24-0B49-4C04-B6DC-39852EE9F8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6F874-A597-4C57-A8C0-C0E0A2F9E6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3B672-1D66-44FB-BD9E-9D602DE0FB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9A4DE-6A88-4B65-92AA-8F0F74DE01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54885-597D-4305-8557-D18934DFD17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BE756-BFB1-49A4-9B40-9E79A5B675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6E554-FB30-49B6-A2BB-86A8DE4213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86F-1F3E-4C4A-AF4C-0A8806C3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93F-DAA4-4233-BBE7-47756608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82B-A9F6-447A-B8C8-521E8A13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6A1-56B4-4473-AA01-876E8208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50B5-94B8-4EA4-A0BE-55F82F4C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34F8-915A-422F-B35A-70C7BD94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C323-C633-4C6E-AB3A-8409215A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EDC4-F30B-45E8-B9D2-FF2CB602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0511-32B1-4BF0-9A46-645770CD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F50D-4813-4997-8895-A8BDC7A1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19D9-C446-4909-B149-7A419074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EF0-A4A2-4E0B-9DCE-38823874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86E0-8AB4-42F6-B1C2-07B08615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547F-4C21-4AB4-9E2E-A355F628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BBFB-28DF-4BAF-B2E4-08A78C5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4ED8-9680-419F-A34E-1AD782EE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D1E1-CB10-432F-A8ED-1C0BA912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4468-AA6A-450C-BAB3-70DC9705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931A-84BE-4329-A0AE-3DA93B4C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65AC9-E474-4EEF-A4CF-9B55899D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FECC-31E6-4AE3-8EDE-374D37FC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ACF9-1763-41DB-BD2E-63EC4FBF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255-48B0-4D66-99BB-D60F9767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6EE0-CECA-47A2-801A-0DB85925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85A6-0B16-4B8E-B26F-98058DF7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A8BC-7DCC-4B32-9329-D9916FD7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FF56-A094-47AF-9CEB-4674B88C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A384-F6CE-4DEC-9EDB-067E63D2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1405-1A0E-4B0C-B052-FEC50DD2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AD8B0-8D5C-4513-A623-B741E37E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986D-8044-40BC-BD3F-1E127428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289D5-9E1D-40DE-8101-69F83B85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A8F1-4819-4AD4-8C0B-12323E78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C6F-8599-4549-AD38-FC8480AD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5B2E-966F-4444-ABA1-4CC61D19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EFCD-6AAA-43D3-8EBB-FE466720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D884-83BD-47ED-BFE7-7491314D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57E8-8045-4045-A383-AA0542B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68B1-6367-44A5-A679-6DDD3FA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D588-4E95-48A3-8F4E-D857E776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D5CC5-84B4-45BF-9940-85E02412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DEB7-A95D-46F9-9AEF-945CB123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7006-5A53-4CC1-BA77-9BE95325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67DA7-A1FF-4BBE-907F-D2BBF168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5C2-9135-421D-A2E1-B599DCA0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6113D-4642-4322-8F1F-110E45FD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33790-827D-46BF-8E35-EFF54EA5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7EAA-30BF-4071-8146-6BE73140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16BB0-C831-4EFC-A194-7CFAF792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C3D2F-1EA7-4646-B88C-51CA28B3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CCF66-19E2-4355-84D9-66C915D1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DF9C-C1B4-42E2-A008-B362C7D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D0404-6D28-4620-8924-C217088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2A8AA-33FD-4951-B180-058BDF8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A53D-D965-451B-B850-2098D09F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CF1-0AD6-46B7-9495-1D0419FD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CA9AB-9D47-44C5-9820-333DD80D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DB388-BC2C-422B-BC50-E7F1A8C6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E819-799E-46E7-ABBB-52E314E1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47087-CDED-4B68-AC2A-D1F024AF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1AF19-1066-4344-B40F-C45B28D9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B4F6-E73D-4D77-8863-98DD3DA2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8D3DB-0EA7-41DF-86A8-874162B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3F7BD-8116-4846-94A5-3B726BC7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EBBDC-C0C8-49D8-AFBA-FB5CCF6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3D0FE-DE09-4420-91DD-EBADB367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713-1349-4215-A5B0-165764EC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D66E-6048-4EF7-86AF-C1FB0B1F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891D0-7FE5-4CFE-A2B2-AEF00D9C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EDA37-D958-4334-8BB8-7C438BFF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E2FFE-86F5-4FB5-9D6C-43939303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68DAA-84A3-49FC-9DB2-1916C731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2F336-75A8-4CCD-9E01-BECE2F66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2CE2C-CD28-4166-AAF0-106E9BD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606B-924A-4B3C-8605-C79FE727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F11E3-2E17-4E8E-9989-4BF299FC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3F6FE-29A4-4DAF-A796-73CC6EEF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AFC-670B-48AF-B699-1E409B2B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4B659-558A-4FCF-9D22-5C306CA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2C579-727B-4E0F-A922-B9F52392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A3CC0-B4CF-408F-BA9B-9725D0F5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69BE6-53A6-4495-9F5C-DC0A5FA9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A1B0F-C994-4149-AC40-6EA81646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57A82-B523-4BA6-8DF5-D06F3AFD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2F308-DDF3-490D-B3D2-4F3E8BCD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8528C-FF9D-4E3D-B2EC-829289A9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BE92E-526B-4364-BCEE-AC4ACE4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EE23F-9DB9-46D3-9896-75E4BEBB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63E-984F-4829-959E-00218D02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7519E-8A95-475C-A4BE-E9819DB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B4F6C-2C76-4C15-A0EA-36DCC638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9F997-B60F-47C0-8023-A125785D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B10D0-034C-42E1-95A9-3616F6AC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22222-F14F-467F-8037-A16A051D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71BDF-2854-4F02-916C-8D2F4D97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D324C-57B2-4BFA-80A6-2F5513C3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918E0-528C-48F2-A1F9-36B7D3D60C5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61528-E231-4532-A4FB-09FF6D96284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5700F-B4D3-4983-9D07-C17C1CFDDF8A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FB0AE-CC21-4765-90FB-1D866659237B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FD294-ECF5-4E45-B5FF-F559D90A513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DCC33-5BE5-4AEA-A2A6-BCB6A6F5596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54C9D-C576-4E4A-AD8B-A9B6DCEE555C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FFB91-1091-4AD1-833A-84DA6F29B4E8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7146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sweek 5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 en warmte behandel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7" name="Afbeelding 4" descr=""/>
          <p:cNvPicPr/>
          <p:nvPr/>
        </p:nvPicPr>
        <p:blipFill>
          <a:blip r:embed="rId1"/>
          <a:stretch/>
        </p:blipFill>
        <p:spPr>
          <a:xfrm>
            <a:off x="5396040" y="476280"/>
            <a:ext cx="3289320" cy="1185840"/>
          </a:xfrm>
          <a:prstGeom prst="rect">
            <a:avLst/>
          </a:prstGeom>
          <a:ln w="0">
            <a:noFill/>
          </a:ln>
        </p:spPr>
      </p:pic>
      <p:sp>
        <p:nvSpPr>
          <p:cNvPr id="348" name="Rechthoek 1"/>
          <p:cNvSpPr/>
          <p:nvPr/>
        </p:nvSpPr>
        <p:spPr>
          <a:xfrm>
            <a:off x="826920" y="166212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2: verpleegtechnisch handelen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KOUDE  TOEPASSEN BIJ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0920" y="1413000"/>
            <a:ext cx="6923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verbrand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won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kram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rauma’s van gewri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jecties, punctie plaats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uik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549360"/>
            <a:ext cx="686412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DROG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2057400"/>
            <a:ext cx="6994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ldpack (koelelementen), koelmatras en  de ijsblaa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atie op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auwe verkleuring van de huid, bleke, vlekkerige huid, blaren, rillen, verdoofdheid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g de coldpack nooit zo op de hui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NATT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349000"/>
            <a:ext cx="5626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al toegepast d.m.v.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chtig kompr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ray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spons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858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 BIJ KOU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280" y="1773360"/>
            <a:ext cx="813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oeningen waarbij de waarneming verstoord is, verminderd of afwez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lamming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ifere arteriosclero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kale of gehele anesthesi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wusteloosheid dan wel een verminderd bewustz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dunnere huid, zoals bij ouderen en kinder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(open) Wonden stoma’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edeem of littekenvorm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bcessen en /of ontstekinge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7400" y="33336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4000" y="54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TOEDIENING VAN WARMT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2060640"/>
            <a:ext cx="7065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wijding (vasodilatati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520" y="763560"/>
            <a:ext cx="6576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WARMTE TOEPASS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360" y="2530440"/>
            <a:ext cx="6418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en van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nelling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betering van het genezingsproc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21080" y="475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RMTE TOEPASSEN BIJ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1" descr=""/>
          <p:cNvPicPr/>
          <p:nvPr/>
        </p:nvPicPr>
        <p:blipFill>
          <a:blip r:embed="rId1"/>
          <a:stretch/>
        </p:blipFill>
        <p:spPr>
          <a:xfrm>
            <a:off x="763560" y="2421000"/>
            <a:ext cx="7616880" cy="3130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93280" y="1773360"/>
            <a:ext cx="855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ROGE EN NATTE WARMT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206064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Stralingswarmte is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Geleidingswarmte: kan vochtig en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beelde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 lichtboog, warmtelam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 elektrische deken/kussen, hot pack, 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ruik, hete omslagen een vochtig/n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ompres en een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1844640"/>
            <a:ext cx="699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 straling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t op dat de lamp niet in aanraking komt met text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metalen voorwerpen , spuitbussen, papier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crème en zalf nog op de hui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ttekens bede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at de zorgvrager melden al hij zich niet lekker voelt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6667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IJ GELEIDINGSWARMT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4920" y="1988640"/>
            <a:ext cx="828036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met toediening van droge geleidingswarmte bij een zv. met  een kwaadaardige tum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iet bij oedeem en acute ontstekingen, zwelling kan toenem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bij zorgvragers met een stoornis in gevoelszi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eer de zv. hoe die reageert op de warm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912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DIENING VAN KOUD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34520" y="2276640"/>
            <a:ext cx="7427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nauwing ( vasoconstricti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ling van de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le anesthes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71280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KOUDE TOEPASS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242100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ing zwell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telping lokale bloed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tragen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25:16Z</dcterms:created>
  <dc:creator>Koopmans</dc:creator>
  <dc:description/>
  <dc:language>en-US</dc:language>
  <cp:lastModifiedBy>Limpt, Julian van</cp:lastModifiedBy>
  <dcterms:modified xsi:type="dcterms:W3CDTF">2020-10-02T06:33:51Z</dcterms:modified>
  <cp:revision>26</cp:revision>
  <dc:subject/>
  <dc:title>Koude en warmtebehand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12C1C14FABDD54C92D826838356CFE8</vt:lpwstr>
  </property>
</Properties>
</file>