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7C25-04AA-48BB-BF21-7995C40C3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083E-E4C5-45A4-A381-0A67CA7B4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AB43-B620-4D4F-B860-19B18657A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659D-DEC6-488B-8AB4-55A09637B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4954-E8A5-4935-97A7-2A491ABD1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AA87-7443-4403-BB5C-2B528AD44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81B6-91C5-4EE5-8AE4-19A2C5703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ED8D-C1B3-40FE-9CB9-31EE73B0C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FB9B-1B8D-4DD1-845B-000A58633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0B02-F98B-4861-9CCF-7AAAE303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52A3-1943-4F42-B607-8E305CA2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2138-1B0B-43D0-BC31-DF1782B2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f2ff"/>
            </a:gs>
            <a:gs pos="100000">
              <a:srgbClr val="708aa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F12F2-7DF5-446B-B03D-3719722F8C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ntranet.grundel.nl/grassroots/biologie/Waarnemen/html/huid%20schematisch1.jpg" TargetMode="External"/><Relationship Id="rId2" Type="http://schemas.openxmlformats.org/officeDocument/2006/relationships/hyperlink" Target="http://intranet.grundel.nl/grassroots/biologie/Waarnemen/html/huid%20schematisch1.jpg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 Unicode MS"/>
              </a:rPr>
              <a:t>Wondzorg</a:t>
            </a:r>
            <a:r>
              <a:rPr b="0" lang="nl-NL" sz="4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8862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0000"/>
                </a:solidFill>
                <a:latin typeface="Calibri"/>
              </a:rPr>
              <a:t>Rood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4000" spc="-1" strike="noStrike">
                <a:solidFill>
                  <a:srgbClr val="ffff00"/>
                </a:solidFill>
                <a:latin typeface="Calibri"/>
              </a:rPr>
              <a:t>Geel 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4000" spc="-1" strike="noStrike">
                <a:solidFill>
                  <a:srgbClr val="000000"/>
                </a:solidFill>
                <a:latin typeface="Calibri"/>
              </a:rPr>
              <a:t>Zwar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2949480"/>
            <a:ext cx="9144000" cy="960480"/>
            <a:chOff x="0" y="2949480"/>
            <a:chExt cx="9144000" cy="960480"/>
          </a:xfrm>
        </p:grpSpPr>
        <p:sp>
          <p:nvSpPr>
            <p:cNvPr id="44" name="Rectangle 5"/>
            <p:cNvSpPr/>
            <p:nvPr/>
          </p:nvSpPr>
          <p:spPr>
            <a:xfrm>
              <a:off x="0" y="29494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0" y="2949480"/>
              <a:ext cx="914400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900" spc="-1" strike="noStrike" u="sng">
                  <a:solidFill>
                    <a:srgbClr val="eb8803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nl-NL" sz="57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nl-NL" sz="9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" name="Picture 7" descr="Bekijk de afbeelding op ware groott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380880"/>
            <a:ext cx="31687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ternationale verenig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ieuwe en betere materia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zichten bunde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o aan werkv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lassificatie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d: meer gestructureerde wondbehan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Tijdelijke aanduiding voor inhoud 8" descr="granulatieweefsel.bmp"/>
          <p:cNvPicPr/>
          <p:nvPr/>
        </p:nvPicPr>
        <p:blipFill>
          <a:blip r:embed="rId1"/>
          <a:stretch/>
        </p:blipFill>
        <p:spPr>
          <a:xfrm>
            <a:off x="533520" y="1828800"/>
            <a:ext cx="3560760" cy="2666880"/>
          </a:xfrm>
          <a:prstGeom prst="rect">
            <a:avLst/>
          </a:prstGeom>
          <a:ln w="0">
            <a:noFill/>
          </a:ln>
        </p:spPr>
      </p:pic>
      <p:pic>
        <p:nvPicPr>
          <p:cNvPr id="74" name="Tijdelijke aanduiding voor inhoud 9" descr="granulatieweefsel 1.bmp"/>
          <p:cNvPicPr/>
          <p:nvPr/>
        </p:nvPicPr>
        <p:blipFill>
          <a:blip r:embed="rId2"/>
          <a:stretch/>
        </p:blipFill>
        <p:spPr>
          <a:xfrm>
            <a:off x="4952880" y="3352680"/>
            <a:ext cx="3308400" cy="25146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0000"/>
                </a:solidFill>
                <a:latin typeface="Calibri"/>
              </a:rPr>
              <a:t>Rode wo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bservatie bij wondzor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bandmateria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mliggende hu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1. verbandmateria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eveelheid verbandmateria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o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Afbeelding 3" descr="netverband.jpg"/>
          <p:cNvPicPr/>
          <p:nvPr/>
        </p:nvPicPr>
        <p:blipFill>
          <a:blip r:embed="rId1"/>
          <a:stretch/>
        </p:blipFill>
        <p:spPr>
          <a:xfrm>
            <a:off x="5181480" y="2989440"/>
            <a:ext cx="2971800" cy="26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2. Won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root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ec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emato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llergische reac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ondran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Afbeelding 3" descr="gele wond.jpg"/>
          <p:cNvPicPr/>
          <p:nvPr/>
        </p:nvPicPr>
        <p:blipFill>
          <a:blip r:embed="rId1"/>
          <a:stretch/>
        </p:blipFill>
        <p:spPr>
          <a:xfrm>
            <a:off x="3657600" y="1447920"/>
            <a:ext cx="3510000" cy="2666880"/>
          </a:xfrm>
          <a:prstGeom prst="rect">
            <a:avLst/>
          </a:prstGeom>
          <a:ln w="0">
            <a:noFill/>
          </a:ln>
        </p:spPr>
      </p:pic>
      <p:pic>
        <p:nvPicPr>
          <p:cNvPr id="86" name="Afbeelding 4" descr="rode wond.jpg"/>
          <p:cNvPicPr/>
          <p:nvPr/>
        </p:nvPicPr>
        <p:blipFill>
          <a:blip r:embed="rId2"/>
          <a:stretch/>
        </p:blipFill>
        <p:spPr>
          <a:xfrm>
            <a:off x="4572000" y="3429000"/>
            <a:ext cx="397188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3. Omliggende hui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schadigin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uid turg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empera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edeemvorm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(terug naar vorige plaatje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0000"/>
                </a:solidFill>
                <a:latin typeface="Calibri"/>
              </a:rPr>
              <a:t>Rode won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oon wondoppervl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ranulerende bod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han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chtig hou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oonhoud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komen van beschadi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ragen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 Unicode MS"/>
              </a:rPr>
              <a:t>Soorten won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Open wond = huid verbrok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Bv. snij/steek/chirurgis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Gesloten wond = huid inta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Bv. kneuzing, bloeduitstorting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Afbeelding 5" descr="snijwond.bmp"/>
          <p:cNvPicPr/>
          <p:nvPr/>
        </p:nvPicPr>
        <p:blipFill>
          <a:blip r:embed="rId1"/>
          <a:stretch/>
        </p:blipFill>
        <p:spPr>
          <a:xfrm>
            <a:off x="6324480" y="2057400"/>
            <a:ext cx="2486160" cy="1838160"/>
          </a:xfrm>
          <a:prstGeom prst="rect">
            <a:avLst/>
          </a:prstGeom>
          <a:ln w="0">
            <a:noFill/>
          </a:ln>
        </p:spPr>
      </p:pic>
      <p:pic>
        <p:nvPicPr>
          <p:cNvPr id="50" name="Afbeelding 6" descr="bloeduitstorting.jpg"/>
          <p:cNvPicPr/>
          <p:nvPr/>
        </p:nvPicPr>
        <p:blipFill>
          <a:blip r:embed="rId2"/>
          <a:stretch/>
        </p:blipFill>
        <p:spPr>
          <a:xfrm>
            <a:off x="6477120" y="4648320"/>
            <a:ext cx="231444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Oorzak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Mechanisch (scherp/ sto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Thermisc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Chemi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Elektri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Straling </a:t>
            </a:r>
            <a:r>
              <a:rPr b="0" lang="nl-NL" sz="2000" spc="-1" strike="noStrike">
                <a:solidFill>
                  <a:srgbClr val="000000"/>
                </a:solidFill>
                <a:latin typeface="Arial Unicode MS"/>
              </a:rPr>
              <a:t>(zon, laser en radiotherapi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Infect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Circulatiestoorn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Oncologi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Arial Unicode MS"/>
              </a:rPr>
              <a:t>Wondgenez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 Unicode MS"/>
              </a:rPr>
              <a:t>Primaire genezing </a:t>
            </a: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(eenvoudi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Spoelen-drogen-stollingsproces-korstje-granulatieweefsel + huid-korstje eraf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 Unicode MS"/>
              </a:rPr>
              <a:t>Secundaire genezing </a:t>
            </a: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(complex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Grootte-diepte-onregelmatig-vuil-ontsteking-dode/slechtdoorbloede hui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16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330120" y="406440"/>
            <a:ext cx="8407440" cy="57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ondverzorg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Lichamelijke zor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t herst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komt complicaties (vertragen herste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en do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oonmaken w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smetting voorko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ijn voorko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5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ondverzorg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Psychische zor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lijven zichtba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Functie verl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ontracturen door verschromp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en do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ormatie, eerlijk, tijd, luister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ondverzorg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ociale zor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ieze, stinkende wond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sole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en do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oede wondzorg, overlast beperken, luisteren, contact met instanties/lotgenot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CS </a:t>
            </a:r>
            <a:br>
              <a:rPr sz="4400"/>
            </a:br>
            <a:r>
              <a:rPr b="0" lang="nl-NL" sz="2000" spc="-1" strike="noStrike">
                <a:solidFill>
                  <a:srgbClr val="000000"/>
                </a:solidFill>
                <a:latin typeface="Arial Unicode MS"/>
              </a:rPr>
              <a:t>woundcare consultant socie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8120" y="5866920"/>
            <a:ext cx="411480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Classificatie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Group 4"/>
          <p:cNvGrpSpPr/>
          <p:nvPr/>
        </p:nvGrpSpPr>
        <p:grpSpPr>
          <a:xfrm>
            <a:off x="1938240" y="1647720"/>
            <a:ext cx="4786200" cy="3311640"/>
            <a:chOff x="1938240" y="1647720"/>
            <a:chExt cx="4786200" cy="3311640"/>
          </a:xfrm>
        </p:grpSpPr>
        <p:sp>
          <p:nvSpPr>
            <p:cNvPr id="66" name="Rectangle 5"/>
            <p:cNvSpPr/>
            <p:nvPr/>
          </p:nvSpPr>
          <p:spPr>
            <a:xfrm>
              <a:off x="1938240" y="1647720"/>
              <a:ext cx="4786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oup 6"/>
            <p:cNvGrpSpPr/>
            <p:nvPr/>
          </p:nvGrpSpPr>
          <p:grpSpPr>
            <a:xfrm>
              <a:off x="1938240" y="1780920"/>
              <a:ext cx="3500280" cy="3178440"/>
              <a:chOff x="1938240" y="1780920"/>
              <a:chExt cx="3500280" cy="3178440"/>
            </a:xfrm>
          </p:grpSpPr>
          <p:sp>
            <p:nvSpPr>
              <p:cNvPr id="68" name="Rectangle 7"/>
              <p:cNvSpPr/>
              <p:nvPr/>
            </p:nvSpPr>
            <p:spPr>
              <a:xfrm>
                <a:off x="1938240" y="1780920"/>
                <a:ext cx="35002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8"/>
              <p:cNvSpPr/>
              <p:nvPr/>
            </p:nvSpPr>
            <p:spPr>
              <a:xfrm>
                <a:off x="1938240" y="1780920"/>
                <a:ext cx="3214800" cy="317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700" spc="-1" strike="noStrike">
                    <a:solidFill>
                      <a:srgbClr val="990000"/>
                    </a:solidFill>
                    <a:latin typeface="Verdana"/>
                  </a:rPr>
                  <a:t>  </a:t>
                </a:r>
                <a:r>
                  <a:rPr b="0" lang="nl-NL" sz="21300" spc="-1" strike="noStrike">
                    <a:solidFill>
                      <a:srgbClr val="990000"/>
                    </a:solidFill>
                    <a:latin typeface="Verdana"/>
                  </a:rPr>
                  <a:t> </a:t>
                </a:r>
                <a:r>
                  <a:rPr b="0" lang="nl-NL" sz="700" spc="-1" strike="noStrike">
                    <a:solidFill>
                      <a:srgbClr val="99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70" name="Picture 9" descr="classificatiemodel"/>
          <p:cNvPicPr/>
          <p:nvPr/>
        </p:nvPicPr>
        <p:blipFill>
          <a:blip r:embed="rId1"/>
          <a:stretch/>
        </p:blipFill>
        <p:spPr>
          <a:xfrm>
            <a:off x="1295280" y="1447920"/>
            <a:ext cx="6491520" cy="42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8T12:02:12Z</dcterms:created>
  <dc:creator>j.snitjer</dc:creator>
  <dc:description/>
  <dc:language>en-US</dc:language>
  <cp:lastModifiedBy>E. Scheltens-Flink</cp:lastModifiedBy>
  <dcterms:modified xsi:type="dcterms:W3CDTF">2015-08-23T15:02:03Z</dcterms:modified>
  <cp:revision>24</cp:revision>
  <dc:subject/>
  <dc:title>Decubitus </dc:title>
</cp:coreProperties>
</file>