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9D9E48-0D44-4C19-8F3D-7A91F8117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8EED7-F883-4FB6-8352-AA5C40EEC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26629F-2C92-4BF8-BF71-1423CCEFE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5A9BC2-CA11-4D22-B92D-64071195F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B7FA2D-CBCD-416B-8A13-56D43EA049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D7A502-E84F-4D92-A200-935A2EE928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294434-CF0E-4231-B82B-A709274999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481397-A571-4D21-81E0-6033A7D129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26F3AF-FDEE-490F-B2AA-B34B131C1B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195B58-9EBB-43A3-80E3-A9F7E715B5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81F0A-3FCD-423F-A13A-6D468B4F4F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F0F83-89A3-46D0-9665-8D119B247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C0DD08-6D31-4A63-BBC8-392E752FA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9895B-13B0-4285-8C0E-112870DFA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40183D-953A-489C-B917-54FB494B03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B05035-B26C-44B2-BB0E-E9308C52AB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ED3C9E-EDFA-4449-AB60-31674520AB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4814F9-C875-4760-AF80-53B02069C6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C3D1ED-536E-499A-A5F8-1A5609A21A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3E1B05-1575-4379-8870-C06E26A3C7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1CA7CA-E7C1-4AD1-81B7-5D07FB93C5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9F35CD-B27C-414A-A0C2-F38375399E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5FAB7-C230-48D5-ADD3-D7422A8FB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DD6A91-9971-43DA-83E5-1CE8687A3F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A95C0A-E052-4B7E-ADE8-E17E70D3F2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8CD7F0-19B1-4540-8F19-D354E4477F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296E7B-F08A-499B-AC83-B1FE6C7E31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D7914A-1B96-4A8D-AFE2-83E9F6726F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4EC316-874C-4A1D-AF2D-29F42074F9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34E21E-964A-4FD5-979F-853C52F2B6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8AD485-BB66-4E2B-8F5C-F878114F56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EB324E-8DD4-4C46-93FA-789A28D999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1AC3FC-53BF-4624-8F90-8C7BAE997D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608B2-1BDB-4584-8554-4B2D58B9F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051E58-5621-4332-9CE8-DF127024EC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C67402-9F0C-42AB-8F0F-CD084BF51B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74D64A-6BE6-4DC4-8642-35058A51B1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014742-5988-43F3-81AA-8AA16F3467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B74187-49EB-437F-BEBE-14218206D0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18F7E0-5D4F-41BE-9412-8AFBD8F2F5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8279E3-2EDB-4483-9EC2-C42781225A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E5B8CA-691E-4B82-9A58-FB6810955A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FACC77-4160-49EC-AB3D-87EC1364FE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8A2F2-1145-4CE8-A73E-C95345C61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A99ED-0236-45EE-A0D4-491AF1E1A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EA843-7F84-4C4D-B88F-5F5376D79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39059-F3B3-4A8A-A9FB-E1A28ECF6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F4BF1-E015-410F-9C85-DE60FD9D5E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A8226D-322C-4C33-B657-DBE3DC9E598F}"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5"/>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Straight Connector 16"/>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 name="Straight Connector 18"/>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0" name="Straight Connector 20"/>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1" name="Straight Connector 22"/>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C6C80D-6CD4-4AD7-9E2F-65BA16710E10}"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99" name="TextBox 13"/>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0" name="TextBox 14"/>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BCAA2F-F072-4A47-B5EE-45E22F9E6343}"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48" name="TextBox 10"/>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49" name="TextBox 11"/>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AAF2D9-8697-4D22-996F-490634D57DAF}"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685440"/>
            <a:ext cx="8001000" cy="2971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entury Gothic"/>
              </a:rPr>
              <a:t>UITSCHEIDINGSSTELSEL;</a:t>
            </a:r>
            <a:br>
              <a:rPr sz="4800"/>
            </a:b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URINE.</a:t>
            </a:r>
            <a:endParaRPr b="0" lang="en-US" sz="4800" spc="-1" strike="noStrike">
              <a:solidFill>
                <a:srgbClr val="ffffff"/>
              </a:solidFill>
              <a:latin typeface="Century Gothic"/>
            </a:endParaRPr>
          </a:p>
        </p:txBody>
      </p:sp>
      <p:sp>
        <p:nvSpPr>
          <p:cNvPr id="192" name="PlaceHolder 2"/>
          <p:cNvSpPr>
            <a:spLocks noGrp="1"/>
          </p:cNvSpPr>
          <p:nvPr>
            <p:ph type="subTitle"/>
          </p:nvPr>
        </p:nvSpPr>
        <p:spPr>
          <a:xfrm>
            <a:off x="684360" y="3843000"/>
            <a:ext cx="6400800" cy="1947960"/>
          </a:xfrm>
          <a:prstGeom prst="rect">
            <a:avLst/>
          </a:prstGeom>
          <a:noFill/>
          <a:ln w="0">
            <a:noFill/>
          </a:ln>
        </p:spPr>
        <p:txBody>
          <a:bodyPr lIns="0" rIns="0" tIns="0" bIns="0" anchor="t">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1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LONGEN (PULMONES)</a:t>
            </a:r>
            <a:endParaRPr b="0" lang="en-US" sz="3600" spc="-1" strike="noStrike">
              <a:solidFill>
                <a:srgbClr val="ffffff"/>
              </a:solidFill>
              <a:latin typeface="Century Gothic"/>
            </a:endParaRPr>
          </a:p>
        </p:txBody>
      </p:sp>
      <p:sp>
        <p:nvSpPr>
          <p:cNvPr id="21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ijdens de uitademing, expiratie, vindt via de longblaasjes gasuitwisseling plaats. Onder andere kooldioxide en waterdamp worden op deze wijze uitgeademd.</a:t>
            </a:r>
            <a:endParaRPr b="0" lang="en-US" sz="2000" spc="-1" strike="noStrike">
              <a:solidFill>
                <a:srgbClr val="0f496f"/>
              </a:solidFill>
              <a:latin typeface="Century Gothic"/>
            </a:endParaRPr>
          </a:p>
        </p:txBody>
      </p:sp>
      <p:pic>
        <p:nvPicPr>
          <p:cNvPr id="214" name="Afbeelding 3" descr=""/>
          <p:cNvPicPr/>
          <p:nvPr/>
        </p:nvPicPr>
        <p:blipFill>
          <a:blip r:embed="rId1"/>
          <a:stretch/>
        </p:blipFill>
        <p:spPr>
          <a:xfrm>
            <a:off x="6732720" y="3260880"/>
            <a:ext cx="2611440" cy="19429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NIEREN (RENES)</a:t>
            </a:r>
            <a:endParaRPr b="0" lang="en-US" sz="3600" spc="-1" strike="noStrike">
              <a:solidFill>
                <a:srgbClr val="ffffff"/>
              </a:solidFill>
              <a:latin typeface="Century Gothic"/>
            </a:endParaRPr>
          </a:p>
        </p:txBody>
      </p:sp>
      <p:sp>
        <p:nvSpPr>
          <p:cNvPr id="21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ze organen regelen de hoeveelheid en de samenstelling van de lichaamsvloeistoffen. Ze filteren het bloed en zijn nodig om het bloed zuiver te houden. Het eindproduct verlaat als urine het lichaam.</a:t>
            </a:r>
            <a:endParaRPr b="0" lang="en-US" sz="2000" spc="-1" strike="noStrike">
              <a:solidFill>
                <a:srgbClr val="0f496f"/>
              </a:solidFill>
              <a:latin typeface="Century Gothic"/>
            </a:endParaRPr>
          </a:p>
        </p:txBody>
      </p:sp>
      <p:pic>
        <p:nvPicPr>
          <p:cNvPr id="217" name="Afbeelding 3" descr=""/>
          <p:cNvPicPr/>
          <p:nvPr/>
        </p:nvPicPr>
        <p:blipFill>
          <a:blip r:embed="rId1"/>
          <a:stretch/>
        </p:blipFill>
        <p:spPr>
          <a:xfrm>
            <a:off x="6794640" y="3002040"/>
            <a:ext cx="2330280" cy="2330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ID (CUTIS)</a:t>
            </a:r>
            <a:endParaRPr b="0" lang="en-US" sz="3600" spc="-1" strike="noStrike">
              <a:solidFill>
                <a:srgbClr val="ffffff"/>
              </a:solidFill>
              <a:latin typeface="Century Gothic"/>
            </a:endParaRPr>
          </a:p>
        </p:txBody>
      </p:sp>
      <p:sp>
        <p:nvSpPr>
          <p:cNvPr id="21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speelt een belangrijke rol bij warmte en koude door zich aan te passen aan de omgevingstemperatuur.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is een uitscheidingsorgaan, omdat via de huid de lichaamswarmte en het transpiratievocht het lichaam kunnen verlaten.</a:t>
            </a:r>
            <a:endParaRPr b="0" lang="en-US" sz="2000" spc="-1" strike="noStrike">
              <a:solidFill>
                <a:srgbClr val="0f496f"/>
              </a:solidFill>
              <a:latin typeface="Century Gothic"/>
            </a:endParaRPr>
          </a:p>
        </p:txBody>
      </p:sp>
      <p:pic>
        <p:nvPicPr>
          <p:cNvPr id="220" name="Afbeelding 3" descr=""/>
          <p:cNvPicPr/>
          <p:nvPr/>
        </p:nvPicPr>
        <p:blipFill>
          <a:blip r:embed="rId1"/>
          <a:stretch/>
        </p:blipFill>
        <p:spPr>
          <a:xfrm>
            <a:off x="6091200" y="3446640"/>
            <a:ext cx="4210200" cy="2863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WEGSTELSEL</a:t>
            </a:r>
            <a:endParaRPr b="0" lang="en-US" sz="3600" spc="-1" strike="noStrike">
              <a:solidFill>
                <a:srgbClr val="ffffff"/>
              </a:solidFill>
              <a:latin typeface="Century Gothic"/>
            </a:endParaRPr>
          </a:p>
        </p:txBody>
      </p:sp>
      <p:sp>
        <p:nvSpPr>
          <p:cNvPr id="222"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bestaat uit:</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eide urineleiders (urether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laas (vesica urinaria)</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Urinebuis (urethra)</a:t>
            </a:r>
            <a:endParaRPr b="0" lang="en-US" sz="1800" spc="-1" strike="noStrike">
              <a:solidFill>
                <a:srgbClr val="0f496f"/>
              </a:solidFill>
              <a:latin typeface="Century Gothic"/>
            </a:endParaRPr>
          </a:p>
        </p:txBody>
      </p:sp>
      <p:pic>
        <p:nvPicPr>
          <p:cNvPr id="223" name="Afbeelding 3" descr=""/>
          <p:cNvPicPr/>
          <p:nvPr/>
        </p:nvPicPr>
        <p:blipFill>
          <a:blip r:embed="rId1"/>
          <a:stretch/>
        </p:blipFill>
        <p:spPr>
          <a:xfrm>
            <a:off x="6480000" y="1766880"/>
            <a:ext cx="2976840" cy="31273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OBSERVEREN VAN URINE</a:t>
            </a:r>
            <a:endParaRPr b="0" lang="en-US" sz="3600" spc="-1" strike="noStrike">
              <a:solidFill>
                <a:srgbClr val="ffffff"/>
              </a:solidFill>
              <a:latin typeface="Century Gothic"/>
            </a:endParaRPr>
          </a:p>
        </p:txBody>
      </p:sp>
      <p:sp>
        <p:nvSpPr>
          <p:cNvPr id="22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Lichamelijke aandoeningen kunnen zich uiten in onder meer afwijkende observatiepunten aan de urine.</a:t>
            </a:r>
            <a:endParaRPr b="0" lang="en-US" sz="2000" spc="-1" strike="noStrike">
              <a:solidFill>
                <a:srgbClr val="0f496f"/>
              </a:solidFill>
              <a:latin typeface="Century Gothic"/>
            </a:endParaRPr>
          </a:p>
          <a:p>
            <a:pPr marL="285840" indent="-28584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6 observatiepunten.</a:t>
            </a:r>
            <a:endParaRPr b="0" lang="en-US" sz="20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1.frequentie</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2.hoeveel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3.kl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4.helder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5.g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6. wijze van urineren.</a:t>
            </a:r>
            <a:endParaRPr b="0" lang="en-US" sz="16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5">
                                            <p:txEl>
                                              <p:pRg st="3" end="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5">
                                            <p:txEl>
                                              <p:pRg st="4" end="4"/>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5">
                                            <p:txEl>
                                              <p:pRg st="5" end="5"/>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25">
                                            <p:txEl>
                                              <p:pRg st="6" end="6"/>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5">
                                            <p:txEl>
                                              <p:pRg st="7" end="7"/>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FREQUENTIE</a:t>
            </a:r>
            <a:endParaRPr b="0" lang="en-US" sz="3600" spc="-1" strike="noStrike">
              <a:solidFill>
                <a:srgbClr val="ffffff"/>
              </a:solidFill>
              <a:latin typeface="Century Gothic"/>
            </a:endParaRPr>
          </a:p>
        </p:txBody>
      </p:sp>
      <p:sp>
        <p:nvSpPr>
          <p:cNvPr id="227" name=""/>
          <p:cNvSpPr txBox="1"/>
          <p:nvPr/>
        </p:nvSpPr>
        <p:spPr>
          <a:xfrm>
            <a:off x="684360" y="685440"/>
            <a:ext cx="8534160" cy="411804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Frequentie kan verhoogd zijn = frequentie mictie.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Vooral s’nachts kan dit zeer lasting zijn en kan het een goede nachtrust in de weg zitten. Hiervoor zijn verschillende oorzaken: nervositeit, diabetes mellitus, blaasontsteking (=cystitis), zwangerschap en gebruik van vochtuitdrijvende middelen.</a:t>
            </a:r>
            <a:endParaRPr b="0" lang="en-US" sz="1700" spc="-1" strike="noStrike">
              <a:solidFill>
                <a:srgbClr val="0f496f"/>
              </a:solidFill>
              <a:latin typeface="Century Gothic"/>
            </a:endParaRPr>
          </a:p>
          <a:p>
            <a:pPr marL="285840" indent="-28584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Ook komt het voor dat de frequentie vermindert.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Enkele oorzaken hiervan zijn nierfunctiestoornissen en verlies van vocht op andere wijze, zoals transpireren en braken. </a:t>
            </a: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enmerk bij onvoldoende werking van het hart (=hartfalen) is dat de zorgvrager overdag veel minder vaak moet plassen, maar s’nachts juist vaak naar t toilet moet (=nycturie).</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HOEVEELHEID.</a:t>
            </a:r>
            <a:endParaRPr b="0" lang="en-US" sz="3600" spc="-1" strike="noStrike">
              <a:solidFill>
                <a:srgbClr val="ffffff"/>
              </a:solidFill>
              <a:latin typeface="Century Gothic"/>
            </a:endParaRPr>
          </a:p>
        </p:txBody>
      </p:sp>
      <p:sp>
        <p:nvSpPr>
          <p:cNvPr id="22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oeveelheid geproduceerde urine is afhankelijk van de opgenomen hoeveelheid vocht; de hoeveelheid vocht die op andere wijze uitgescheiden wordt; de mate waarin het lichaam vocht vast houd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requentie en hoeveelheid hebben vaak met elkaar te ma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zamelen van urine voor onderzoek= vaak 24-uurs urine.</a:t>
            </a:r>
            <a:endParaRPr b="0" lang="en-US" sz="2000" spc="-1" strike="noStrike">
              <a:solidFill>
                <a:srgbClr val="0f496f"/>
              </a:solidFill>
              <a:latin typeface="Century Gothic"/>
            </a:endParaRPr>
          </a:p>
        </p:txBody>
      </p:sp>
      <p:pic>
        <p:nvPicPr>
          <p:cNvPr id="230" name="Afbeelding 3" descr=""/>
          <p:cNvPicPr/>
          <p:nvPr/>
        </p:nvPicPr>
        <p:blipFill>
          <a:blip r:embed="rId1"/>
          <a:stretch/>
        </p:blipFill>
        <p:spPr>
          <a:xfrm>
            <a:off x="7559640" y="3973680"/>
            <a:ext cx="1476360" cy="22860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KLEUR</a:t>
            </a:r>
            <a:endParaRPr b="0" lang="en-US" sz="3600" spc="-1" strike="noStrike">
              <a:solidFill>
                <a:srgbClr val="ffffff"/>
              </a:solidFill>
              <a:latin typeface="Century Gothic"/>
            </a:endParaRPr>
          </a:p>
        </p:txBody>
      </p:sp>
      <p:sp>
        <p:nvSpPr>
          <p:cNvPr id="232" name=""/>
          <p:cNvSpPr txBox="1"/>
          <p:nvPr/>
        </p:nvSpPr>
        <p:spPr>
          <a:xfrm>
            <a:off x="684360" y="685440"/>
            <a:ext cx="8534160" cy="3614760"/>
          </a:xfrm>
          <a:prstGeom prst="rect">
            <a:avLst/>
          </a:prstGeom>
          <a:noFill/>
          <a:ln w="0">
            <a:noFill/>
          </a:ln>
        </p:spPr>
        <p:txBody>
          <a:bodyPr anchor="ctr">
            <a:normAutofit/>
          </a:bodyPr>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Verse urine= helder lichtgeel. De kleur wordt bepaald door de concentratie opgeloste stoffen.</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Afwijkende observatiepunten van de kleur van urine zijn:</a:t>
            </a:r>
            <a:endParaRPr b="0" lang="en-US" sz="19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Donkergele tot donkerbruine urine-&gt; bij leveraandoeningen;</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Bloed in de urine (hematurie)-&gt;bloed kan als roze, roodbruin of vleeskleurig waargenomen worden- kan duiden op blaasontsteking, nierbekkenontsteking, nierstenen, kwaadaardige aandoeningen van urinewegen of prostaat. Hematurie kan ook voorkomen bij gebruik te hoge dosering bloedverdunnende middelen(antistolling);</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Medicijnen- kunnen urine afwijkende kleur geven(laxeermiddelen-&gt; roodachtige kleur aan urine)</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leurstoffen  in voeding kunnen urine verkleuren (rode bietjes).</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HELDERHEID</a:t>
            </a:r>
            <a:endParaRPr b="0" lang="en-US" sz="3600" spc="-1" strike="noStrike">
              <a:solidFill>
                <a:srgbClr val="ffffff"/>
              </a:solidFill>
              <a:latin typeface="Century Gothic"/>
            </a:endParaRPr>
          </a:p>
        </p:txBody>
      </p:sp>
      <p:sp>
        <p:nvSpPr>
          <p:cNvPr id="23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Urine is helder van kleur. Troebele urine wordt veroorzaakt door bacteriën, eiwitten of pus. Als urine langer staat wordt deze ook altijd troebel.</a:t>
            </a:r>
            <a:endParaRPr b="0" lang="en-US" sz="2000" spc="-1" strike="noStrike">
              <a:solidFill>
                <a:srgbClr val="0f496f"/>
              </a:solidFill>
              <a:latin typeface="Century Gothic"/>
            </a:endParaRPr>
          </a:p>
        </p:txBody>
      </p:sp>
      <p:pic>
        <p:nvPicPr>
          <p:cNvPr id="235" name="Afbeelding 3" descr=""/>
          <p:cNvPicPr/>
          <p:nvPr/>
        </p:nvPicPr>
        <p:blipFill>
          <a:blip r:embed="rId1"/>
          <a:stretch/>
        </p:blipFill>
        <p:spPr>
          <a:xfrm>
            <a:off x="6554880" y="3672000"/>
            <a:ext cx="2457360" cy="18572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5. GEUR</a:t>
            </a:r>
            <a:endParaRPr b="0" lang="en-US" sz="3600" spc="-1" strike="noStrike">
              <a:solidFill>
                <a:srgbClr val="ffffff"/>
              </a:solidFill>
              <a:latin typeface="Century Gothic"/>
            </a:endParaRPr>
          </a:p>
        </p:txBody>
      </p:sp>
      <p:sp>
        <p:nvSpPr>
          <p:cNvPr id="237"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se urine ruik je nauwelijk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dra urine uit het lichaam komt, wordt het besmet met bacteriën. Die kunnen uit ureum ammoniak maken. Ammoniak is een irriterende stof die tot huiduitslag kan leiden. Natgeplaste keding kan hier ook naar rui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Ook bij urineweginfecties kan urine een geur hebben die onaangenaam i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mensen met diabetes mellitus kan de urine zoetig ruiken, naar aceton of zoete appeltjes.</a:t>
            </a:r>
            <a:endParaRPr b="0" lang="en-US" sz="2000" spc="-1" strike="noStrike">
              <a:solidFill>
                <a:srgbClr val="0f496f"/>
              </a:solidFill>
              <a:latin typeface="Century Gothic"/>
            </a:endParaRPr>
          </a:p>
        </p:txBody>
      </p:sp>
      <p:pic>
        <p:nvPicPr>
          <p:cNvPr id="238" name="Afbeelding 3" descr=""/>
          <p:cNvPicPr/>
          <p:nvPr/>
        </p:nvPicPr>
        <p:blipFill>
          <a:blip r:embed="rId1"/>
          <a:stretch/>
        </p:blipFill>
        <p:spPr>
          <a:xfrm>
            <a:off x="6675480" y="4194000"/>
            <a:ext cx="2543040" cy="18003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STOFWISSELING.</a:t>
            </a:r>
            <a:endParaRPr b="0" lang="en-US" sz="3600" spc="-1" strike="noStrike">
              <a:solidFill>
                <a:srgbClr val="ffffff"/>
              </a:solidFill>
              <a:latin typeface="Century Gothic"/>
            </a:endParaRPr>
          </a:p>
        </p:txBody>
      </p:sp>
      <p:sp>
        <p:nvSpPr>
          <p:cNvPr id="19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 metabolisme= een proces wat zich in de cellen afspeelt; stoffen uit voeding worden daarbij mbv zuurstof ongezet in voor het lichaam nuttige stoff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 alle levende cellen vindt stofwisseling plaats. Daardoor blijven zij gezond, worden afgestorven cellen vervangen, vindt groei plaats en komt energie vrij.</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vindt voortdurend en op ieder moment plaats, ook als je slaapt (proces dan alleen iets langzam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6. WIJZE VAN URINEREN.</a:t>
            </a:r>
            <a:endParaRPr b="0" lang="en-US" sz="3600" spc="-1" strike="noStrike">
              <a:solidFill>
                <a:srgbClr val="ffffff"/>
              </a:solidFill>
              <a:latin typeface="Century Gothic"/>
            </a:endParaRPr>
          </a:p>
        </p:txBody>
      </p:sp>
      <p:sp>
        <p:nvSpPr>
          <p:cNvPr id="24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gezonde mensen is urineren pijnloos en kan de blaas in 1x geledigd worden. Tijdens het urineren is er een urinestraa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oms kunnen mensen ondanks een goede nierfunctie niet of nauwelijks urineren, terwijl de blaas zich wel vult met urine. Zij doen dan vaak kleine plasjes =dysurie; de zorgvrager heeft voortdurend mictiedrang</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aak zie je dan ook de ongewenste neiging om minder te gaan drinken. Oorzaken dysurie: blaashalsobstructie door oedeem, tumor of steen; vernauwing van de urethra(urethrastrictuur); prostaatvergroting of een schrompelblaas.</a:t>
            </a:r>
            <a:endParaRPr b="0" lang="en-US" sz="2000" spc="-1" strike="noStrike">
              <a:solidFill>
                <a:srgbClr val="0f496f"/>
              </a:solidFill>
              <a:latin typeface="Century Gothic"/>
            </a:endParaRPr>
          </a:p>
        </p:txBody>
      </p:sp>
      <p:pic>
        <p:nvPicPr>
          <p:cNvPr id="241" name="Afbeelding 3" descr=""/>
          <p:cNvPicPr/>
          <p:nvPr/>
        </p:nvPicPr>
        <p:blipFill>
          <a:blip r:embed="rId1"/>
          <a:stretch/>
        </p:blipFill>
        <p:spPr>
          <a:xfrm>
            <a:off x="8904240" y="3624120"/>
            <a:ext cx="1724040" cy="264816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RAPPORTAGE</a:t>
            </a:r>
            <a:endParaRPr b="0" lang="en-US" sz="3600" spc="-1" strike="noStrike">
              <a:solidFill>
                <a:srgbClr val="ffffff"/>
              </a:solidFill>
              <a:latin typeface="Century Gothic"/>
            </a:endParaRPr>
          </a:p>
        </p:txBody>
      </p:sp>
      <p:sp>
        <p:nvSpPr>
          <p:cNvPr id="24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ls je (vermoedelijk) afwijkingen constateert aan de urine van de zorgvrager, dan rapporteer je dat.</a:t>
            </a:r>
            <a:endParaRPr b="0" lang="en-US" sz="2000" spc="-1" strike="noStrike">
              <a:solidFill>
                <a:srgbClr val="0f496f"/>
              </a:solidFill>
              <a:latin typeface="Century Gothic"/>
            </a:endParaRPr>
          </a:p>
        </p:txBody>
      </p:sp>
      <p:pic>
        <p:nvPicPr>
          <p:cNvPr id="244" name="Afbeelding 3" descr=""/>
          <p:cNvPicPr/>
          <p:nvPr/>
        </p:nvPicPr>
        <p:blipFill>
          <a:blip r:embed="rId1"/>
          <a:stretch/>
        </p:blipFill>
        <p:spPr>
          <a:xfrm>
            <a:off x="5835600" y="3363840"/>
            <a:ext cx="3382920" cy="149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LP BIEDEN BIJ URINEREN</a:t>
            </a:r>
            <a:endParaRPr b="0" lang="en-US" sz="3600" spc="-1" strike="noStrike">
              <a:solidFill>
                <a:srgbClr val="ffffff"/>
              </a:solidFill>
              <a:latin typeface="Century Gothic"/>
            </a:endParaRPr>
          </a:p>
        </p:txBody>
      </p:sp>
      <p:sp>
        <p:nvSpPr>
          <p:cNvPr id="24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nk om privacy en schaamtegevoelens van de zorgvrag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raag zorgvrager een zo natuurlijk mogelijke houding aan te nemen (man bv laten staan als dit ka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Kraan laten lop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rgvrager tijd gunn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Geslachtsorganen spoelen met warm wat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INCONTINENTIE</a:t>
            </a:r>
            <a:endParaRPr b="0" lang="en-US" sz="3600" spc="-1" strike="noStrike">
              <a:solidFill>
                <a:srgbClr val="ffffff"/>
              </a:solidFill>
              <a:latin typeface="Century Gothic"/>
            </a:endParaRPr>
          </a:p>
        </p:txBody>
      </p:sp>
      <p:sp>
        <p:nvSpPr>
          <p:cNvPr id="248"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8 vormen van incontinentie:</a:t>
            </a:r>
            <a:endParaRPr b="0" lang="en-US" sz="20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1. stress- of inspannings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2. urge- of aandrang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3. overloop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4. druppel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5. reflex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6. incontinentie door psychische oorzaken</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7. hormonale 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8. incontinentie bij ouderen.</a:t>
            </a:r>
            <a:endParaRPr b="0" lang="en-US" sz="18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48">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48">
                                            <p:txEl>
                                              <p:pRg st="2" end="2"/>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48">
                                            <p:txEl>
                                              <p:pRg st="3" end="3"/>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48">
                                            <p:txEl>
                                              <p:pRg st="4" end="4"/>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48">
                                            <p:txEl>
                                              <p:pRg st="5" end="5"/>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48">
                                            <p:txEl>
                                              <p:pRg st="6" end="6"/>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48">
                                            <p:txEl>
                                              <p:pRg st="7" end="7"/>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 OPVANGSYSTEMEN.</a:t>
            </a:r>
            <a:endParaRPr b="0" lang="en-US" sz="3600" spc="-1" strike="noStrike">
              <a:solidFill>
                <a:srgbClr val="ffffff"/>
              </a:solidFill>
              <a:latin typeface="Century Gothic"/>
            </a:endParaRPr>
          </a:p>
        </p:txBody>
      </p:sp>
      <p:sp>
        <p:nvSpPr>
          <p:cNvPr id="25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ondoomkathet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laaskatheter</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Verblijfkatheter</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supra pubis catheter</a:t>
            </a:r>
            <a:endParaRPr b="0" lang="en-US" sz="1800" spc="-1" strike="noStrike">
              <a:solidFill>
                <a:srgbClr val="0f496f"/>
              </a:solidFill>
              <a:latin typeface="Century Gothic"/>
            </a:endParaRPr>
          </a:p>
          <a:p>
            <a:pPr lvl="1" marL="743040" indent="-285840">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f496f"/>
              </a:solidFill>
              <a:latin typeface="Century Gothic"/>
            </a:endParaRPr>
          </a:p>
        </p:txBody>
      </p:sp>
      <p:pic>
        <p:nvPicPr>
          <p:cNvPr id="251" name="Afbeelding 3" descr=""/>
          <p:cNvPicPr/>
          <p:nvPr/>
        </p:nvPicPr>
        <p:blipFill>
          <a:blip r:embed="rId1"/>
          <a:stretch/>
        </p:blipFill>
        <p:spPr>
          <a:xfrm>
            <a:off x="6378480" y="241200"/>
            <a:ext cx="1857600" cy="2467080"/>
          </a:xfrm>
          <a:prstGeom prst="rect">
            <a:avLst/>
          </a:prstGeom>
          <a:ln w="0">
            <a:noFill/>
          </a:ln>
        </p:spPr>
      </p:pic>
      <p:pic>
        <p:nvPicPr>
          <p:cNvPr id="252" name="Afbeelding 4" descr=""/>
          <p:cNvPicPr/>
          <p:nvPr/>
        </p:nvPicPr>
        <p:blipFill>
          <a:blip r:embed="rId2"/>
          <a:stretch/>
        </p:blipFill>
        <p:spPr>
          <a:xfrm>
            <a:off x="9099720" y="2585880"/>
            <a:ext cx="2286000" cy="1714680"/>
          </a:xfrm>
          <a:prstGeom prst="rect">
            <a:avLst/>
          </a:prstGeom>
          <a:ln w="0">
            <a:noFill/>
          </a:ln>
        </p:spPr>
      </p:pic>
      <p:pic>
        <p:nvPicPr>
          <p:cNvPr id="253" name="Afbeelding 5" descr=""/>
          <p:cNvPicPr/>
          <p:nvPr/>
        </p:nvPicPr>
        <p:blipFill>
          <a:blip r:embed="rId3"/>
          <a:stretch/>
        </p:blipFill>
        <p:spPr>
          <a:xfrm>
            <a:off x="3659040" y="317016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5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52"/>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BEHANDELING INCONTINENTIE</a:t>
            </a:r>
            <a:endParaRPr b="0" lang="en-US" sz="3600" spc="-1" strike="noStrike">
              <a:solidFill>
                <a:srgbClr val="ffffff"/>
              </a:solidFill>
              <a:latin typeface="Century Gothic"/>
            </a:endParaRPr>
          </a:p>
        </p:txBody>
      </p:sp>
      <p:sp>
        <p:nvSpPr>
          <p:cNvPr id="25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laastraining</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ehandeling fysiotherapeut</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Elekt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Zelf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Chirurgisch ingrijpen</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Neu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SANS </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medicatie</a:t>
            </a:r>
            <a:endParaRPr b="0" lang="en-US" sz="19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55">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55">
                                            <p:txEl>
                                              <p:pRg st="1" end="1"/>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55">
                                            <p:txEl>
                                              <p:pRg st="2" end="2"/>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55">
                                            <p:txEl>
                                              <p:pRg st="3" end="3"/>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5">
                                            <p:txEl>
                                              <p:pRg st="4" end="4"/>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5">
                                            <p:txEl>
                                              <p:pRg st="5" end="5"/>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55">
                                            <p:txEl>
                                              <p:pRg st="6" end="6"/>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55">
                                            <p:txEl>
                                              <p:pRg st="7" end="7"/>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STELSELS MAKEN STOFWISSELING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MOGELIJK.</a:t>
            </a:r>
            <a:endParaRPr b="0" lang="en-US" sz="3600" spc="-1" strike="noStrike">
              <a:solidFill>
                <a:srgbClr val="ffffff"/>
              </a:solidFill>
              <a:latin typeface="Century Gothic"/>
            </a:endParaRPr>
          </a:p>
        </p:txBody>
      </p:sp>
      <p:sp>
        <p:nvSpPr>
          <p:cNvPr id="19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1. spijsverter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2. bloedvatenstelsel, inclusief lymfatisch systeem</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3. ademhal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4. uitscheidingsstelsel</a:t>
            </a:r>
            <a:endParaRPr b="0" lang="en-US" sz="2000" spc="-1" strike="noStrike">
              <a:solidFill>
                <a:srgbClr val="0f496f"/>
              </a:solidFill>
              <a:latin typeface="Century Gothic"/>
            </a:endParaRPr>
          </a:p>
        </p:txBody>
      </p:sp>
      <p:pic>
        <p:nvPicPr>
          <p:cNvPr id="197" name="Afbeelding 6" descr=""/>
          <p:cNvPicPr/>
          <p:nvPr/>
        </p:nvPicPr>
        <p:blipFill>
          <a:blip r:embed="rId1"/>
          <a:stretch/>
        </p:blipFill>
        <p:spPr>
          <a:xfrm>
            <a:off x="7434360" y="2521080"/>
            <a:ext cx="3865320" cy="1873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 SPIJSVERTERINGSSTELSEL.</a:t>
            </a:r>
            <a:endParaRPr b="0" lang="en-US" sz="3600" spc="-1" strike="noStrike">
              <a:solidFill>
                <a:srgbClr val="ffffff"/>
              </a:solidFill>
              <a:latin typeface="Century Gothic"/>
            </a:endParaRPr>
          </a:p>
        </p:txBody>
      </p:sp>
      <p:sp>
        <p:nvSpPr>
          <p:cNvPr id="19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bouwstoffen en energie die het lichaam nodig heeft om in stand te blijven en te werken halen we uit voedsel.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ater neemt ons lichaam vrijwel meteen op, maar voeding in vloeibaar en vast voedsel moet eerst worden afgebroken tot deeltjes die klein genoeg zijn om door de bloedbaan naar onze cellen te reizen.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doet het spijsverteringsstelsel.</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BLOEDVATENSTELSEL, INCLUSIEF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LYMFATISCH SYSTEEM.</a:t>
            </a:r>
            <a:endParaRPr b="0" lang="en-US" sz="3600" spc="-1" strike="noStrike">
              <a:solidFill>
                <a:srgbClr val="ffffff"/>
              </a:solidFill>
              <a:latin typeface="Century Gothic"/>
            </a:endParaRPr>
          </a:p>
        </p:txBody>
      </p:sp>
      <p:sp>
        <p:nvSpPr>
          <p:cNvPr id="201"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ia de bloedvaten worden voedingsstoffen en zuurstof naar de cellen vervoerd. Afbraakproducten worden door het bloedvatenstelsel afgevoerd. Via het lymfevatenstelsel of lymfatisch systeem komt vocht afkomstig uit de ruimte tussen de cellen (intercellulaire ruimte) uiteindelijk in de bloedbaan terecht, waardoor dit ook meegenomen wordt naar de nieren. </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ADEMHALINGSSTELSEL.</a:t>
            </a:r>
            <a:endParaRPr b="0" lang="en-US" sz="3600" spc="-1" strike="noStrike">
              <a:solidFill>
                <a:srgbClr val="ffffff"/>
              </a:solidFill>
              <a:latin typeface="Century Gothic"/>
            </a:endParaRPr>
          </a:p>
        </p:txBody>
      </p:sp>
      <p:sp>
        <p:nvSpPr>
          <p:cNvPr id="20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uurstof uit de inademingslucht wordt door de cellen gebruikt voor de stofwisseling. In de uitademingslucht wordt kooldioxide en ongebruikte zuurstof uitgescheiden.</a:t>
            </a:r>
            <a:endParaRPr b="0" lang="en-US" sz="2000" spc="-1" strike="noStrike">
              <a:solidFill>
                <a:srgbClr val="0f496f"/>
              </a:solidFill>
              <a:latin typeface="Century Gothic"/>
            </a:endParaRPr>
          </a:p>
        </p:txBody>
      </p:sp>
      <p:pic>
        <p:nvPicPr>
          <p:cNvPr id="204" name="Afbeelding 3" descr=""/>
          <p:cNvPicPr/>
          <p:nvPr/>
        </p:nvPicPr>
        <p:blipFill>
          <a:blip r:embed="rId1"/>
          <a:stretch/>
        </p:blipFill>
        <p:spPr>
          <a:xfrm>
            <a:off x="6892920" y="2890800"/>
            <a:ext cx="4145040" cy="30924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UITSCHEIDINGSSTELSEL.</a:t>
            </a:r>
            <a:endParaRPr b="0" lang="en-US" sz="3600" spc="-1" strike="noStrike">
              <a:solidFill>
                <a:srgbClr val="ffffff"/>
              </a:solidFill>
              <a:latin typeface="Century Gothic"/>
            </a:endParaRPr>
          </a:p>
        </p:txBody>
      </p:sp>
      <p:sp>
        <p:nvSpPr>
          <p:cNvPr id="20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Het uitscheidingsstelsel bestaat uit alle organen die voor de uitscheiding zorg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ITSCHEIDINGSORGANEN.</a:t>
            </a:r>
            <a:endParaRPr b="0" lang="en-US" sz="3600" spc="-1" strike="noStrike">
              <a:solidFill>
                <a:srgbClr val="ffffff"/>
              </a:solidFill>
              <a:latin typeface="Century Gothic"/>
            </a:endParaRPr>
          </a:p>
        </p:txBody>
      </p:sp>
      <p:sp>
        <p:nvSpPr>
          <p:cNvPr id="208"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uitscheidingsorganen zorgen ervoor dat schadelijke en overbodige stiffen uit het lichaam verwijderd word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volgende dia’s geven weer welke uitscheidingsorganen hieraan meewerk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ENDELDARM (RECTUM).</a:t>
            </a:r>
            <a:endParaRPr b="0" lang="en-US" sz="3600" spc="-1" strike="noStrike">
              <a:solidFill>
                <a:srgbClr val="ffffff"/>
              </a:solidFill>
              <a:latin typeface="Century Gothic"/>
            </a:endParaRPr>
          </a:p>
        </p:txBody>
      </p:sp>
      <p:sp>
        <p:nvSpPr>
          <p:cNvPr id="210" name=""/>
          <p:cNvSpPr txBox="1"/>
          <p:nvPr/>
        </p:nvSpPr>
        <p:spPr>
          <a:xfrm>
            <a:off x="684360" y="685440"/>
            <a:ext cx="8534160" cy="361476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is het laatste deel van de dikke darm (colon). Hier hoopt de ontlasting (feces) zich op en via de anus verlaat dit ‘restproduct’ het lichaam.</a:t>
            </a:r>
            <a:endParaRPr b="0" lang="en-US" sz="2000" spc="-1" strike="noStrike">
              <a:solidFill>
                <a:srgbClr val="0f496f"/>
              </a:solidFill>
              <a:latin typeface="Century Gothic"/>
            </a:endParaRPr>
          </a:p>
        </p:txBody>
      </p:sp>
      <p:pic>
        <p:nvPicPr>
          <p:cNvPr id="211" name="Afbeelding 3" descr=""/>
          <p:cNvPicPr/>
          <p:nvPr/>
        </p:nvPicPr>
        <p:blipFill>
          <a:blip r:embed="rId1"/>
          <a:stretch/>
        </p:blipFill>
        <p:spPr>
          <a:xfrm>
            <a:off x="7645320" y="3084480"/>
            <a:ext cx="1743120" cy="2619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6T13:46:27Z</dcterms:created>
  <dc:creator>uw</dc:creator>
  <dc:description/>
  <dc:language>en-US</dc:language>
  <cp:lastModifiedBy>Esther</cp:lastModifiedBy>
  <cp:lastPrinted>2013-11-16T17:08:13Z</cp:lastPrinted>
  <dcterms:modified xsi:type="dcterms:W3CDTF">2014-01-03T09:37:37Z</dcterms:modified>
  <cp:revision>12</cp:revision>
  <dc:subject/>
  <dc:title>Uitscheidingsstelsel;      Urine.</dc:title>
</cp:coreProperties>
</file>