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5B6-F1BF-4101-A8A2-1D08D169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009-148E-4F5A-B29F-3F6A557E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30B5-172A-44B9-8EB4-A63F14FA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1D3-8C38-49CD-A118-D4888ABE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91EC-6AC6-400D-B93F-E2C93C80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7B4E-618C-4E6F-9D4A-84775C63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6916-E216-45C8-9511-4A1D7952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EB1F-EF27-4D13-90EB-AF2F2CF3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DF50-9757-4F7D-B2AC-A81DDBDB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DEF5-F751-49AC-8AA8-92E5D1FD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5B9F-4EE4-4983-904D-59D9CEE8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5A0-DCB8-48B7-9F57-3F69239A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3A56-9F30-4FFF-A921-C79B0882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E4D0-10D1-4382-B9CF-3D39F4C4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A9E4-CC42-4E9C-98C7-73BAC560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2DF7-6C27-401D-96E9-1D323DB5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FE9C-9DDF-4503-B803-F0B3EB88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EDE00-07F0-49A3-A02F-E4E55909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5D719-B5F1-470D-909C-3B737E63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AA804-EA55-42D4-B7CE-749C219A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62FD5-633A-4CAD-8EC8-48290323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1910E-06C6-45AD-B1D4-D09F1EBE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A63-B518-471B-AC2E-30517A99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916B-94C0-42A8-9041-6823673B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D9FA0-9805-45F7-99DB-2CD1E4D2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6BBA3-4732-49B2-815A-F3016726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8115-08A5-4C1C-935A-7F93858B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66A3A-0CAC-4F04-B064-A66DB36C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C8175-BC7F-4538-A795-494BA78D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77002-8C27-4456-81C1-FC12C1FD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F033D-46A1-4BA6-A443-CD8FBBFB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D3222-458F-4438-A86B-C7BEA7E4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954F5-046E-48B1-A045-3C864CDE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CF0-9EF7-4268-A1E2-B424E9A1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BCB88-5F85-47B3-A45E-9CC03D8A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468E6-0EB0-4D24-8671-C2202BB5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8224E-7464-4328-BD87-44AB0F4D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31B2E-D789-4D9B-934A-7B8038F0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D23DF-D47D-4443-AABD-E83F87FE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B27D1-E6C1-4CD2-A4E1-AB9F7906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C0288-25F3-4412-8B57-83D707DC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38FEA-72CC-4647-98D7-473B8908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6D670-ADF5-4C39-AEAB-4D2EA8DD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1C3-3294-4010-B52B-D2360225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1AD-C373-42E2-BFEC-334AAB48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8712-C792-4308-A695-13402F57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9FA-BF89-4CD2-A34C-9ED66440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7406-F412-4606-9352-440D8923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A9DEA-6285-46EE-A819-B2F686AE728C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7142C-0098-4DA4-AC33-253D1491122E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F08BB-09A3-4037-B52D-21FEA5FFABE7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6DCF9-882A-401C-BCE3-E85B33F1E4B9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eb3d9f"/>
                </a:solidFill>
                <a:latin typeface="Trebuchet MS"/>
              </a:rPr>
              <a:t>Sonde inbrengen 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364000" y="330120"/>
            <a:ext cx="1424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dat sonde niet op juiste plaats zit of blijft zi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opboeren, braken, hoesten kan sonde verplaa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elke voeding aansluiting sonde control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  Lucht in maag spu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kmoespapiertje(PH meting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Actieknop: Terug of Vorige 3">
            <a:hlinkClick r:id="rId1" action="ppaction://hlinksldjump"/>
          </p:cNvPr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op verstopping van 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eding koekt aan i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en eindigen met 20 ml lauw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imaal 6x per dag sonde doorspo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Actieknop: Terug of Vorige 3">
            <a:hlinkClick r:id="rId1" action="ppaction://hlinksldjump"/>
          </p:cNvPr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en van PEG/PEJ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Pas aangelegd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extra 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nden fistel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sinfect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tadine jo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Na 6 wek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inigen water z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Afbeelding 3" descr="PEG.bmp"/>
          <p:cNvPicPr/>
          <p:nvPr/>
        </p:nvPicPr>
        <p:blipFill>
          <a:blip r:embed="rId1"/>
          <a:stretch/>
        </p:blipFill>
        <p:spPr>
          <a:xfrm>
            <a:off x="6084720" y="1052640"/>
            <a:ext cx="2735280" cy="252396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6" descr="peg 2.jpg"/>
          <p:cNvPicPr/>
          <p:nvPr/>
        </p:nvPicPr>
        <p:blipFill>
          <a:blip r:embed="rId2"/>
          <a:stretch/>
        </p:blipFill>
        <p:spPr>
          <a:xfrm>
            <a:off x="5651640" y="3789360"/>
            <a:ext cx="3214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key butto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3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244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rekenen hoeveelheid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veelheid ml SV x druppels per m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-----------------------------------------= aantal druppels/m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uren SV gegeven x 60 mi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 arts spreekt af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iter sondevoeding per 24 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is de druppelsnelhei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t = 2000 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4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28 druppels per minuu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4 x 60            144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Arts spreekt af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iter in 8 uur (alleen ‘s nach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t = 1000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1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41 druppels per minuu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8 x 60           48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00280"/>
            <a:ext cx="662652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ek een filmpje op het internet waar een sonde wordt ingeb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kijk di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ak nu het protocol van Vilans erbij en leg dit erna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het protocol nauwgezet gevolgd? Zoek de overeenkomsten en de verschill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ragen?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t is sondevoeding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eibare voeding die geven wordt via kunstmatige verbinding met de maag/duodenu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medicij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anieren van sondevoed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eus maagson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 (percutane endoscopische gastr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J (percutane endoscopische jejun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lu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tinu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yste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nneer sondevoeding geven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6920" y="2276280"/>
            <a:ext cx="8066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eigende ondervoeding met een goed functionerend maagdarmkana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ing op die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oeningen: slikken/kauwen, slokdarm, maa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echte lichamelijke condi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durig voedselweigering (ki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et inbrengen van een voedings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st gebruikte: neus-maag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behouden ha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langdurige sonde voe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= Percutane Endoscopische Gastronom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medische ingr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isseling mag door Verpleegkund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eus-maag sonde inbreng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te van de sonde: Uitgedrukt in: charriere= 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fort ZV&gt; zo dun mogelijk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ngte van de sonde bepalen(neus-maag): volgens NEX Methode(pg 20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andachtspunten: voorbereiding en werkwijze ZV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rgvrager informeren over waarom en de werkwijze inbrengen va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 voor ang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ttentie hou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nat (warm water)inbre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controleren op maagre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beves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zorg ZV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gevens vastleg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b3d9f"/>
                </a:solidFill>
                <a:latin typeface="Trebuchet MS"/>
              </a:rPr>
              <a:t>Observatiepunten (tijdens inbrengen)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nauwdheid en hoes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wil niet ver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en maagretentie krij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kan opgerold komen te liggen in de keel tijdens inbreng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Complicatie: Kans op decubitus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zit te strak tegen neusvleug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controle/ obser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pleister versch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eister op juiste wijze p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Actieknop: Terug of Vorige 3">
            <a:hlinkClick r:id="rId1" action="ppaction://hlinksldjump"/>
          </p:cNvPr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Rina Niemeijer</cp:lastModifiedBy>
  <dcterms:modified xsi:type="dcterms:W3CDTF">2018-02-20T11:27:12Z</dcterms:modified>
  <cp:revision>23</cp:revision>
  <dc:subject/>
  <dc:title>Sondevoeding</dc:title>
</cp:coreProperties>
</file>