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0F65-26C3-4B67-8440-5C6769E81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DDEC-1EBE-4EC1-99AB-9DC10190B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6961-3274-47E0-A7AB-AFD032D0B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F2D9-8027-4735-AA15-097FA465C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DA310-7A10-469A-AC9A-A687700AF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A4C5D-BCFC-4215-947D-8137264CD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E8FB9-0B79-4443-80BE-606951905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2FB79-E039-45B5-A96B-2615E6527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1F7D7-43D4-4BFB-85B5-98BD156CD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73935-EBC2-4F1B-A8E6-E3EFA1B11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F56C2-6C96-45A1-8216-2A998239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6317-593E-4D1F-8C70-1448693EA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521ED-F5AD-4660-9EF8-39BB3DC3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C43E5-F676-4632-9AB3-FF777DCE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10D31-4D19-43D8-8394-E1C8E184A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E6F23-A433-4C75-A07B-5519F0811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61DF6-5F18-4756-952F-422165705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5F65-396F-4AEF-855A-4F295F46C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365A-8BA5-4333-824F-A9D6315DD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656D-3881-44B9-BAFC-045ECD128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2E77-D60F-4EE8-ADF7-1133B6D92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1F10-7C6C-452D-A912-8966EE6E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1E98-9DD4-48A5-ACA1-105B87C5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477C-B251-41B6-9196-2CFA3EF8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0BD14-3990-4403-8FFD-7FAE27C536E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A0A03-2485-48FB-BB04-B784E332166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258560" y="1844640"/>
            <a:ext cx="60418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theteriser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6" descr="Plaatsten_catheter_a_demeure"/>
          <p:cNvPicPr/>
          <p:nvPr/>
        </p:nvPicPr>
        <p:blipFill>
          <a:blip r:embed="rId1"/>
          <a:stretch/>
        </p:blipFill>
        <p:spPr>
          <a:xfrm>
            <a:off x="2050920" y="2492280"/>
            <a:ext cx="5326200" cy="34750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880560" y="188640"/>
            <a:ext cx="651852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6666"/>
                </a:solidFill>
                <a:latin typeface="Arial"/>
              </a:rPr>
              <a:t>Made by : Rina Niemeijer</a:t>
            </a:r>
            <a:endParaRPr b="0" lang="en-US" sz="1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bij het hebb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Is een voorbehouden hande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eft invloed op de seksualiteit van de zorgvrag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oldoende privac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n pijnlijk zij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Tekenen van infectie: koor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Picture 6" descr="Urineweginfectie"/>
          <p:cNvPicPr/>
          <p:nvPr/>
        </p:nvPicPr>
        <p:blipFill>
          <a:blip r:embed="rId1"/>
          <a:stretch/>
        </p:blipFill>
        <p:spPr>
          <a:xfrm>
            <a:off x="1763640" y="1052640"/>
            <a:ext cx="400860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Observatiepunte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ymptomen urineweginfec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oede doorstro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Aanwezigheid lekk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veelheid, kleur, geur en aspec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5" descr="1082_la"/>
          <p:cNvPicPr/>
          <p:nvPr/>
        </p:nvPicPr>
        <p:blipFill>
          <a:blip r:embed="rId1"/>
          <a:stretch/>
        </p:blipFill>
        <p:spPr>
          <a:xfrm>
            <a:off x="5292720" y="3500280"/>
            <a:ext cx="261936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inbreng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ygië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Pijn tijdens het inbrengen van de kathet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iet meer dan 500 ml urine laten afvloei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echniek bij de ma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echniek bij de vrouw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Verdana"/>
              </a:rPr>
              <a:t>Kenmerk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via opening in buik, boven schaambeen in blaas gebrach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voorkeur silicone catheter ( kan langere tijd zitten, minder gauw irritaties)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Verdana"/>
              </a:rPr>
              <a:t>Indicatie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aandoening of operatie urinebui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Blijvende dwarslaes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Blijvende incontinent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Afbeelding 3" descr="suprapubis.jpg"/>
          <p:cNvPicPr/>
          <p:nvPr/>
        </p:nvPicPr>
        <p:blipFill>
          <a:blip r:embed="rId1"/>
          <a:stretch/>
        </p:blipFill>
        <p:spPr>
          <a:xfrm>
            <a:off x="5219640" y="4005360"/>
            <a:ext cx="3597480" cy="26002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uprapubisch Kathe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upra Pubis Kathe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06600" y="1852200"/>
            <a:ext cx="704376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5" descr="f47mszien4hulpmiddelenkatheter"/>
          <p:cNvPicPr/>
          <p:nvPr/>
        </p:nvPicPr>
        <p:blipFill>
          <a:blip r:embed="rId1"/>
          <a:stretch/>
        </p:blipFill>
        <p:spPr>
          <a:xfrm>
            <a:off x="1835280" y="1392120"/>
            <a:ext cx="4968720" cy="45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Verzorgen van een supra pubis cathet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zorgvrager met een supra-pubische katheter heeft dus een niet-natuurlijke verbinding tussen de blaas en de buitenwereld (een fistel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a fistelvorming is de verzorging een niet-complexe handeling, die veel zorgvragers   zelf kunnen uitvoer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Blaasspoele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4" descr="7"/>
          <p:cNvPicPr/>
          <p:nvPr/>
        </p:nvPicPr>
        <p:blipFill>
          <a:blip r:embed="rId1"/>
          <a:stretch/>
        </p:blipFill>
        <p:spPr>
          <a:xfrm>
            <a:off x="2268360" y="1628640"/>
            <a:ext cx="6050160" cy="40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Verdana"/>
              </a:rPr>
              <a:t>Redenen hiervoor kunnen zijn: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voorkomen van infec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lokaal toedienen van medicatie, bijvoorbeeld cytostatic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een verstopte of bijna verstopte blaaskathet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voorkomen van bloedstolsels na een opera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laasspoelen kan plaatsvinden met de hand ofwel met een open systeem (uro tainer)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oor het spoelen met een gesloten systeem is een driewegkatheter nodi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et kunstmatig af laten lopen van urine ui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laas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iertoe wordt een steriele catheter, do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uis( urethra) in de urinebla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ebracht, zodat ontlediging kan plaatsvinden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Katheteriseren is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Blaas spoelen met een open systeem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Verdana"/>
              </a:rPr>
              <a:t>Doel: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doorgang van de verblijfskatheter open houden / toedienen medica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Verdana"/>
              </a:rPr>
              <a:t>Bij wie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: Zorgvragers bij wie de blaas met een zakje moet worden gespoel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6666"/>
                </a:solidFill>
                <a:latin typeface="Arial"/>
              </a:rPr>
              <a:t>Verschillende redenen om de blaas te spoelen met zakjes:</a:t>
            </a:r>
            <a:br>
              <a:rPr sz="2400"/>
            </a:b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Om de afvoer van urine in stand te houden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bij zichtbare hematurie in d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geproduceerde urine (met stolsel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bij gruis / afval in de blaas e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de katheter, die dan verstopt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n raken. 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Blaasspoelen om  medicatie toe te diene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cytostaticakuren met lokale werking bijv. bij blaastumor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reinigen van de blaas vanwege een zeer ernstige urineweginfectie, een pyur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4" descr="2086"/>
          <p:cNvPicPr/>
          <p:nvPr/>
        </p:nvPicPr>
        <p:blipFill>
          <a:blip r:embed="rId1"/>
          <a:stretch/>
        </p:blipFill>
        <p:spPr>
          <a:xfrm>
            <a:off x="5580000" y="3860640"/>
            <a:ext cx="2808360" cy="25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Picture 5" descr="zz09werkbladsupra"/>
          <p:cNvPicPr/>
          <p:nvPr/>
        </p:nvPicPr>
        <p:blipFill>
          <a:blip r:embed="rId1"/>
          <a:stretch/>
        </p:blipFill>
        <p:spPr>
          <a:xfrm>
            <a:off x="1187280" y="900000"/>
            <a:ext cx="662472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Katheter is een buis of canule met een ro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uiteinde, om kans op beschadig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an weefsel te verkleinen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Zijdelingse openingen &gt; afloop uri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s  in verschillende soorten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maten en  materialen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oorten Katheter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 om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èè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malig te katheteriser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erblijfskatheter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s om blaas continue mee te spoelen ( 3 lume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iemann katheter: alleen bij mannen met prostaat hypertrof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uprapubis kathet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Afbeelding 4" descr="nelatoncatheter-250x250.jpg"/>
          <p:cNvPicPr/>
          <p:nvPr/>
        </p:nvPicPr>
        <p:blipFill>
          <a:blip r:embed="rId1"/>
          <a:stretch/>
        </p:blipFill>
        <p:spPr>
          <a:xfrm>
            <a:off x="6012000" y="393372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6666"/>
                </a:solidFill>
                <a:latin typeface="Arial"/>
              </a:rPr>
              <a:t>Kenmerken verblijfskatheter: 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lijft na inbrengen 4-8 weken zitten, Bij een silliconen Kad: 3 maanden intramuraal, 6 maanden extramuraa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allon gevuld met steriel water of glycerine, ter fixa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2 lumen catheter:  1 voor afvoer urine en 1 om ballon te vull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overdag aangesloten aan beenza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n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 nachts aan urine nachtza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 stop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Wanneer breng je een verblijfskatheter in en waarom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Wanneer/waarom verblijfskatheter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raamvrouwen(moeilijk plassen na bevall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Geriatrische zorgvrag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ronische zieken: MS, reuma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tandelijke en lichamelijke gehandicapten(spasticiteit, misvorm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kken, dwarslaes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irurgische zorgvrager(buik, hart long operat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Eenmalige katheterisatie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Post-operatief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ermoeden van urinereten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Neurologische afwijkingen (zelf katheterisatie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Urinekweek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Wat zijn belangrijke aandachtspunten bij het hebben van en Katheter(denk aan Gordon!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9:34:53Z</dcterms:created>
  <dc:creator>Rina</dc:creator>
  <dc:description/>
  <dc:language>en-US</dc:language>
  <cp:lastModifiedBy>A.R. Niemeijer</cp:lastModifiedBy>
  <dcterms:modified xsi:type="dcterms:W3CDTF">2016-12-14T09:22:39Z</dcterms:modified>
  <cp:revision>33</cp:revision>
  <dc:subject/>
  <dc:title>Indeling WCS=</dc:title>
</cp:coreProperties>
</file>