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205-A330-4FF2-8AA4-3F7EED5F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0E08-DEBC-4BAB-BDE4-FE4AB9B7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FFE3-5129-4F32-9BB3-CF455213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1C7-03A1-4DD8-BD28-9727A7CA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5FEE-3C80-4DB6-9393-3E00EA37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00C0-3BB2-45B3-8734-12B468FC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D84F-3EA3-457B-A9A2-6A7C1664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A1B3-EB0F-4A50-8E59-D090CB97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7AC0-F292-4274-BFE4-C305A3C6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F422-190B-4E7A-A216-A20C3685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74C0-2CF9-478F-B5F0-6A7E6AB8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E58E-CA82-4CA4-A735-03D01A9E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F879-AEED-414D-BF2A-7B0066A9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0F26-CF38-4923-8155-F8626957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05FC-9882-4C0B-BAAF-9A14A75B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DCA5-4725-4E16-9765-B528F92E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F165-4520-43FB-A7EE-E7C5C948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BDED0-787C-47C7-B054-7F5FFAC6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0446B-4060-4A5C-87D8-4C2B13D1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AE13B-C546-4495-84E6-E11548E3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250AD-0B65-4AB8-9681-C0175817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CBBC8-3504-462E-872D-6CAE7BAD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2BF3-0217-4F7A-AA22-C322443D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19993-AADD-49BB-8F8E-1B385C89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DA49B-CDBB-42F6-B211-0FD2EF85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4C2D0-C18B-43F3-8D8E-16033470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F81C5-B288-45AE-894A-DE4A8EEE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7CC9E-1164-4EEA-A1B9-F76AC05D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398EB-BCF9-4EE9-B73A-6462911A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5E412-0BA8-49B9-9EAC-8D2F6867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CEB97-5AD6-4AE2-BDFC-9B1807FC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AD00A-31AC-45B1-ADBC-A720C5B5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F9441-E711-461C-BD0C-771E6681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E8F-31D1-4CD1-99EE-0B838DB2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15801-1FA8-4AFE-833D-25561B3E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1286D-7110-4CD8-B7EF-8E81F7E0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EFF8A-A2F3-4019-87CB-FDDBDAC2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D0770-5172-4F89-80F8-4E562772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92648-CA40-4F63-95BD-90DD6F04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1AA30-57E8-4F73-AD7D-C172C876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20AEF-1712-4058-B315-D73E2DE0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FB42D-0FAB-49F2-ACE0-226DB074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0DF9C-F5AD-4874-B93E-B1278617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27A-8279-4078-A641-351F8455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18DB-F797-43C4-9F23-837161E4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5772-D742-48CD-9C25-E1B1914A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A5C2-41B0-4B23-AB4F-72F83B49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7B4-ADFD-43F9-B923-DDEF446C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7CC9A-0B2B-4ACF-9FE7-477E3805C43E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CD441-3A62-4EF9-B448-75BB219D1867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A9745-1290-4E9E-AADF-5C39CDE61703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3D2B5D-4C6C-4B8A-95D4-DF84734E2708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eb3d9f"/>
                </a:solidFill>
                <a:latin typeface="Trebuchet MS"/>
              </a:rPr>
              <a:t>Sonde inbrengen </a:t>
            </a:r>
            <a:endParaRPr b="0" lang="en-US" sz="5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364000" y="330120"/>
            <a:ext cx="1424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dat sonde niet op juiste plaats zit of blijft zi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opboeren, braken, hoesten kan sonde verplaa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elke voeding aansluiting sonde control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  Lucht in maag spu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kmoespapiertje(PH meting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Actieknop: Terug of Vorige 3">
            <a:hlinkClick r:id="rId1" action="ppaction://hlinksldjump"/>
          </p:cNvPr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op verstopping van 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eding koekt aan i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art en eindigen met 20 ml lauw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imaal 6x per dag sonde doorspo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Actieknop: Terug of Vorige 3">
            <a:hlinkClick r:id="rId1" action="ppaction://hlinksldjump"/>
          </p:cNvPr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en van PEG/PEJ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Pas aangelegd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extra 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nden fistel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sinfect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tadine jo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Na 6 wek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inigen water z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Afbeelding 3" descr="PEG.bmp"/>
          <p:cNvPicPr/>
          <p:nvPr/>
        </p:nvPicPr>
        <p:blipFill>
          <a:blip r:embed="rId1"/>
          <a:stretch/>
        </p:blipFill>
        <p:spPr>
          <a:xfrm>
            <a:off x="6084720" y="1052640"/>
            <a:ext cx="2735280" cy="252396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6" descr="peg 2.jpg"/>
          <p:cNvPicPr/>
          <p:nvPr/>
        </p:nvPicPr>
        <p:blipFill>
          <a:blip r:embed="rId2"/>
          <a:stretch/>
        </p:blipFill>
        <p:spPr>
          <a:xfrm>
            <a:off x="5651640" y="3789360"/>
            <a:ext cx="3214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key butto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3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244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rekenen hoeveelheid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veelheid ml SV x druppels per ml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-----------------------------------------= aantal druppels/m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uren SV gegeven x 60 mi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 arts spreekt af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iter sondevoeding per 24 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 is de druppelsnelhei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t = 2000 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4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28 druppels per minuu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4 x 60            144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Arts spreekt af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iter in 8 uur (alleen ‘s nach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t = 1000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1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41 druppels per minuu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8 x 60           48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700280"/>
            <a:ext cx="662652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ek een filmpje op het internet waar een sonde wordt ingeb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kijk di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ak nu het protocol van Vilans erbij en leg dit erna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het protocol nauwgezet gevolgd? Zoek de overeenkomsten en de verschill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ragen?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t is sondevoeding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eibare voeding die geven wordt via kunstmatige verbinding met de maag/duodenu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medicij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anieren van sondevoed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eus maagson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 (percutane endoscopische gastr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J (percutane endoscopische jejun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lu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tinu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yste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nneer sondevoeding geven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6920" y="2276280"/>
            <a:ext cx="8066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eigende ondervoeding met een goed functionerend maagdarmkana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ing op die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oeningen: slikken/kauwen, slokdarm, maa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echte lichamelijke condi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durig voedselweigering (ki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et inbrengen van een voedings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st gebruikte: neus-maag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behouden ha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langdurige sonde voe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= Percutane Endoscopische Gastronom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medische ingr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isseling mag door Verpleegkund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eus-maag sonde inbreng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te van de sonde: Uitgedrukt in: charriere= 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fort ZV&gt; zo dun mogelijk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ngte van de sonde bepalen(neus-maag): volgens NEX Methode(pg 20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andachtspunten: voorbereiding en werkwijze ZV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rgvrager informeren over waarom en de werkwijze inbrengen va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 voor ang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ttentie hou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nat (warm water)inbre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controleren op maagre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bevesti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zorg ZV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gevens vastleg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b3d9f"/>
                </a:solidFill>
                <a:latin typeface="Trebuchet MS"/>
              </a:rPr>
              <a:t>Observatiepunten (tijdens inbrengen)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nauwdheid en hoes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wil niet ver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en maagretentie krij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kan opgerold komen te liggen in de keel tijdens inbreng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Complicatie: Kans op decubitus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zit te strak tegen neusvleug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controle/ obser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pleister verscho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leister op juiste wijze plak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Actieknop: Terug of Vorige 3">
            <a:hlinkClick r:id="rId1" action="ppaction://hlinksldjump"/>
          </p:cNvPr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Rina Niemeijer</cp:lastModifiedBy>
  <dcterms:modified xsi:type="dcterms:W3CDTF">2018-02-20T11:27:12Z</dcterms:modified>
  <cp:revision>23</cp:revision>
  <dc:subject/>
  <dc:title>Sondevoeding</dc:title>
</cp:coreProperties>
</file>