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C232-E7E8-4160-8F03-BF1B538C6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3795-333B-4BCC-B215-A7C586A02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E914-CFF2-4247-9A47-0347922EA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2799-9C6E-40C4-893C-B79B101E0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7591B-5FF1-4ED4-8D54-B36A4AA51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62874-2670-4DE2-A4F9-4CEC06A1B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C296C-BA85-408A-AC4E-AC880B278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B0A98-BBB6-4CCE-93A7-FDFA887FB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37A58-6ABA-40B0-B059-E6BC338B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BE656-A100-4ADC-B1DA-50ACC44E4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C91CB-9691-460D-ABBF-971E4FDC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11FB-D4E3-4BCE-9D6D-B5CAE2DD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93EF6-AB04-4852-BF2A-ADCDEAEE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C0669-F704-406D-B3D5-ABECE755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958BF-E66C-4699-8F4C-F41CC5087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F2BB9-214B-4805-9122-48B13A17B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A94C2-7172-4EA6-8A1B-3D4C65DDC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3610-2DBA-431A-A8AA-25478D4C3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3EC3-AD41-4C46-8F3E-197ADA111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E13A-9E71-4017-9EB5-D02D168E5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1129-1738-428A-BD83-3165E1EB8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7728-9599-4D0F-8993-8294B9E9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B7BB-254F-4D3E-AA96-A398354A9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7342-6291-480D-81D5-26664F875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54AE3-1A4D-4145-BD12-5BDDFBE4ABC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16B1E-5C05-4593-A013-56AD69DE5BF4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258560" y="1844640"/>
            <a:ext cx="60418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theteriser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6" descr="Plaatsten_catheter_a_demeure"/>
          <p:cNvPicPr/>
          <p:nvPr/>
        </p:nvPicPr>
        <p:blipFill>
          <a:blip r:embed="rId1"/>
          <a:stretch/>
        </p:blipFill>
        <p:spPr>
          <a:xfrm>
            <a:off x="2050920" y="2492280"/>
            <a:ext cx="5326200" cy="34750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880560" y="188640"/>
            <a:ext cx="651852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6666"/>
                </a:solidFill>
                <a:latin typeface="Arial"/>
              </a:rPr>
              <a:t>Made by : Rina Niemeijer</a:t>
            </a:r>
            <a:endParaRPr b="0" lang="en-US" sz="1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bij het hebb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Is een voorbehouden hande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eft invloed op de seksualiteit van de zorgvrag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oldoende privacy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n pijnlijk zij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Tekenen van infectie: koort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3" name="Picture 6" descr="Urineweginfectie"/>
          <p:cNvPicPr/>
          <p:nvPr/>
        </p:nvPicPr>
        <p:blipFill>
          <a:blip r:embed="rId1"/>
          <a:stretch/>
        </p:blipFill>
        <p:spPr>
          <a:xfrm>
            <a:off x="1763640" y="1052640"/>
            <a:ext cx="400860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Observatiepunte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ymptomen urineweginfec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oede doorstro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Aanwezigheid lekk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veelheid, kleur, geur en aspec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Picture 5" descr="1082_la"/>
          <p:cNvPicPr/>
          <p:nvPr/>
        </p:nvPicPr>
        <p:blipFill>
          <a:blip r:embed="rId1"/>
          <a:stretch/>
        </p:blipFill>
        <p:spPr>
          <a:xfrm>
            <a:off x="5292720" y="3500280"/>
            <a:ext cx="261936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inbreng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ygië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Pijn tijdens het inbrengen van de kathet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iet meer dan 500 ml urine laten afvloei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echniek bij de ma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echniek bij de vrouw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Verdana"/>
              </a:rPr>
              <a:t>Kenmerk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via opening in buik, boven schaambeen in blaas gebrach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voorkeur silicone catheter ( kan langere tijd zitten, minder gauw irritaties)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Verdana"/>
              </a:rPr>
              <a:t>Indicatie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aandoening of operatie urinebui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Blijvende dwarslaes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Blijvende incontinent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Afbeelding 3" descr="suprapubis.jpg"/>
          <p:cNvPicPr/>
          <p:nvPr/>
        </p:nvPicPr>
        <p:blipFill>
          <a:blip r:embed="rId1"/>
          <a:stretch/>
        </p:blipFill>
        <p:spPr>
          <a:xfrm>
            <a:off x="5219640" y="4005360"/>
            <a:ext cx="3597480" cy="26002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uprapubisch Kathe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upra Pubis Kathe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06600" y="1852200"/>
            <a:ext cx="704376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Picture 5" descr="f47mszien4hulpmiddelenkatheter"/>
          <p:cNvPicPr/>
          <p:nvPr/>
        </p:nvPicPr>
        <p:blipFill>
          <a:blip r:embed="rId1"/>
          <a:stretch/>
        </p:blipFill>
        <p:spPr>
          <a:xfrm>
            <a:off x="1835280" y="1392120"/>
            <a:ext cx="4968720" cy="45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Verzorgen van een supra pubis cathet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zorgvrager met een supra-pubische katheter heeft dus een niet-natuurlijke verbinding tussen de blaas en de buitenwereld (een fistel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a fistelvorming is de verzorging een niet-complexe handeling, die veel zorgvragers   zelf kunnen uitvoer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Blaasspoele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4" descr="7"/>
          <p:cNvPicPr/>
          <p:nvPr/>
        </p:nvPicPr>
        <p:blipFill>
          <a:blip r:embed="rId1"/>
          <a:stretch/>
        </p:blipFill>
        <p:spPr>
          <a:xfrm>
            <a:off x="2268360" y="1628640"/>
            <a:ext cx="6050160" cy="40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000000"/>
                </a:solidFill>
                <a:latin typeface="Verdana"/>
              </a:rPr>
              <a:t>Redenen hiervoor kunnen zijn: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voorkomen van infecti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lokaal toedienen van medicatie, bijvoorbeeld cytostatic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een verstopte of bijna verstopte blaaskatheter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voorkomen van bloedstolsels na een opera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laasspoelen kan plaatsvinden met de hand ofwel met een open systeem (uro tainer)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oor het spoelen met een gesloten systeem is een driewegkatheter nodi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et kunstmatig af laten lopen van urine ui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laas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iertoe wordt een steriele catheter, do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uis( urethra) in de urinebla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ebracht, zodat ontlediging kan plaatsvinden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Katheteriseren is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Blaas spoelen met een open systeem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Verdana"/>
              </a:rPr>
              <a:t>Doel: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doorgang van de verblijfskatheter open houden / toedienen medica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900" spc="-1" strike="noStrike">
                <a:solidFill>
                  <a:srgbClr val="000000"/>
                </a:solidFill>
                <a:latin typeface="Verdana"/>
              </a:rPr>
              <a:t>Bij wie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: Zorgvragers bij wie de blaas met een zakje moet worden gespoeld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6666"/>
                </a:solidFill>
                <a:latin typeface="Arial"/>
              </a:rPr>
              <a:t>Verschillende redenen om de blaas te spoelen met zakjes:</a:t>
            </a:r>
            <a:br>
              <a:rPr sz="2400"/>
            </a:b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Om de afvoer van urine in stand te houden: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bij zichtbare hematurie in d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geproduceerde urine (met stolsels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-bij gruis / afval in de blaas e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de katheter, die dan verstopt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n raken. 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Blaasspoelen om  medicatie toe te dienen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cytostaticakuren met lokale werking bijv. bij blaastumor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reinigen van de blaas vanwege een zeer ernstige urineweginfectie, een pyur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4" descr="2086"/>
          <p:cNvPicPr/>
          <p:nvPr/>
        </p:nvPicPr>
        <p:blipFill>
          <a:blip r:embed="rId1"/>
          <a:stretch/>
        </p:blipFill>
        <p:spPr>
          <a:xfrm>
            <a:off x="5580000" y="3860640"/>
            <a:ext cx="2808360" cy="25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Picture 5" descr="zz09werkbladsupra"/>
          <p:cNvPicPr/>
          <p:nvPr/>
        </p:nvPicPr>
        <p:blipFill>
          <a:blip r:embed="rId1"/>
          <a:stretch/>
        </p:blipFill>
        <p:spPr>
          <a:xfrm>
            <a:off x="1187280" y="900000"/>
            <a:ext cx="662472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Katheter is een buis of canule met een ro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uiteinde, om kans op beschadig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an weefsel te verkleinen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Zijdelingse openingen &gt; afloop uri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s  in verschillende soorten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maten en  materialen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oorten Katheter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 om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èè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malig te katheteriser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erblijfskatheter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s om blaas continue mee te spoelen ( 3 lumen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iemann katheter: alleen bij mannen met prostaat hypertrof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uprapubis kathet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Afbeelding 4" descr="nelatoncatheter-250x250.jpg"/>
          <p:cNvPicPr/>
          <p:nvPr/>
        </p:nvPicPr>
        <p:blipFill>
          <a:blip r:embed="rId1"/>
          <a:stretch/>
        </p:blipFill>
        <p:spPr>
          <a:xfrm>
            <a:off x="6012000" y="393372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6666"/>
                </a:solidFill>
                <a:latin typeface="Arial"/>
              </a:rPr>
              <a:t>Kenmerken verblijfskatheter: </a:t>
            </a:r>
            <a:br>
              <a:rPr sz="32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lijft na inbrengen 4-8 weken zitten, Bij een silliconen Kad: 3 maanden intramuraal, 6 maanden extramuraa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allon gevuld met steriel water of glycerine, ter fixa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2 lumen catheter:  1 voor afvoer urine en 1 om ballon te vull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overdag aangesloten aan beenza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n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 nachts aan urine nachtza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 stop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Wanneer breng je een verblijfskatheter in en waarom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Wanneer/waarom verblijfskatheter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raamvrouwen(moeilijk plassen na bevall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Geriatrische zorgvrag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ronische zieken: MS, reuma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tandelijke en lichamelijke gehandicapten(spasticiteit, misvorm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kken, dwarslaes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irurgische zorgvrager(buik, hart long operat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Eenmalige katheterisatie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Post-operatief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Vermoeden van urineretenti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Neurologische afwijkingen (zelf katheterisatie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Urinekweek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Wat zijn belangrijke aandachtspunten bij het hebben van en Katheter(denk aan Gordon!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9:34:53Z</dcterms:created>
  <dc:creator>Rina</dc:creator>
  <dc:description/>
  <dc:language>en-US</dc:language>
  <cp:lastModifiedBy>A.R. Niemeijer</cp:lastModifiedBy>
  <dcterms:modified xsi:type="dcterms:W3CDTF">2016-12-14T09:22:39Z</dcterms:modified>
  <cp:revision>33</cp:revision>
  <dc:subject/>
  <dc:title>Indeling WCS=</dc:title>
</cp:coreProperties>
</file>