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8A82-5E11-484F-BFB6-B5E56D278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4636-1902-4DFA-978F-D8C07B1F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0FE8-9B7B-4C6E-AA1F-5897D0D3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215F-3A47-4488-9363-118281260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79B3E-4E7F-47F3-8DDA-B7CA3AA3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460A-241D-4817-9749-3901DC116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0A000-347C-4D00-811B-B2859781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ED8F-07B5-46A8-8DF6-CCB26D9D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3772-7183-48DD-99E6-7EFC3029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72F5-6CFB-45FE-8C9B-78627D501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BA398-E88D-4D1B-98F4-F116DB418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25E-E097-4F76-9345-450756B3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912FA-77E7-44B8-9B02-BED9681C8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CEE3-D269-443C-875F-E019F073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143A-9504-4C47-9605-684B8252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03B26-DC6A-49B5-9059-E7D309D9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7A5D1-A6F2-435C-9E6B-C24EC8593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D843-74BF-4B61-B772-C9260737E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023E-6089-47F9-941B-92D69AC6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5BD-2BDD-4F62-A12C-3A9B371F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7E9A-7D40-47FA-AC8D-86D8702C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D4D5-E020-4B58-B58F-034D7D3C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695A-8BF9-41B3-9AA2-B293ADDE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EE72-6C51-4A84-A87E-A418314A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AB1C7-FA72-453C-A8C7-DAB210854E2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6676-5CE3-4533-8B5B-41142F79AD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258560" y="1844640"/>
            <a:ext cx="60418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Katheteriser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Picture 6" descr="Plaatsten_catheter_a_demeure"/>
          <p:cNvPicPr/>
          <p:nvPr/>
        </p:nvPicPr>
        <p:blipFill>
          <a:blip r:embed="rId1"/>
          <a:stretch/>
        </p:blipFill>
        <p:spPr>
          <a:xfrm>
            <a:off x="2340000" y="2565360"/>
            <a:ext cx="5326200" cy="347508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80560" y="188640"/>
            <a:ext cx="6518520" cy="43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6666"/>
                </a:solidFill>
                <a:latin typeface="Arial"/>
              </a:rPr>
              <a:t>Made by : Rina Niemeijer</a:t>
            </a:r>
            <a:endParaRPr b="0" lang="en-US" sz="1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eenmalige katheterisatie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Postoperatie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moeden van urineretent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Neurologische afwijkingen (zelf katheteris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Urinek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at zijn belangrijke aandachtspunten bij het hebben van een Katheter(denk aan Gordon!)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bij het hebb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Is een voorbehouden hande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eft invloed op de seksualiteit van de zorgvrag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ldoende privac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Kan pijnlijk zij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Tekenen van infectie: koo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Picture 6" descr="Urineweginfectie"/>
          <p:cNvPicPr/>
          <p:nvPr/>
        </p:nvPicPr>
        <p:blipFill>
          <a:blip r:embed="rId1"/>
          <a:stretch/>
        </p:blipFill>
        <p:spPr>
          <a:xfrm>
            <a:off x="1763640" y="1052640"/>
            <a:ext cx="400860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bservatiepunt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ymptomen urineweginfec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oede doorstroom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anwezigheid lekkag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veelheid, kleur, geur en aspec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Picture 5" descr="1082_la"/>
          <p:cNvPicPr/>
          <p:nvPr/>
        </p:nvPicPr>
        <p:blipFill>
          <a:blip r:embed="rId1"/>
          <a:stretch/>
        </p:blipFill>
        <p:spPr>
          <a:xfrm>
            <a:off x="5292720" y="3500280"/>
            <a:ext cx="26193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Aandachtspunten inbrengen van een katheter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oorbehouden Hande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Juiste maat: charrie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Informatievoorziening Zv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ygië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Pijn tijdens het inbrengen van de kathete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iet meer dan 500 ml urine laten afvloei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ma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Techniek bij de vrouw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Aseptisch en hygiënisch werke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403280" y="1844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Kenmerk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ia opening(fistel) in buik, boven schaambeen(os pubis) in blaas gebracht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voorkeur silicone katheter ( kan langere tijd zitten, minder gauw irritaties)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oliklinisch onder plaatselijke verdoving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900" spc="-1" strike="noStrike">
                <a:solidFill>
                  <a:srgbClr val="000000"/>
                </a:solidFill>
                <a:latin typeface="Verdana"/>
              </a:rPr>
              <a:t>Indicatie: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cute ret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aandoening of operatie urinebui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dwarslaes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Schrompelblaa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Blijvende incontinentie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900" spc="-1" strike="noStrike">
                <a:solidFill>
                  <a:srgbClr val="000000"/>
                </a:solidFill>
                <a:latin typeface="Verdana"/>
              </a:rPr>
              <a:t>Preventief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Afbeelding 3" descr="suprapubis.jpg"/>
          <p:cNvPicPr/>
          <p:nvPr/>
        </p:nvPicPr>
        <p:blipFill>
          <a:blip r:embed="rId1"/>
          <a:stretch/>
        </p:blipFill>
        <p:spPr>
          <a:xfrm>
            <a:off x="5364000" y="4257720"/>
            <a:ext cx="3597480" cy="26002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02920" y="301320"/>
            <a:ext cx="7280280" cy="46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Suprapubisch Katheter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upra Pubis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6600" y="1852200"/>
            <a:ext cx="704376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5" descr="f47mszien4hulpmiddelenkatheter"/>
          <p:cNvPicPr/>
          <p:nvPr/>
        </p:nvPicPr>
        <p:blipFill>
          <a:blip r:embed="rId1"/>
          <a:stretch/>
        </p:blipFill>
        <p:spPr>
          <a:xfrm>
            <a:off x="1835280" y="1392120"/>
            <a:ext cx="4968720" cy="45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6666"/>
                </a:solidFill>
                <a:latin typeface="Arial"/>
              </a:rPr>
              <a:t>Verzorgen van een supra pubis c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zorgvrager met een supra-pubische katheter heeft dus een niet-natuurlijke verbinding tussen de blaas en de buitenwereld (een fistel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Na fistelvorming is de verzorging een niet-complexe handeling, die veel zorgvragers   zelf kunnen uitvoer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oordelen Supra pubis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v kan makkelijker verzor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blaasst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kans op infect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inder belasten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eksualitei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vrouwen: minder kans op fecale infectie van anus naar urethr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Bij mannen minder kans op prostatitis en urethrit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Anatomie van de Urineweg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4" name="Picture 2" descr="Gerelateerde afbeelding"/>
          <p:cNvPicPr/>
          <p:nvPr/>
        </p:nvPicPr>
        <p:blipFill>
          <a:blip r:embed="rId1"/>
          <a:stretch/>
        </p:blipFill>
        <p:spPr>
          <a:xfrm>
            <a:off x="1370160" y="1473120"/>
            <a:ext cx="6777000" cy="44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Verwijderen van de 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Eenvoudige handel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Werk hygiënisch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inbrengen: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verwijderen: wegwerp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Bij Cad: eerst water uit de ballon hal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Zo nodig kweek katheter pu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Oefening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Het aantrekken van steriele handschoenen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et kunstmatig af laten lopen van urine ui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laas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iertoe wordt een steriele Katheter, doo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de urinebuis( urethra) in de urineblaas(vesica 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gebracht, zodat ontlediging kan plaatsvinden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Definitie Katheteriseren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en Katheter is een buis of canule met een ron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uiteinde, om kans op beschadig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van weefsel te verkleinen.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Zijdelingse openingen &gt; afloop urin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s  in verschillende soorten,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maten en  materialen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Soorten Katheter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 om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éénmalig</a:t>
            </a: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 te katheterise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Verblijfskatheter (Catheter à Demeur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atheters om blaas continue mee te spoelen ( 3 lum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Tiemann katheter: alleen bij mannen met prostaat hypertrofie/vernauwing van de urinebu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Nelaton katheter(recht uitein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Supra pubis kath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Afbeelding 4" descr="nelatoncatheter-250x250.jpg"/>
          <p:cNvPicPr/>
          <p:nvPr/>
        </p:nvPicPr>
        <p:blipFill>
          <a:blip r:embed="rId1"/>
          <a:stretch/>
        </p:blipFill>
        <p:spPr>
          <a:xfrm>
            <a:off x="6012000" y="3933720"/>
            <a:ext cx="20160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Eenmalige Katheter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eenmalige blaasledig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Intermitterend Katheteriseren: bij aandoeningen van de blaas en ruggemerg lets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chil man en vrouw: in de lengt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coat en on geco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eft 1 ope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Verbijfskathet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Catheter à Demeu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hoeft na inbrengen na 6 weken verwisseld te word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ij een Silliconen: 3 maanden intramuraal, 6 maanden extramuraal(afhankelijk instel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ballon gevuld met steriel water of glycerine, ter fixati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2 lumen Katheter:  1 voor afvoer urine en 1 om ballon te vulle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overdag aangesloten aan been 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en </a:t>
            </a:r>
            <a:r>
              <a:rPr b="0" lang="nl-NL" sz="2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s nachts aan urine nachtzak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100" spc="-1" strike="noStrike">
                <a:solidFill>
                  <a:srgbClr val="000000"/>
                </a:solidFill>
                <a:latin typeface="Verdana"/>
              </a:rPr>
              <a:t>Katheter stop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katheteriseren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Het leegmaken en houden van de bla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Afwijkingen aan de urine we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Ziekte van de zorgvrager(kan niet naar de wc/ toil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Stellen van een diagnose: urine voor microbiologisch onderzo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Exacte bepaling resi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oor onderzoek zoals een cystografi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6666"/>
                </a:solidFill>
                <a:latin typeface="Arial"/>
              </a:rPr>
              <a:t>Indicaties voor (verblijfs)blaaskatheter: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Kraamvrouwen(moeilijk plassen na bevallin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Geriatrische zorgvrag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ronische zieken: MS, reuma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Verstandelijke en lichamelijke gehandicapten(spasticiteit, misvormi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bekken, dwarslaes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Chirurgische zorgvrager(buik, hart long operati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9:34:53Z</dcterms:created>
  <dc:creator>Rina</dc:creator>
  <dc:description/>
  <dc:language>en-US</dc:language>
  <cp:lastModifiedBy>Rina Niemeijer</cp:lastModifiedBy>
  <dcterms:modified xsi:type="dcterms:W3CDTF">2018-03-06T08:18:32Z</dcterms:modified>
  <cp:revision>39</cp:revision>
  <dc:subject/>
  <dc:title>Indeling WCS=</dc:title>
</cp:coreProperties>
</file>