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EB857A-61A7-473D-A45C-39DDABF93F3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FA19FC-9C69-480C-A474-84ADD253EF56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A140B2-CD60-4110-A8D4-40974638CBF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54FE0A-A087-409B-8B77-7FD41C25222D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4A87F2-B18A-411C-BDB9-60DDF5091012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00040-B169-45E5-88D1-C188708757E5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32145F-A09D-4C2B-BE3C-7C575EA67FC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5D5C99-8456-4D62-891F-606EDA8E1074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04B4D-2980-4E05-BFF5-840AA7F76518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6E30B-396E-4B2C-9AB9-E66FFA1B3937}" type="slidenum">
              <a:rPr b="0" lang="nl-NL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9C6D-6C08-415F-B1A5-B76E30B06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1B83-ACC0-4D39-AF09-A50D2109C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1833-FAB7-46CB-98B4-62CB8103F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CF10-6F5A-4F1D-8AD4-25AA7C834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374AF-9000-42DF-AAC0-F36F6716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99057-7D67-492E-A15A-CE986EC0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6C8D-0752-41D8-9440-D53755D4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DDB7-E198-4A2A-907B-54912021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D84C-CAC0-4913-A14C-EF9A3098F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5075-5F67-4073-91DA-A7C6888B0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AB4E2-2FC5-44F3-9E2A-1FCA446B3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C5D7-E19C-45F6-8C28-F6B0F34A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5579-CECE-4DEF-A876-1D8BF2612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C69D-FF73-4261-B420-364CD356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A013-BF55-4778-8FC2-50E65F9D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CA0BC-4BDC-4C46-8512-7C0891B6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83DE-1674-4C04-9443-0620562FA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FE0B9-5530-4F82-9A39-E654B3E86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5D3E0-23F2-48F5-85A8-AEDE40570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D595E-8CE2-4C22-A872-669E7E8C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3E93D1-C67D-45D7-8FF6-4D85AA098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D47C6-6AE7-4420-A3EE-BF2C5761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80B9-BC6F-41FA-B9BE-306A9B8DD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31ECCE-A35B-4B1C-A235-49FE715D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39398-1FDA-4088-8311-423F77FF5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0C120-9266-4E96-B278-C36E33AC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7D81-0346-42BF-8033-6A0C44AE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EDD88-48F3-4634-A938-F8048589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52679-6453-4D92-B094-9692CE0A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04B9E-5B2D-4F38-A033-C1491390B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FB59D-D691-4883-8392-E470E1135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5DED8-9AB7-4A17-854F-37781EFFF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51B9-7FAB-4D24-9E52-92794AB4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7D95-5117-4AF8-BCB8-1F902CACF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ACF73-099B-4794-BBA9-C6E9E2D0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F5D74-CC5F-4D1B-9194-665869BF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1B460-6F8F-49BC-9760-9EE936CA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96FF7-5822-4ED0-943C-D637D4B4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6956-9314-4CD7-8B69-68944720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752D9-9DED-4A02-BD35-8191EB4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CD8BF-0CFA-49B0-9818-EDD95244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388B-B3BF-4EEE-8C7B-1F3A5D36C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F896A-922E-44BE-8E49-7B68D3A0D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92FC-0E52-4F0D-B1AB-54648088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67B-1872-4B12-B569-50FF2476A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363-EDE2-44DF-8ADF-593D836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0FE5-14A8-4977-B2B5-404C3BCD5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F080-3326-449A-86C5-08B9DAB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D98D8E-5C38-4CFD-B419-B96D76235D4A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488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8920"/>
              <a:ext cx="4815000" cy="48153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160"/>
              <a:ext cx="3912480" cy="391248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9760" cy="383976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440" y="177012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AA85B-3E67-4267-A6D7-1EA0A80AF7C7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60EAC5-F8E5-4E55-9252-1C2627A9D35B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f1c"/>
            </a:gs>
            <a:gs pos="100000">
              <a:srgbClr val="9e0000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70320" cy="2658960"/>
            <a:chOff x="6670440" y="3894120"/>
            <a:chExt cx="247032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6000" cy="7563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2040"/>
              <a:ext cx="2469960" cy="24710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720" y="4160520"/>
              <a:ext cx="1571040" cy="157140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280" y="4037760"/>
              <a:ext cx="144108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840" y="4495320"/>
              <a:ext cx="1046880" cy="10472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0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000" spc="-1" strike="noStrike">
                <a:solidFill>
                  <a:srgbClr val="57170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2800" spc="-1" strike="noStrike">
                <a:solidFill>
                  <a:srgbClr val="57170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1FFEFF-0B25-445C-A937-34E726056EFD}" type="slidenum">
              <a:rPr b="0" lang="nl-NL" sz="2800" spc="-1" strike="noStrike">
                <a:solidFill>
                  <a:srgbClr val="571701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ffffff"/>
                </a:solidFill>
                <a:latin typeface="Century Gothic"/>
              </a:rPr>
              <a:t>INTRAMUSCULAIR INJECTEREN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533520" y="3843360"/>
            <a:ext cx="4954320" cy="19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2225520" y="2968560"/>
            <a:ext cx="44197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CONTRA INDICATI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eschadigde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ntstoken hui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ematoo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hu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amma amputatie met okselklier verwijderin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GEL VAN 5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835280" y="1599840"/>
            <a:ext cx="6394320" cy="341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naam en geboortedatu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medicijn ( let op vervaldatum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dos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oedieningsvor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Juiste tijd en aantal k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TECHNIEK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124000" y="1600200"/>
            <a:ext cx="610560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laats desinf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k met volle hand spierbund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pier laten ontspan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lot loodrecht injecter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Controle of je niet in bloedvat zit bij IM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          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Langzaam in spui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aald vlot erui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PRIKACCIDENT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76000" y="1773360"/>
            <a:ext cx="575964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Nooit huls terug op de naald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bruik naaldencontaine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tel jezelf op de hoogte, bij de instelling waar je werkt, hoe om te gaan met prikaccident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EREKENINGEN: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1 ml =10 mg Phenerg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7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geef j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2 ml = 15 mg Hald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0 mg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 voorraad: 1 ml= 5 mg Morfi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eef 12,5 mg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Hoeveel ml zuig je op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187280" y="1600200"/>
            <a:ext cx="7042320" cy="377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=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parenteraal toedienen medicijne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(buiten spijsverteringskanaal om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Afbeelding 3" descr="injectie.jpg"/>
          <p:cNvPicPr/>
          <p:nvPr/>
        </p:nvPicPr>
        <p:blipFill>
          <a:blip r:embed="rId1"/>
          <a:stretch/>
        </p:blipFill>
        <p:spPr>
          <a:xfrm>
            <a:off x="5867280" y="1125360"/>
            <a:ext cx="2143080" cy="16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900000" y="1600200"/>
            <a:ext cx="7329600" cy="398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Century Gothic"/>
              </a:rPr>
              <a:t>Wet BIG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jecteren is een voorbehouden handeling…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Wat houdt dit in?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Aan welke 4 voorwaarden moet voldaan worden als verpleegkundig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Deskundigheid: voldoende schol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Bekwaamheid: ervaring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Opdracht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514440" indent="-514440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AutoNum type="arabicParenR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Century Gothic"/>
              </a:rPr>
              <a:t>Mogelijke tussenkomst van huisarts/art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REDENEN OM TE 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611280" y="1599840"/>
            <a:ext cx="7618320" cy="31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nel (meteen) resulta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ijn onwerkzaam wordt gemaakt door één van de spijsverteringssapp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rale medicatie niet kan worden in geno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Patiënt geen orale medicatie wil innem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edicatie alleen in injectievorm verkrijgbaar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ER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95280" y="277560"/>
            <a:ext cx="783432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4 verschillende manieren van injecteren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cutaan (i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Subcutaan (s.c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musculair (i.m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Intraveneus (i.v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3" name="Picture 8" descr="SC_45_90_graden"/>
          <p:cNvPicPr/>
          <p:nvPr/>
        </p:nvPicPr>
        <p:blipFill>
          <a:blip r:embed="rId1"/>
          <a:stretch/>
        </p:blipFill>
        <p:spPr>
          <a:xfrm>
            <a:off x="4114800" y="2637000"/>
            <a:ext cx="432108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INJECTIE PLAATSEN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95280" y="2795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te bilspier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glutaeus maxim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groot, goed doorbloed, grote hoeveelheid toedie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ste, buitenste bilkwadran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omzeilt zenuwbane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Century Gothic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5796000" y="755640"/>
            <a:ext cx="2647800" cy="29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DIJBEEN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rectus femori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ovenbeen in 3-en verdelen: middelste dee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Zie Vilans protoco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entury Gothic"/>
              </a:rPr>
              <a:t>BOVENAR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Musculus deltoïdeu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Voor kleinere hv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Century Gothic"/>
              </a:rPr>
              <a:t>Bv. Griepprik, vaccinaties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5364000" y="981000"/>
            <a:ext cx="265752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1:15:47Z</dcterms:created>
  <dc:creator>Rhea</dc:creator>
  <dc:description/>
  <dc:language>en-US</dc:language>
  <cp:lastModifiedBy>Rina Niemeijer</cp:lastModifiedBy>
  <dcterms:modified xsi:type="dcterms:W3CDTF">2018-02-13T07:29:54Z</dcterms:modified>
  <cp:revision>26</cp:revision>
  <dc:subject/>
  <dc:title>Wet BIG</dc:title>
</cp:coreProperties>
</file>