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2D4D-31F9-40B0-B5AC-CCFB117D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97FB-E5C5-4E87-8986-FD1602E37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CA46-6A9B-4166-8C21-B12A3B7F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04D4-D836-4DD1-A248-9A869E71B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1E70-DC0B-4A3E-8178-664C86F91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10E7-926E-4C9E-9D1D-CE4C18ACD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DF6E6-E08E-4A86-9B14-0A2A0295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9FF2-B53E-4827-857C-069A3921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0037-BFB5-4EEF-A7B8-FB59366C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6323C-D872-46AA-A25D-B3ABFD16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C56D8-B8CA-45D5-AE82-32861377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AD81-FDEB-46C6-8386-B5767112C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F1B2-EAFD-4680-8E93-0AEE6165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8EF31-123B-43C5-AD00-4A2026BE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0BCE3-377F-41B4-B31E-99F91566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A7C2-0539-42B5-8F58-9E91663B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03794-4B80-4216-A03A-998760C71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E705D-7356-49CF-A578-FB9C58046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4A309-ECF1-4644-9ACE-BCCB3199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C72A4-C559-4F32-9609-681C444D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24E76-491B-401E-90D1-EC067AC5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11BBD-9ABD-45CA-AFB7-70A59B2DE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64B9-5297-485A-AFC4-76BE18DC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EFAC6-07C8-41C5-A2C8-C1A5CAD8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E3D3D-CD20-4875-B5D1-76E397BC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306F3-958F-47A4-8DE3-B5AF8ACC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4757D-C792-4FEF-9604-572FC88C2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D317A-25AA-4D84-9E24-4802D030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FDE52-1729-4D8F-84AD-3D302D3A1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EFD99-3CCB-4AA8-B2FF-C5D7339F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5A53E-1DFB-4AE9-857B-4380BF0D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416BC-68DB-43B2-84DE-1B86BC36C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94A69-DE4A-4002-AF59-85677A79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11D67-5ADE-4638-9CCA-14B7577E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0BA80-1E7D-4BE0-85A5-7E419AE9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143E7-EB1A-40FE-AC7B-8E9C72A22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5B50A-CAED-424B-8AB8-70A1F290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662FE-7D96-4E89-A4CC-D3CA6B34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33284-B574-43E2-8336-8AB151FA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1B327-CEAB-4E9C-A3A4-6C47F930B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40D43-6BBB-45E0-85DA-2FE94AB4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3C960-0E2D-48A2-B2BE-7407A188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D0CA5-2D72-4731-9DFB-345C65B7B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863-195A-476D-9007-C20D2567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2294-AD1A-4440-8197-9B193D67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07D0-9528-40DB-8E30-C83337B3B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E7C0-C115-4ABD-A999-2BAF62E4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98B2-AFB7-4CB3-8CE3-4CBE4CF7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EF5AE3-892A-42BA-9943-7811790C5E6B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67056-0373-4AB6-957C-458038E74453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D79DA0-B608-40D0-9F48-19E335A50198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A11F0C-9551-45AE-B915-CB546E38B685}" type="slidenum">
              <a:rPr b="0" lang="nl-NL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5400" spc="-1" strike="noStrike">
                <a:solidFill>
                  <a:srgbClr val="eb3d9f"/>
                </a:solidFill>
                <a:latin typeface="Trebuchet MS"/>
              </a:rPr>
              <a:t>Sonde inbrengen </a:t>
            </a:r>
            <a:endParaRPr b="0" lang="en-US" sz="5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800" spc="-1" strike="noStrike">
              <a:solidFill>
                <a:srgbClr val="7f7f7f"/>
              </a:solidFill>
              <a:latin typeface="Trebuchet MS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5364000" y="330120"/>
            <a:ext cx="1424160" cy="25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dat sonde niet op juiste plaats zit of blijft zitt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opboeren, braken, hoesten kan sonde verplaats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elke voeding aansluiting sonde control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  Lucht in maag spui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kmoespapiertje(PH meting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Actieknop: Terug of Vorige 3">
            <a:hlinkClick r:id="rId1" action="ppaction://hlinksldjump"/>
          </p:cNvPr>
          <p:cNvSpPr/>
          <p:nvPr/>
        </p:nvSpPr>
        <p:spPr>
          <a:xfrm>
            <a:off x="1187280" y="5732640"/>
            <a:ext cx="682920" cy="504720"/>
          </a:xfrm>
          <a:custGeom>
            <a:avLst/>
            <a:gdLst>
              <a:gd name="textAreaLeft" fmla="*/ 32400 w 682920"/>
              <a:gd name="textAreaRight" fmla="*/ 650520 w 68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9221" h="21600">
                <a:moveTo>
                  <a:pt x="0" y="0"/>
                </a:moveTo>
                <a:lnTo>
                  <a:pt x="29221" y="0"/>
                </a:lnTo>
                <a:lnTo>
                  <a:pt x="29221" y="21600"/>
                </a:lnTo>
                <a:lnTo>
                  <a:pt x="0" y="21600"/>
                </a:lnTo>
                <a:close/>
              </a:path>
              <a:path fill="lightenLess" w="29221" h="21600">
                <a:moveTo>
                  <a:pt x="0" y="0"/>
                </a:moveTo>
                <a:lnTo>
                  <a:pt x="29221" y="0"/>
                </a:lnTo>
                <a:lnTo>
                  <a:pt x="27821" y="1400"/>
                </a:lnTo>
                <a:lnTo>
                  <a:pt x="1400" y="1400"/>
                </a:lnTo>
                <a:close/>
              </a:path>
              <a:path fill="darken" w="29221" h="21600">
                <a:moveTo>
                  <a:pt x="29221" y="0"/>
                </a:moveTo>
                <a:lnTo>
                  <a:pt x="29221" y="21600"/>
                </a:lnTo>
                <a:lnTo>
                  <a:pt x="27821" y="20200"/>
                </a:lnTo>
                <a:lnTo>
                  <a:pt x="27821" y="1400"/>
                </a:lnTo>
                <a:close/>
              </a:path>
              <a:path fill="darkenLess" w="29221" h="21600">
                <a:moveTo>
                  <a:pt x="292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21" y="20200"/>
                </a:lnTo>
                <a:close/>
              </a:path>
              <a:path fill="lighten" w="292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221" h="21600">
                <a:moveTo>
                  <a:pt x="7604" y="10800"/>
                </a:moveTo>
                <a:lnTo>
                  <a:pt x="21617" y="3794"/>
                </a:lnTo>
                <a:lnTo>
                  <a:pt x="21617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3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Kans op verstopping van 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eding koekt aan i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art en eindigen met 20 ml lauw wat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inimaal 6x per dag sonde doorspoel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7" name="Actieknop: Terug of Vorige 3">
            <a:hlinkClick r:id="rId1" action="ppaction://hlinksldjump"/>
          </p:cNvPr>
          <p:cNvSpPr/>
          <p:nvPr/>
        </p:nvSpPr>
        <p:spPr>
          <a:xfrm>
            <a:off x="971640" y="4221000"/>
            <a:ext cx="610920" cy="503280"/>
          </a:xfrm>
          <a:custGeom>
            <a:avLst/>
            <a:gdLst>
              <a:gd name="textAreaLeft" fmla="*/ 32400 w 610920"/>
              <a:gd name="textAreaRight" fmla="*/ 578520 w 61092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16" h="21600">
                <a:moveTo>
                  <a:pt x="0" y="0"/>
                </a:moveTo>
                <a:lnTo>
                  <a:pt x="26216" y="0"/>
                </a:lnTo>
                <a:lnTo>
                  <a:pt x="26216" y="21600"/>
                </a:lnTo>
                <a:lnTo>
                  <a:pt x="0" y="21600"/>
                </a:lnTo>
                <a:close/>
              </a:path>
              <a:path fill="lightenLess" w="26216" h="21600">
                <a:moveTo>
                  <a:pt x="0" y="0"/>
                </a:moveTo>
                <a:lnTo>
                  <a:pt x="26216" y="0"/>
                </a:lnTo>
                <a:lnTo>
                  <a:pt x="24816" y="1400"/>
                </a:lnTo>
                <a:lnTo>
                  <a:pt x="1400" y="1400"/>
                </a:lnTo>
                <a:close/>
              </a:path>
              <a:path fill="darken" w="26216" h="21600">
                <a:moveTo>
                  <a:pt x="26216" y="0"/>
                </a:moveTo>
                <a:lnTo>
                  <a:pt x="26216" y="21600"/>
                </a:lnTo>
                <a:lnTo>
                  <a:pt x="24816" y="20200"/>
                </a:lnTo>
                <a:lnTo>
                  <a:pt x="24816" y="1400"/>
                </a:lnTo>
                <a:close/>
              </a:path>
              <a:path fill="darkenLess" w="26216" h="21600">
                <a:moveTo>
                  <a:pt x="262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16" y="20200"/>
                </a:lnTo>
                <a:close/>
              </a:path>
              <a:path fill="lighten" w="262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16" h="21600">
                <a:moveTo>
                  <a:pt x="6102" y="10800"/>
                </a:moveTo>
                <a:lnTo>
                  <a:pt x="20115" y="3794"/>
                </a:lnTo>
                <a:lnTo>
                  <a:pt x="20115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erzorgen van PEG/PEJ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Pas aangelegd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: extra hygië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anden fistel genez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esinfect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tadine jodiu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Na 6 weke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inigen water z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teriele splitgaa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x per dag draai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Afbeelding 3" descr="PEG.bmp"/>
          <p:cNvPicPr/>
          <p:nvPr/>
        </p:nvPicPr>
        <p:blipFill>
          <a:blip r:embed="rId1"/>
          <a:stretch/>
        </p:blipFill>
        <p:spPr>
          <a:xfrm>
            <a:off x="6084720" y="1052640"/>
            <a:ext cx="2735280" cy="2523960"/>
          </a:xfrm>
          <a:prstGeom prst="rect">
            <a:avLst/>
          </a:prstGeom>
          <a:ln w="0">
            <a:noFill/>
          </a:ln>
        </p:spPr>
      </p:pic>
      <p:pic>
        <p:nvPicPr>
          <p:cNvPr id="241" name="Afbeelding 6" descr="peg 2.jpg"/>
          <p:cNvPicPr/>
          <p:nvPr/>
        </p:nvPicPr>
        <p:blipFill>
          <a:blip r:embed="rId2"/>
          <a:stretch/>
        </p:blipFill>
        <p:spPr>
          <a:xfrm>
            <a:off x="5651640" y="3789360"/>
            <a:ext cx="3214440" cy="22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ickey butto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pic>
        <p:nvPicPr>
          <p:cNvPr id="243" name="Tijdelijke aanduiding voor inhoud 3" descr="Mickey sonde.bmp"/>
          <p:cNvPicPr/>
          <p:nvPr/>
        </p:nvPicPr>
        <p:blipFill>
          <a:blip r:embed="rId1"/>
          <a:stretch/>
        </p:blipFill>
        <p:spPr>
          <a:xfrm>
            <a:off x="611280" y="1341360"/>
            <a:ext cx="4330440" cy="3241800"/>
          </a:xfrm>
          <a:prstGeom prst="rect">
            <a:avLst/>
          </a:prstGeom>
          <a:ln w="0">
            <a:noFill/>
          </a:ln>
        </p:spPr>
      </p:pic>
      <p:pic>
        <p:nvPicPr>
          <p:cNvPr id="244" name="Afbeelding 4" descr="mickey sonde 1.bmp"/>
          <p:cNvPicPr/>
          <p:nvPr/>
        </p:nvPicPr>
        <p:blipFill>
          <a:blip r:embed="rId2"/>
          <a:stretch/>
        </p:blipFill>
        <p:spPr>
          <a:xfrm>
            <a:off x="5292720" y="3444840"/>
            <a:ext cx="3643200" cy="3218040"/>
          </a:xfrm>
          <a:prstGeom prst="rect">
            <a:avLst/>
          </a:prstGeom>
          <a:ln w="0">
            <a:noFill/>
          </a:ln>
        </p:spPr>
      </p:pic>
      <p:pic>
        <p:nvPicPr>
          <p:cNvPr id="245" name="Afbeelding 5" descr="mickey sonde 2.jpg"/>
          <p:cNvPicPr/>
          <p:nvPr/>
        </p:nvPicPr>
        <p:blipFill>
          <a:blip r:embed="rId3"/>
          <a:stretch/>
        </p:blipFill>
        <p:spPr>
          <a:xfrm>
            <a:off x="5796000" y="1268280"/>
            <a:ext cx="2133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Berekenen hoeveelheid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eveelheid ml SV x druppels per ml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------------------------------------------= aantal druppels/mi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tal uren SV gegeven x 60 min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 arts spreekt af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iter sondevoeding per 24 uu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at is de druppelsnelheid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2 lt = 2000 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4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28 druppels per minuut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4 x 60            144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Arts spreekt af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iter in 8 uur (alleen ‘s nachts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lt = 1000 m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 ml = 20 druppel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1000 x 2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</a:t>
            </a:r>
            <a:r>
              <a:rPr b="0" lang="nl-NL" sz="2400" spc="-1" strike="noStrike" u="sng">
                <a:solidFill>
                  <a:srgbClr val="404040"/>
                </a:solidFill>
                <a:uFillTx/>
                <a:latin typeface="Trebuchet MS"/>
              </a:rPr>
              <a:t>20000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= 41 druppels per minuut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8 x 60           480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Opdracht: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120" y="1700280"/>
            <a:ext cx="6626520" cy="43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ek een filmpje op het internet waar een sonde wordt ingebra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kijk dit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ak nu het protocol van Vilans erbij en leg dit ernaa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het protocol nauwgezet gevolgd? Zoek de overeenkomsten en de verschill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Vragen? 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t is sondevoeding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loeibare voeding die geven wordt via kunstmatige verbinding met de maag/duodenum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ed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och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medicij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Manieren van sondevoeding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eus maagsond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 (percutane endoscopische gastr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J (percutane endoscopische jejunostomie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olus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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ntinue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ystee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Wanneer sondevoeding geven?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6920" y="2276280"/>
            <a:ext cx="80661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reigende ondervoeding met een goed functionerend maagdarmkanaa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vulling op diee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oeningen: slikken/kauwen, slokdarm, maag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minderde eetlu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echte lichamelijke condi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angdurig voedselweigering (kind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Het inbrengen van een voedingsson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eest gebruikte: neus-maag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oor behouden handel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 langdurige sonde voeding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EG= Percutane Endoscopische Gastronom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oor medische ingreep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Verwisseling mag door Verpleegkundig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eb3d9f"/>
                </a:solidFill>
                <a:latin typeface="Trebuchet MS"/>
              </a:rPr>
              <a:t>Neus-maag sonde inbrengen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te van de sonde: Uitgedrukt in: charriere= CH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Comfort ZV&gt; zo dun mogelijk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ngte van de sonde bepalen(neus-maag): volgens NEX Methode(pg 205)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eb3d9f"/>
                </a:solidFill>
                <a:latin typeface="Trebuchet MS"/>
              </a:rPr>
              <a:t>Aandachtspunten: voorbereiding en werkwijze ZV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orgvrager informeren over waarom en de werkwijze inbrengen van de sond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andacht voor angs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ttentie hou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nat (warm water)inbren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controleren op maagreten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bevesti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Nazorg ZV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gevens vastleg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eb3d9f"/>
                </a:solidFill>
                <a:latin typeface="Trebuchet MS"/>
              </a:rPr>
              <a:t>Observatiepunten (tijdens inbrengen)</a:t>
            </a:r>
            <a:endParaRPr b="0" lang="en-US" sz="2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nauwdheid en hoes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wil niet verd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een maagretentie krijg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kan opgerold komen te liggen in de keel tijdens inbrengen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800" spc="-1" strike="noStrike">
                <a:solidFill>
                  <a:srgbClr val="eb3d9f"/>
                </a:solidFill>
                <a:latin typeface="Trebuchet MS"/>
              </a:rPr>
              <a:t>Complicatie: Kans op decubitus</a:t>
            </a:r>
            <a:endParaRPr b="0" lang="en-US" sz="28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onde zit te strak tegen neusvleug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 u="sng">
                <a:solidFill>
                  <a:srgbClr val="404040"/>
                </a:solidFill>
                <a:uFillTx/>
                <a:latin typeface="Trebuchet MS"/>
              </a:rPr>
              <a:t>Actie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controle/ observati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Elke dag pleister verschon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Pleister op juiste wijze plakk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Actieknop: Terug of Vorige 3">
            <a:hlinkClick r:id="rId1" action="ppaction://hlinksldjump"/>
          </p:cNvPr>
          <p:cNvSpPr/>
          <p:nvPr/>
        </p:nvSpPr>
        <p:spPr>
          <a:xfrm>
            <a:off x="1258920" y="4941720"/>
            <a:ext cx="611280" cy="503280"/>
          </a:xfrm>
          <a:custGeom>
            <a:avLst/>
            <a:gdLst>
              <a:gd name="textAreaLeft" fmla="*/ 32400 w 611280"/>
              <a:gd name="textAreaRight" fmla="*/ 578880 w 6112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6232" h="21600">
                <a:moveTo>
                  <a:pt x="0" y="0"/>
                </a:moveTo>
                <a:lnTo>
                  <a:pt x="26232" y="0"/>
                </a:lnTo>
                <a:lnTo>
                  <a:pt x="26232" y="21600"/>
                </a:lnTo>
                <a:lnTo>
                  <a:pt x="0" y="21600"/>
                </a:lnTo>
                <a:close/>
              </a:path>
              <a:path fill="lightenLess" w="26232" h="21600">
                <a:moveTo>
                  <a:pt x="0" y="0"/>
                </a:moveTo>
                <a:lnTo>
                  <a:pt x="26232" y="0"/>
                </a:lnTo>
                <a:lnTo>
                  <a:pt x="24832" y="1400"/>
                </a:lnTo>
                <a:lnTo>
                  <a:pt x="1400" y="1400"/>
                </a:lnTo>
                <a:close/>
              </a:path>
              <a:path fill="darken" w="26232" h="21600">
                <a:moveTo>
                  <a:pt x="26232" y="0"/>
                </a:moveTo>
                <a:lnTo>
                  <a:pt x="26232" y="21600"/>
                </a:lnTo>
                <a:lnTo>
                  <a:pt x="24832" y="20200"/>
                </a:lnTo>
                <a:lnTo>
                  <a:pt x="24832" y="1400"/>
                </a:lnTo>
                <a:close/>
              </a:path>
              <a:path fill="darkenLess" w="26232" h="21600">
                <a:moveTo>
                  <a:pt x="262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32" y="20200"/>
                </a:lnTo>
                <a:close/>
              </a:path>
              <a:path fill="lighten" w="262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32" h="21600">
                <a:moveTo>
                  <a:pt x="6109" y="10800"/>
                </a:moveTo>
                <a:lnTo>
                  <a:pt x="20122" y="3794"/>
                </a:lnTo>
                <a:lnTo>
                  <a:pt x="20122" y="17806"/>
                </a:lnTo>
                <a:close/>
              </a:path>
            </a:pathLst>
          </a:custGeom>
          <a:solidFill>
            <a:srgbClr val="f496cb"/>
          </a:solidFill>
          <a:ln cap="rnd" w="19080">
            <a:solidFill>
              <a:srgbClr val="b36d9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3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. Scheltens-Flink</dc:creator>
  <dc:description/>
  <dc:language>en-US</dc:language>
  <cp:lastModifiedBy>Rina Niemeijer</cp:lastModifiedBy>
  <dcterms:modified xsi:type="dcterms:W3CDTF">2018-02-20T11:27:12Z</dcterms:modified>
  <cp:revision>23</cp:revision>
  <dc:subject/>
  <dc:title>Sondevoeding</dc:title>
</cp:coreProperties>
</file>