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EF89-99B0-48EC-899F-60652595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4F6A-7B47-464E-9560-6C00E305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5B8A-CA3E-4818-AA61-632389C0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417F-67FE-4263-B09E-E95D1739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5163-EBE5-4416-8FA1-74153362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AEEB-2470-4EAD-864E-290B5B3D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BE5E-F925-43D0-9CB4-B9D11AA9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47A3-4773-4E07-BE6B-0974255B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318D-6A51-4FFB-B4F1-E7DB575A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ADD6-4D61-479D-8C52-6E011EAC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BE0E-0CAB-44AD-9AAF-0F59DB7F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8815-E818-4013-B8DA-3A390B60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B175-4683-465A-B0B4-E8E5319B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243D-62A1-4DA8-ACC8-DB1002FC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16FD-1755-4943-BCFE-AC280621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6259-5D28-48BD-B653-4D339E30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5AB2-7DDA-4553-8133-AF56AC08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5079-9E98-4714-92B9-7096FBE5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DD91-FD01-4433-8C15-1E0C45A6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E15D-F71D-4F46-AC72-D97E53D3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7A26-7594-4A75-B1CF-4C51DD52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60F4-9561-40EC-A893-5071872D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8219-68E9-4116-9107-3DC57A16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06FB-7958-49A0-8446-E8946BBE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2B60-D732-492A-85C8-7FA908610EE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B7DD-B6A8-4A47-A628-62B6EB8462A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340000" y="256536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ostoperatie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oorbehouden Hande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Juiste maat: charrie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Informatievoorziening Zv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septisch en hygiënisch werk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(fistel) in buik, boven schaambeen(os pubis)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k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oliklinisch onder plaatselijke verdov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cute ret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Schrompelbla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reventi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Afbeelding 3" descr="suprapubis.jpg"/>
          <p:cNvPicPr/>
          <p:nvPr/>
        </p:nvPicPr>
        <p:blipFill>
          <a:blip r:embed="rId1"/>
          <a:stretch/>
        </p:blipFill>
        <p:spPr>
          <a:xfrm>
            <a:off x="5364000" y="425772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02920" y="301320"/>
            <a:ext cx="728028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oordelen Supra pub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v kan makkelijker verzor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blaasst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infec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belast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eksualite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vrouwen: minder kans op fecale infectie van anus naar ureth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mannen minder kans op prostatitis en urethrit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Anatomie van de Urineweg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Picture 2" descr="Gerelateerde afbeelding"/>
          <p:cNvPicPr/>
          <p:nvPr/>
        </p:nvPicPr>
        <p:blipFill>
          <a:blip r:embed="rId1"/>
          <a:stretch/>
        </p:blipFill>
        <p:spPr>
          <a:xfrm>
            <a:off x="1370160" y="1473120"/>
            <a:ext cx="67770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erwijderen van de 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voudige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erk hygiënis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inbrengen: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verwijderen: wegwerp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Cad: eerst water uit de ballon hal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Zo nodig kweek katheter pu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efe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aantrekken van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K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(vesica 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Definitie Katheteriser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éénmalig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te katheteris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lijfskatheter (Catheter à Demeur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/vernauwing van de urinebu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laton katheter(recht uitein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upra pubis kath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eenmalige blaasledig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ermitterend Katheteriseren: bij aandoeningen van de blaas en ruggemerg let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 man en vrouw: in de lengt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coat en on geco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1 ope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Verbijfsk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Catheter à Demeu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ft na inbrengen na 6 weken verwisseld te word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ij een Silliconen: 3 maanden intramuraal, 6 maanden extramuraal(afhankelijk instel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K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 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katheteriser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leegmaken en houden van de bla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fwijkingen aan de urine we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Ziekte van de zorgvrager(kan niet naar de wc/ toil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llen van een diagnose: urine voor microbiologisch onderzo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acte bepaling resi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onderzoek zoals een cystograf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voor (verblijfs)blaa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Rina Niemeijer</cp:lastModifiedBy>
  <dcterms:modified xsi:type="dcterms:W3CDTF">2018-03-06T08:18:32Z</dcterms:modified>
  <cp:revision>39</cp:revision>
  <dc:subject/>
  <dc:title>Indeling WCS=</dc:title>
</cp:coreProperties>
</file>