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49323-78A0-4BC5-8E3C-E582CD4332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2CFA4-0467-4334-A626-D20C04689127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7332E-300B-4B41-9A97-9699402E1E1F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51897-DFC7-4450-B7C6-8AC282696241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52376-0EA5-4411-88A4-CA2C9D1A1122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9AE531-0186-43C9-9355-BB7C44F0EF81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FB2D2-198C-413A-8708-4EDD61D57752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6EFBB-B7F2-440B-A5A9-F465720D0FE1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6119B-1C37-48F9-A936-7FC5DB091BAA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18EED-5124-46C2-A39D-6EDBCF0A4AEE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4E72-231C-456E-9D60-9FF69D1D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09F-AD08-44B8-B431-8E48BCB3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5AB-3FE3-48F2-87CC-EB679EB0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C52-1F46-4C77-AFC3-46C8E506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27F2-B2E5-4D8F-99C8-AB93AD8C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26FB-26D9-4E0F-82D5-5F62C464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A478-E1C5-45E1-BC07-397AEC0D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650C-4588-45A9-9352-D19FC63C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E65C-AF25-47BF-B00A-1C8E3BC2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8247-7057-4F9A-8DCC-C302B7E7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1A2C-1273-4F7F-BAE7-F531A238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CA6-D70E-416E-A624-0FEA2961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4D86-4844-4AC0-B280-DF6ADE0F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EC7B-597B-49AD-A975-A4E9C0E7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16D6-E87A-4073-BD3A-1C7412BE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3C70-3730-4F16-93EC-D3D01251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9AFC-9372-4A54-89D4-0135811C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35E8B-B44A-4B92-9805-464E5A7D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367CD-560C-4CC1-8BF7-3FF620CB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DCB83-8215-4FBE-B63C-FF7C81CA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0D805-24D4-4A98-A997-8A04F5AA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E45F6-40CD-4D1C-B7F2-5AAA0748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AFB-9E27-461E-B2BA-3E1C2C4C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C271F-E2D4-413E-9E80-4B32C368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12EA4-399B-4CE4-B0DB-1C85587E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DD685-7E51-4F45-BE76-C780D53A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14482-A5BA-4ACC-AFC3-469F4794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BFA8E-301E-48F9-A726-690CCF17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B9344-8190-43D8-A3D4-5070FF26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99A64-0867-4DCA-B8F0-1665C34B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14112-5342-4876-8586-FE96EFA9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38FB2-6E55-4237-8C49-C55840C7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EF616-7757-43CE-8D0B-A6C3DE58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E10-A892-430A-BE44-62D2489E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C16A4-5799-44DA-8565-7A70B934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820A2-EA78-4140-8CB9-C38C6A20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F99FE-CC03-41FF-92CB-810DA889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069CA-F738-4F03-8873-1E5B58C5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ED51A-C135-420E-ABD9-E8925384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CE0CA-89F4-49D0-98F6-20A88B10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D3ED0-0AFD-4DF1-8CCD-0FC021A3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74379-2952-4745-B64D-B2028C8F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7AE9A-6981-4A3A-912F-0176388F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32C-4A29-40CC-96EB-1DF1F00D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64A-A262-452E-A970-B65C2410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B289-70F5-497B-A27D-1A565639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813-CE26-487C-B15A-C68974FF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146-AE72-44EC-9433-E75474A4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05522-C7B1-4C4A-B59C-38CD89514D55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0EB5D-BDC5-42C1-82F3-902E365523AC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3AAB6-C03E-43D6-9B97-9C71F43E5BE0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89CD7-1DD9-441D-BCEB-6AC8A9295C2D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entury Gothic"/>
              </a:rPr>
              <a:t>INTRAMUSCULAIR INJECTERE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CONTRA INDICATI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schadig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stoken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t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hu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mma amputatie met okselklier verwijde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GEL VAN 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35280" y="1599840"/>
            <a:ext cx="639432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naam en geboortedatu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medicijn ( let op vervaldatum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dos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oedieningsvo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ijd en aantal k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ECHNIEK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24000" y="1600200"/>
            <a:ext cx="6105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ats desinf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k met volle hand spierbund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er laten ontspa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lot loodrecht inj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ntrole of je niet in bloedvat zit bij 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ngzaam in spui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aald vlot eru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PRIKACCIDENT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6000" y="1773360"/>
            <a:ext cx="5759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ooit huls terug op de naa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bruik naaldencontai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el jezelf op de hoogte, bij de instelling waar je werkt, hoe om te gaan met prikacciden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EREKENINGE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 ml =10 mg Phenerg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7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geef j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2 ml = 15 mg Hald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0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 1 ml= 5 mg Mor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2,5 m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1600200"/>
            <a:ext cx="704232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arenteraal toedienen medicij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(buiten spijsverteringskanaal o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Afbeelding 3" descr="injectie.jpg"/>
          <p:cNvPicPr/>
          <p:nvPr/>
        </p:nvPicPr>
        <p:blipFill>
          <a:blip r:embed="rId1"/>
          <a:stretch/>
        </p:blipFill>
        <p:spPr>
          <a:xfrm>
            <a:off x="5867280" y="1125360"/>
            <a:ext cx="2143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1600200"/>
            <a:ext cx="732960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Wet BIG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jecteren is een voorbehouden handeling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t houdt dit in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 welke 4 voorwaarden moet voldaan worden als verpleegkundig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eskundigheid: voldoende schol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Bekwaamheid: ervar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Opdrac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ogelijke tussenkomst van huisarts/ar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DENEN OM TE 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1280" y="1599840"/>
            <a:ext cx="761832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nel (meteen) result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 onwerkzaam wordt gemaakt door één van de spijs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rale medicatie niet kan worden in geno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geen orale medicatie wil inne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atie alleen in injectievorm verkrijg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77560"/>
            <a:ext cx="783432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 verschillende manieren van injectere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cutaan (i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ubcutaan (s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musculair (i.m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veneus (i.v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8" descr="SC_45_90_graden"/>
          <p:cNvPicPr/>
          <p:nvPr/>
        </p:nvPicPr>
        <p:blipFill>
          <a:blip r:embed="rId1"/>
          <a:stretch/>
        </p:blipFill>
        <p:spPr>
          <a:xfrm>
            <a:off x="4114800" y="2637000"/>
            <a:ext cx="4321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IE PLAATS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79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te bilspier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glutaeus maxim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ot, goed doorbloed, grote hoeveelheid toedie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ste, buitenste bilkwad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mzeilt zenuwba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5796000" y="7556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DIJBEE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rectus femor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been in 3-en verdelen: middelste dee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 Vilans protoc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OVENAR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deltoïd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 kleinere hv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v. Griepprik, vaccina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ina Niemeijer</cp:lastModifiedBy>
  <dcterms:modified xsi:type="dcterms:W3CDTF">2018-02-13T07:29:54Z</dcterms:modified>
  <cp:revision>26</cp:revision>
  <dc:subject/>
  <dc:title>Wet BIG</dc:title>
</cp:coreProperties>
</file>