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E986-BD04-496A-B929-8BF864E4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1221-40F1-4817-8F8E-1B781352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2ABF-7811-44D4-B832-22641377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F262-E18E-4D4D-897C-C14CFFBD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5A18-C454-45A9-913E-0A015B77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553E-1C3B-41C5-B84E-650B07C2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D7E6-74FC-4251-A89B-4FC66FD7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4680-1B8D-4576-B3F6-59689766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1623-D345-4600-BD26-81F728FD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6F34-1B65-4826-B483-A151E42B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5A68-6B35-4044-81F9-1439CC72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5DAA-0937-4857-A415-8B1764BD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501B-46FA-4918-85D4-3F6F2F07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7647-F041-401B-947B-8B7B53F3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3742-7D09-4EF4-A451-CACF330D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2C4A-E2D5-42F4-A3BE-14C21EAD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CBA5-9173-4BC0-8861-DC455ED5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0F505-0724-4868-9E29-C4F18ABE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81AEB-FE12-44A1-AC01-5246BCC1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19C95-5DF8-40FB-9BA0-5F1418B1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BF481-84AC-4249-80C8-20ECB049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F1A95-C30D-49FB-ABFA-751FDAB1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D738-8B1F-4CE7-AA68-82137998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2D5A7-69CB-4F88-B178-9E45FA53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BF6D7-5312-4044-9211-C7E80768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8DA4F-9E0A-466D-822C-6BD7832E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FFB52-8B11-491E-A39C-0BAF82AD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F9CBC-18F1-4526-A152-4480CE8C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B44D5-5E4E-4402-9A87-A2D039C0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FF59F-5FD5-47BE-A11E-6D97EB7E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376A9-6C1C-48E5-8F26-26FDFF7C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7015E-C445-4E2F-A296-A8C26894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D8122-B87F-4A07-B021-CBFF4672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11AC-BDE0-4770-A3FF-86CF3CA8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43740-CD9E-4386-BF82-F5BBA3A5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94C82-F9C3-4A32-B2A3-EF61B856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9BEAD-AFA8-422C-835F-23C0B405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2B95C-25E7-4CB4-8D16-7C6F9FB0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F1A54-B180-4134-9599-39D3968A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D2CE2-7BF1-408C-B112-39A4A05F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4F864-A8D1-4CF2-A19B-24C4A6DD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BC222-5495-4BE2-96EC-3997A761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EC681-3B15-41D4-9F92-C9F1C18B1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85AF-329F-4529-B96C-570128B9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1840-043E-4B87-B73E-285B1E02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E408-297B-4017-AEF2-5D37C917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FA4C-5DFE-46A5-9314-9042F2D4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6408-9D72-48C9-AA58-88F47CE2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D7233-B7DD-4C07-B5D1-9ABC27AB4A26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E62928-8C8C-445D-9081-945D05A5C5F7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B95D9D-A406-4AAA-94CD-FCF5CE48FA5E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4CC318-BACA-455D-A8A5-CB3CA96C6817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eb3d9f"/>
                </a:solidFill>
                <a:latin typeface="Trebuchet MS"/>
              </a:rPr>
              <a:t>Sonde inbrengen </a:t>
            </a:r>
            <a:endParaRPr b="0" lang="en-US" sz="5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800" spc="-1" strike="noStrike">
              <a:solidFill>
                <a:srgbClr val="7f7f7f"/>
              </a:solidFill>
              <a:latin typeface="Trebuchet MS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5364000" y="330120"/>
            <a:ext cx="14241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dat sonde niet op juiste plaats zit of blijft zit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opboeren, braken, hoesten kan sonde verplaat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elke voeding aansluiting sonde control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  Lucht in maag spu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kmoespapiertje(PH meting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Actieknop: Terug of Vorige 3">
            <a:hlinkClick r:id="rId1" action="ppaction://hlinksldjump"/>
          </p:cNvPr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op verstopping van 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eding koekt aan i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art en eindigen met 20 ml lauw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nimaal 6x per dag sonde doorspo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Actieknop: Terug of Vorige 3">
            <a:hlinkClick r:id="rId1" action="ppaction://hlinksldjump"/>
          </p:cNvPr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zorgen van PEG/PEJ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Pas aangelegd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: extra hygië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nden fistel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sinfect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tadine jo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Na 6 weken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inigen water z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Afbeelding 3" descr="PEG.bmp"/>
          <p:cNvPicPr/>
          <p:nvPr/>
        </p:nvPicPr>
        <p:blipFill>
          <a:blip r:embed="rId1"/>
          <a:stretch/>
        </p:blipFill>
        <p:spPr>
          <a:xfrm>
            <a:off x="6084720" y="1052640"/>
            <a:ext cx="2735280" cy="2523960"/>
          </a:xfrm>
          <a:prstGeom prst="rect">
            <a:avLst/>
          </a:prstGeom>
          <a:ln w="0">
            <a:noFill/>
          </a:ln>
        </p:spPr>
      </p:pic>
      <p:pic>
        <p:nvPicPr>
          <p:cNvPr id="241" name="Afbeelding 6" descr="peg 2.jpg"/>
          <p:cNvPicPr/>
          <p:nvPr/>
        </p:nvPicPr>
        <p:blipFill>
          <a:blip r:embed="rId2"/>
          <a:stretch/>
        </p:blipFill>
        <p:spPr>
          <a:xfrm>
            <a:off x="5651640" y="3789360"/>
            <a:ext cx="32144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ickey butto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43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244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245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rekenen hoeveelheid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eveelheid ml SV x druppels per ml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------------------------------------------= aantal druppels/m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tal uren SV gegeven x 60 mi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 arts spreekt af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iter sondevoeding per 24 uu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 is de druppelsnelheid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t = 2000 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4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28 druppels per minuu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24 x 60            144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Arts spreekt af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iter in 8 uur (alleen ‘s nacht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t = 1000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1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41 druppels per minuu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8 x 60           48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120" y="1700280"/>
            <a:ext cx="662652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ek een filmpje op het internet waar een sonde wordt ingeb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kijk di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ak nu het protocol van Vilans erbij en leg dit ernaa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rdt het protocol nauwgezet gevolgd? Zoek de overeenkomsten en de verschill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ragen?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t is sondevoeding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loeibare voeding die geven wordt via kunstmatige verbinding met de maag/duodenu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medicij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anieren van sondevoeding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eus maagsond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 (percutane endoscopische gastr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J (percutane endoscopische jejun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olu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ntinu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ystee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nneer sondevoeding geven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6920" y="2276280"/>
            <a:ext cx="8066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reigende ondervoeding met een goed functionerend maagdarmkana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vulling op die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oeningen: slikken/kauwen, slokdarm, maa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lechte lichamelijke condi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ngdurig voedselweigering (ki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et inbrengen van een voedings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est gebruikte: neus-maag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behouden hande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 langdurige sonde voeding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= Percutane Endoscopische Gastronom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medische ingr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isseling mag door Verpleegkundig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Neus-maag sonde inbreng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ikte van de sonde: Uitgedrukt in: charriere= C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fort ZV&gt; zo dun mogelijk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ngte van de sonde bepalen(neus-maag): volgens NEX Methode(pg 205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Aandachtspunten: voorbereiding en werkwijze ZV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rgvrager informeren over waarom en de werkwijze inbrengen va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acht voor ang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ttentie hou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nat (warm water)inbre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controleren op maagre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bevesti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zorg ZV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gevens vastleg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eb3d9f"/>
                </a:solidFill>
                <a:latin typeface="Trebuchet MS"/>
              </a:rPr>
              <a:t>Observatiepunten (tijdens inbrengen)</a:t>
            </a:r>
            <a:endParaRPr b="0" lang="en-US" sz="2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nauwdheid en hoes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wil niet verd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en maagretentie krij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kan opgerold komen te liggen in de keel tijdens inbreng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Complicatie: Kans op decubitus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zit te strak tegen neusvleug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controle/ observ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pleister verscho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leister op juiste wijze plak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Actieknop: Terug of Vorige 3">
            <a:hlinkClick r:id="rId1" action="ppaction://hlinksldjump"/>
          </p:cNvPr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Rina Niemeijer</cp:lastModifiedBy>
  <dcterms:modified xsi:type="dcterms:W3CDTF">2018-02-20T11:27:12Z</dcterms:modified>
  <cp:revision>23</cp:revision>
  <dc:subject/>
  <dc:title>Sondevoeding</dc:title>
</cp:coreProperties>
</file>