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48EBE-19C6-44B2-A623-C5A75280C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E0C70-EE84-420F-A910-815A1FADF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07155-3F00-480E-8A0C-ED6151013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F5087-C31B-42E7-9420-E808F32A0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FC239D-E391-4BC7-B0FD-1F20CFF9B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0DD49-6367-46A8-9685-80051E215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7828E-AB39-4E14-A9D7-4045FF71E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770E3-925B-47C6-BA7D-C5C08575B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32538-2734-4E8E-A86B-9B147E4C0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BE24D-8212-4A8A-99F3-CAB33A9D5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92867-E01C-4812-A247-D19C8D8A9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6846F-8DF8-4A25-A98F-489BC4674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D3BB0-B71A-4337-A97D-C55BAE895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68A73-FC30-4864-8E15-25BAB53A6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9C3DE-3A7F-486E-89FC-34B854D9F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407346-4B1D-4887-83F8-5061A1F024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940969-C2DC-4D37-96AE-CD34BE4784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7167B5-0EE7-4F75-A76D-42B439EF5C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094D86-260B-4C32-AC35-2A15A1EF10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03B46B-0BE4-4D01-8CCF-736E6CB122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A6B5D5-1050-4DD8-8433-5C4E55DB29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49378A-4D0E-470E-A9E1-5AAF57A7FF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57688-0C2E-443A-839B-363F2B9BE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08730A-4917-496C-B870-99C0C6C6FD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92D7E8-223B-4864-9A8E-08D28CF9D8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45C896-2EE1-4484-9503-4F338E8D81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2A0DB7-9611-44EF-8871-569A790DD1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083D13-24D8-4280-9D9A-2A1950C0A9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6A3E6B-55B6-4383-8CD8-5455ACBA1A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10FF2D-6682-40A6-874F-110F46C0C8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133759-8EA8-4CB1-8C69-6FD170AE2D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A9F136-0457-47D0-B121-4293AE0BA8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44C270-0D62-4FAD-8495-CB284F24D7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3F02A-BE35-402A-A622-7A02CA04B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834D30-2E88-40B6-A342-F13D0094C1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3C96C0-40FE-4133-8D33-290ECCD59D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BE4234-A7F5-405A-A952-8A38B81CDB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09C179-643E-4BC5-B85F-E848B40FE3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8FAA59-9BF8-4B4D-B95D-B779A8E343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C55C49-859A-47E6-B5F1-C7BBFF7645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D0EF46-787A-43B4-B37F-33BA6B6DF0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E022B3-A028-4303-88A4-43C5BFE05E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C3FD34-8CC5-4D4C-9B22-E76700060D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6463D8-EDC4-46DB-8FFC-9660E9915D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15410-7615-43C5-831B-6646125B2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F4C5F2-F66E-41DD-9486-C8F89C58C7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5F8249-EF2C-45B8-B315-B6EC143166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A8D6CD-C31E-4BB0-AF38-EF1E840258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1E882A-656F-43B2-BFBE-8567524FA7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E957D5-5505-4F18-B101-02CC2405E2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33C26D-E7BA-4AD7-A737-E434DDBA8E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7095CE-2C19-4791-9C88-13BC7F50AF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14BCE2-CD7A-40B8-A10D-8F6F6701E2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373499-8E27-41A8-832B-A201E3E513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76D3C2-7BE5-40BF-B4E9-15824A86A4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820C6-E5BF-40C3-B953-B3919D5B0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44527C-B52D-46ED-ADC7-74A262ED45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1B624A-0550-4665-817E-0FC44ED776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AD4183-61C8-47C2-A8DA-3DAEC5CEB1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9CF31A-94D1-4432-9276-04FE3D918E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26BC86-8A69-4900-B9AC-8EF7542995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EBAB04-C4B2-48E8-949C-6308DC49C1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A55F1E-E114-4D5E-8FEF-22D7BE739D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BC4691-59E7-4BB4-9044-9BD22E059A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77401F-5FB6-4171-8797-856CDE42B4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562616-0ED9-43F3-82E0-A717D4B7A9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80538-F070-4CF7-8E06-D50EE989B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519438-FFDC-4E43-ABD9-94247A7479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151386-D7CE-409C-A031-BD1713D62B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A0D588-CB41-4BBD-813D-FDC4155443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300B71-D719-45C2-9A2C-800C6170E6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07AB72-0840-40A4-B4B2-E5DD2D3CE3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3950C3-3239-476C-995A-D5C9D5BE1D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379665-D951-4F70-9A43-58C18A4A01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9E7C70-52A0-42B7-AC1E-A1DF2FF529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FB6E5C-36A2-49C4-8917-C697E3A89A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8D247F-F3AF-4C9D-ABD8-EE449FB5AF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FA5BA-E9A9-421B-B6E7-5F98A54EC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649F3E-31C0-42CE-82AF-335F029121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2F2E19-E17C-468B-83D8-0CE518570D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98FCF7-102C-49F1-8952-638BEE8343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7F5F70-E8A1-4281-8F18-C99115772E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72C565-2141-40C6-A178-5F90E67D78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4EB0A-6879-4A3F-8A72-14DFAC30E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C7DD-6DBC-486A-89A9-7CA496EC37C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3DA6-8C78-438E-81F4-57D3EEEA31A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E100-0BE0-45F7-B7AA-FEEEB6A59CA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9BB5-5D29-4C57-9817-C5A10E0F6A0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73D42-9251-4800-ADCB-A0688595315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F90CD-6160-4E40-A827-633E30881D78}"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9D41-7296-4FBB-A8DF-6D939FC5D70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loed wordt onvoldoende rond gepomp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Decompensatio Cordis/ vocht achter het hart</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Hartinfarct, hartziek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Niet goed werkende hartkleppe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uurstoftekort door hartprobl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Hoe reageert de ZV?</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gstig, verward, suf, helde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uding van een ZV: rechtop, liggend, op zij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leur: Cyanose, bleek, roo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ademhaling zelf: frequentie, wijze van AH: diep, ondiep, geluid: rochelend, piepend, snur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sputum? : kleur, consistentie, taaiheid,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P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 Bloeddruk , AH, HF, SP O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age collega, ar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 voor houding in bed:  vb drainage houdin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 grond van deze observaties: besluit O2 toedien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amengeperste O2 via de muurklok of via een cilin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af 5 liter/ minuut: O2 met watergeleiding(aqua pak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2 toedien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t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971640" y="2781000"/>
            <a:ext cx="7726320" cy="334332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er altijd goed op lekkage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naso- pharyngeale katheter: afmeten </a:t>
            </a:r>
            <a:r>
              <a:rPr b="0" lang="nl-NL" sz="2400" spc="-1" strike="noStrike" u="sng">
                <a:solidFill>
                  <a:srgbClr val="0080ff"/>
                </a:solidFill>
                <a:uFillTx/>
                <a:latin typeface="Candara"/>
                <a:hlinkClick r:id="rId1"/>
              </a:rPr>
              <a:t>van</a:t>
            </a:r>
            <a:r>
              <a:rPr b="0" lang="nl-NL" sz="2400" spc="-1" strike="noStrike">
                <a:solidFill>
                  <a:srgbClr val="073e87"/>
                </a:solidFill>
                <a:latin typeface="Candara"/>
              </a:rPr>
              <a:t> neusvleugel tot oorlel</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nijp voor het inbrengen van het vestibulair het spons- gedeelte same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el het gewenste aantal liters per minuut i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vochtiging</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ilige opbergplaats van de cilinder</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Berekenen va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4360" y="2205000"/>
            <a:ext cx="7596000" cy="39211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beva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1</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Uitgeademde lucht beva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17,0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 2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4,3 %</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tenswaardighede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68320" y="2491920"/>
            <a:ext cx="740736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ingen van CO2 (kooldioxide) en O2(zuurstof)</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 het bloed doo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O2 saturatie</a:t>
            </a:r>
            <a:r>
              <a:rPr b="0" lang="nl-NL" sz="2400" spc="-1" strike="noStrike">
                <a:solidFill>
                  <a:srgbClr val="073e87"/>
                </a:solidFill>
                <a:latin typeface="Candara"/>
              </a:rPr>
              <a:t>, O2sp: verzadiging van de erytrocyten met O2( “knijpe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Arteriële astrup</a:t>
            </a:r>
            <a:r>
              <a:rPr b="0" lang="nl-NL" sz="2400" spc="-1" strike="noStrike">
                <a:solidFill>
                  <a:srgbClr val="073e87"/>
                </a:solidFill>
                <a:latin typeface="Candara"/>
              </a:rPr>
              <a:t>: verhoudingen O2 en CO2 in het bloed</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in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yperventilat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nauwdhei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nelde hartactie ook in ru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art ritme stoorniss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hoogde bloeddruk (ang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ardheid door hypox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laperigheid: direct actie gebo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van O2 tek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voldoende lucht in de longe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umo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iet open staan van een long: pneumothorax</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knelling Trache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niet goed kunnen gebruiken van de ademhaling door: operatie, pijn, COPD of neurologisch letse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is ziek: bijv bij Cystic Fibro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rekt niet mee: Longemfysee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stroomt geen bloed langs de alveoli: trombose of vaatafsluit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ruk in het bloed is te hoog: geen opn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t vocht op plaatsen waar lucht moet zijn: longontsteking</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en O2 vanuit alveoli naar de bloedbaa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Rina Niemeijer</cp:lastModifiedBy>
  <dcterms:modified xsi:type="dcterms:W3CDTF">2018-04-08T08:06:23Z</dcterms:modified>
  <cp:revision>20</cp:revision>
  <dc:subject/>
  <dc:title>De ademhaling:</dc:title>
</cp:coreProperties>
</file>