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B7B571-73C9-4593-86DE-A6F6EBB2D9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BB742-75F6-4B0E-AFD6-779C45F0E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E94453-50C6-4636-B77F-52CB35A654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87E2F9-3FB2-452F-BAB0-9DADFFF5D4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F10AEA-78EB-4891-802A-6C91373C3E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79755D-1F15-44E9-8721-9DCCDDE750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A37C9C-CB2D-423F-8B8D-FE2E9857E4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9E41E1-03C0-44CD-A0C2-9A11A70C5F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A7D431-D672-46AD-95C2-9A4B4CE960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FA7BB8-D244-498F-AA9A-36C11AF4AA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CF04E1-CA47-4B6D-A907-3111D288A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2244F-43D4-421C-A51E-EDE3C1661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4E8D7-083C-42B0-9379-CC7CA18D1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32703-6EBD-4D34-942A-3212BEB2A8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5B286D-ADBB-49C1-AD08-FC91A2645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D6C637-D9DA-4A95-B5A7-6218E246FE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294FF5-62DC-4792-BC5E-A9E2FAC6A9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D0AEA2-6E86-4893-A95F-8CE6168FF2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C3C1C2-6DCA-4FC7-B9BF-2FE44D4400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F8E914-55B0-4C7A-8E9F-02B246F3EC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3A11B2-A08F-47F9-A26D-0ED4F0D3A2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1B5D20-75F7-47A0-9946-0A69B1DBBC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8556B-95C3-44D6-BBE2-BDAA673DB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AFA46D-EE27-44FB-9499-EE935E13C0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F71C45-E92C-4548-A5D2-67C0105085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8C99C8-9D79-4483-8A52-0999747D11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975A9A-B5B9-4FBB-BD61-B46EAC7280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145B3D-CF0A-4F79-BC82-E326035F1E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5DD50D-AC23-47E0-8BF4-15967F5A9C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C493CF-1130-44CB-B106-74F50017AB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653B86-1DE1-4C57-809B-62B704CE06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50A26F-43D7-4216-A5CE-928E020CFC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BD8ECE-E53A-466C-87D7-BE8D337645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6BDE0-3B74-4C54-9A63-CCA4E412C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8127FF-6A1C-4306-84DD-E012B8A37E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240A20-25F4-4D86-A155-374B01E6BE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C2DF5B-50D2-419C-B85B-D705DC55A9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03F864-EBF0-4045-9E9A-A45B6702F3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262C43-F924-43C1-AA3F-DBF4E0CA9A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766E40-97B8-446C-B370-17FF15C8C0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3E2DB4-B540-46E5-BBEE-2E8B7375CA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DE8F06-72BE-4749-AF2C-63A7EA0E5A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981FAB-4DA1-4633-9D3A-8DB45720FB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F7284A-FFC5-430E-AD70-0B8C8CAB5A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BE49F-0285-40F3-8313-81403C10D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A2BDD1-15DC-4CD5-83C2-24A92E8151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F0A107-3CA0-4F59-B57D-3044582D63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9B3F03-9B4D-4E2F-80F4-393EF376D6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AF5B10-8842-4E45-8362-F98E804A25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44DAB2-2F8F-4FC6-8937-E69708C504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F22B69-87F6-498A-BA09-BD38AE903F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F8EE8A-3D9A-477A-B00A-077F5D7308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A68725-FEB2-40E2-B836-84BBCA7063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D6E8DE-1A00-4787-B38C-9DE7C6E697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702340-55F9-455E-8A25-C2310F983C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F3B31-880D-45FF-8826-AABBBF2D7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1D9632-5387-4ECB-ADED-D27FA78899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82FC51-A08D-4D5C-9474-2B9092763E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588945-9A2E-42AD-BE17-856D806AE8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E8401D-6A50-42D9-A345-95EFAFDF89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E59B03-89F6-418C-BD54-720D7E585C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77BEC4-215B-4E75-A11B-48BF97153D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2E84E4-7954-4C67-9C2C-6BFC3688F5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3E19E2-E1F2-40D0-BB08-4731032643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34C3AB-AF34-4E80-9698-1CE72B410F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3953B5-5BD8-46AF-987D-57BB4E4BA3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C5834-ED22-4573-87FF-4B0A1D4E4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84F73A-45F8-46CC-A464-3BA60E99C9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A08F68A-8F3A-4D7E-8CD4-5424F2B5E7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1F7EE3-1ABF-4FE5-BEA3-62DAD13A22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2CC488-F41B-477E-AC09-C5C9748937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4C2B64-9EBC-4FE5-A467-B8678EBA5A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008004-3D5C-4F19-986F-6A1ABB2CFA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130C8B-B525-45CF-83A5-1DD1520F8B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5A3FA9-31DD-43F0-AE3F-92EAEDB165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789E74-94BC-4784-9C42-8F886DA012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95E4CC-60D3-4CDD-B58A-9E6AA3947A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05206-7116-47A0-8D6F-F52DB68C1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3CB986-D427-4596-9B98-697A0277C7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6EBB7F-F38F-43EA-A7B7-5067C5FF2C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C86900-6D7F-4AD8-A895-B1519A7E34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7BF80DE-8876-40AB-86B2-19F6087444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3BAEEA7-936D-4774-8220-0A6134D6AD5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35BC1-B5D3-403D-BE91-6B89455461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FDE0E-FB7D-48FE-A7D9-50E86592827B}"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0F603-907B-4E78-869F-6AC602FA7955}"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4BE65-871D-4729-944B-F55F598A110A}"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793E1-5067-4BD6-A9AA-EB05B2DF6C1A}"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41739-5376-4A02-8519-1997AD8B70D0}"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7C9C3-5A1D-4AA6-B67E-A938F046A60B}"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28513-A722-45B3-ABE3-774A26D75449}"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verpleegtechniekinbeeld.nl/secure/vib/zuurstof_geven12_nasopharynx_highlights66en67.html"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Zorg voor de ademhaling:</a:t>
            </a:r>
            <a:endParaRPr b="0" lang="en-US" sz="4400" spc="-1" strike="noStrike">
              <a:solidFill>
                <a:srgbClr val="ffffff"/>
              </a:solidFill>
              <a:latin typeface="Candara"/>
            </a:endParaRPr>
          </a:p>
        </p:txBody>
      </p:sp>
      <p:sp>
        <p:nvSpPr>
          <p:cNvPr id="336"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Uitzuigen </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toedienen</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Verzorgen van een Tracheo stomie</a:t>
            </a:r>
            <a:endParaRPr b="0" lang="en-US" sz="2200" spc="-1" strike="noStrike">
              <a:solidFill>
                <a:srgbClr val="073e87"/>
              </a:solidFill>
              <a:latin typeface="Candar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loed wordt onvoldoende rond gepompt: </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Decompensatio Cordis/ vocht achter het hart</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Hartinfarct, hartziekte</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Niet goed werkende hartkleppen</a:t>
            </a:r>
            <a:endParaRPr b="0" lang="en-US" sz="24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Zuurstoftekort door hartproblem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684360" y="1773000"/>
            <a:ext cx="7596000" cy="4352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Hoe reageert de ZV?</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ngstig, verward, suf, helder…</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ouding van een ZV: rechtop, liggend, op zij etc..</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leur: Cyanose, bleek, rood</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ademhaling zelf: frequentie, wijze van AH: diep, ondiep, geluid: rochelend, piepend, snurke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prake van sputum? : kleur, consistentie, taaiheid, etc</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prake van Pij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Verplegen van een benauwde zorgvrag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ontrole Bloeddruk , AH, HF, SP O2</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Rapportage collega, art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andacht voor houding in bed:  vb drainage houding</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p grond van deze observaties: besluit O2 toedien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Verplegen van een benauwde zorgvrag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amengeperste O2 via de muurklok of via een cilinde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anaf 5 liter/ minuut: O2 met watergeleiding(aqua pakkin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Hoe O2 toedien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wordt gebruikt als medicijn. De hoeveelheid wordt afgestemd op wat de zorgvrager in rust nodig heeft. Bij inspanning kan er dan een tekort ontstaan. Dat betekent niet, dat je dan meer zuurstof mag geven.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ordt ip voorgeschreven op de medicatie lijst</a:t>
            </a:r>
            <a:endParaRPr b="0" lang="en-US" sz="2400" spc="-1" strike="noStrike">
              <a:solidFill>
                <a:srgbClr val="073e87"/>
              </a:solidFill>
              <a:latin typeface="Candara"/>
            </a:endParaRPr>
          </a:p>
        </p:txBody>
      </p:sp>
      <p:sp>
        <p:nvSpPr>
          <p:cNvPr id="3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ndara"/>
              </a:rPr>
              <a:t>Zuurstof als medicijn </a:t>
            </a:r>
            <a:br>
              <a:rPr sz="3200"/>
            </a:br>
            <a:endParaRPr b="0" lang="en-US" sz="3200" spc="-1" strike="noStrike">
              <a:solidFill>
                <a:srgbClr val="ffffff"/>
              </a:solidFill>
              <a:latin typeface="Candar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iepe neusslang/nasopahryngeale katheter (naso = neus,   pharynx = keelholte)</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ppervlakkige neusslang/vestibulair katheter; een slang met een schuimstuk op de punt (vestibulum = hal / voorportaal)</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ten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kan op verschillende manieren worden toegediend, o.a. met:</a:t>
            </a:r>
            <a:br>
              <a:rPr sz="2200"/>
            </a:br>
            <a:r>
              <a:rPr b="0" lang="nl-NL" sz="2200" spc="-1" strike="noStrike">
                <a:solidFill>
                  <a:srgbClr val="ffffff"/>
                </a:solidFill>
                <a:latin typeface="Candara"/>
              </a:rPr>
              <a:t> </a:t>
            </a:r>
            <a:br>
              <a:rPr sz="2200"/>
            </a:br>
            <a:endParaRPr b="0" lang="en-US" sz="2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oor de neusbril gelden dezelfde voordelen als voor het vestibulair: het zit voor in de neus, het is redelijk makkelijk in te brengen en hoeft in principe niet op de neus zelf vastgemaakt te worden.</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8"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ffffff"/>
                </a:solidFill>
                <a:latin typeface="Candara"/>
              </a:rPr>
              <a:t>Zuurstof kan ook op verschillende manieren worden toegediend, o.a. met: de neusbril en met het zuurstofmasker.</a:t>
            </a:r>
            <a:br>
              <a:rPr sz="2500"/>
            </a:br>
            <a:endParaRPr b="0" lang="en-US" sz="25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971640" y="2781000"/>
            <a:ext cx="7726320" cy="3343320"/>
          </a:xfrm>
          <a:prstGeom prst="rect">
            <a:avLst/>
          </a:prstGeom>
          <a:noFill/>
          <a:ln w="0">
            <a:noFill/>
          </a:ln>
        </p:spPr>
        <p:txBody>
          <a:bodyPr anchor="t">
            <a:normAutofit fontScale="96000"/>
          </a:bodyPr>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ontroleer altijd goed op lekkages.</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ij een naso- pharyngeale katheter: afmeten </a:t>
            </a:r>
            <a:r>
              <a:rPr b="0" lang="nl-NL" sz="2400" spc="-1" strike="noStrike" u="sng">
                <a:solidFill>
                  <a:srgbClr val="0080ff"/>
                </a:solidFill>
                <a:uFillTx/>
                <a:latin typeface="Candara"/>
                <a:hlinkClick r:id="rId1"/>
              </a:rPr>
              <a:t>van</a:t>
            </a:r>
            <a:r>
              <a:rPr b="0" lang="nl-NL" sz="2400" spc="-1" strike="noStrike">
                <a:solidFill>
                  <a:srgbClr val="073e87"/>
                </a:solidFill>
                <a:latin typeface="Candara"/>
              </a:rPr>
              <a:t> neusvleugel tot oorlel</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nijp voor het inbrengen van het vestibulair het spons- gedeelte samen.</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el het gewenste aantal liters per minuut in.</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evochtiging</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ilige opbergplaats van de cilinder</a:t>
            </a:r>
            <a:endParaRPr b="0" lang="en-US" sz="2400" spc="-1" strike="noStrike">
              <a:solidFill>
                <a:srgbClr val="073e87"/>
              </a:solidFill>
              <a:latin typeface="Candara"/>
            </a:endParaRPr>
          </a:p>
        </p:txBody>
      </p:sp>
      <p:sp>
        <p:nvSpPr>
          <p:cNvPr id="37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Candara"/>
              </a:rPr>
              <a:t>Aandachtspunten bij zuurstof:</a:t>
            </a:r>
            <a:endParaRPr b="0" lang="en-US" sz="3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Grootte van de cilinder X druk op de manometer+ aantal  liters samengeperste zuurstof</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Uitrekenen hoeveel uur je met een zuurstofcilinder kunt doen</a:t>
            </a:r>
            <a:endParaRPr b="0" lang="en-US" sz="2400" spc="-1" strike="noStrike">
              <a:solidFill>
                <a:srgbClr val="073e87"/>
              </a:solidFill>
              <a:latin typeface="Candara"/>
            </a:endParaRPr>
          </a:p>
        </p:txBody>
      </p:sp>
      <p:sp>
        <p:nvSpPr>
          <p:cNvPr id="37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ndara"/>
              </a:rPr>
              <a:t>Berekenen van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39" name="Picture 5" descr="lgn01"/>
          <p:cNvPicPr/>
          <p:nvPr/>
        </p:nvPicPr>
        <p:blipFill>
          <a:blip r:embed="rId1"/>
          <a:stretch/>
        </p:blipFill>
        <p:spPr>
          <a:xfrm>
            <a:off x="1763640" y="1413000"/>
            <a:ext cx="5327640" cy="4425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42" name="Picture 5" descr="external image tekening_longinhoud3.jpg"/>
          <p:cNvPicPr/>
          <p:nvPr/>
        </p:nvPicPr>
        <p:blipFill>
          <a:blip r:embed="rId1"/>
          <a:stretch/>
        </p:blipFill>
        <p:spPr>
          <a:xfrm>
            <a:off x="2771640" y="1413000"/>
            <a:ext cx="3459240" cy="3730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684360" y="2205000"/>
            <a:ext cx="7596000" cy="39211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Buitenlucht bevat:</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20,9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ikstof : 78,1</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ooldioxide 0,03%</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Uitgeademde lucht bevat:</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17,0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ikstof : 78, 2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ooldioxide: 4,3 %</a:t>
            </a:r>
            <a:endParaRPr b="0" lang="en-US" sz="2400" spc="-1" strike="noStrike">
              <a:solidFill>
                <a:srgbClr val="073e8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Wetenswaardigheden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868320" y="2491920"/>
            <a:ext cx="740736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etingen van CO2 (kooldioxide) en O2(zuurstof)</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n het bloed door:</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O2 saturatie</a:t>
            </a:r>
            <a:r>
              <a:rPr b="0" lang="nl-NL" sz="2400" spc="-1" strike="noStrike">
                <a:solidFill>
                  <a:srgbClr val="073e87"/>
                </a:solidFill>
                <a:latin typeface="Candara"/>
              </a:rPr>
              <a:t>, O2sp: verzadiging van de erytrocyten met O2( “knijper”)</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Arteriële astrup</a:t>
            </a:r>
            <a:r>
              <a:rPr b="0" lang="nl-NL" sz="2400" spc="-1" strike="noStrike">
                <a:solidFill>
                  <a:srgbClr val="073e87"/>
                </a:solidFill>
                <a:latin typeface="Candara"/>
              </a:rPr>
              <a:t>: verhoudingen O2 en CO2 in het bloed</a:t>
            </a:r>
            <a:endParaRPr b="0" lang="en-US" sz="2400" spc="-1" strike="noStrike">
              <a:solidFill>
                <a:srgbClr val="073e87"/>
              </a:solidFill>
              <a:latin typeface="Candara"/>
            </a:endParaRPr>
          </a:p>
        </p:txBody>
      </p:sp>
      <p:sp>
        <p:nvSpPr>
          <p:cNvPr id="34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Meting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yperventilati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enauwdheid</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snelde hartactie ook in rus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art ritme stoorniss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hoogde bloeddruk (angs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wardheid door hypoxi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laperigheid: direct actie gebod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Symptomen van O2 tekort:</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t zijn redenen om zuurstof te gev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s een risicovolle handeling, waarom?</a:t>
            </a:r>
            <a:endParaRPr b="0" lang="en-US" sz="2400" spc="-1" strike="noStrike">
              <a:solidFill>
                <a:srgbClr val="073e87"/>
              </a:solidFill>
              <a:latin typeface="Candara"/>
            </a:endParaRPr>
          </a:p>
        </p:txBody>
      </p:sp>
      <p:sp>
        <p:nvSpPr>
          <p:cNvPr id="3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nvoldoende lucht in de longen: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Tumor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Niet open staan van een long: pneumothorax</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fknelling Trachea</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et niet goed kunnen gebruiken van de ademhaling door: operatie, pijn, COPD of neurologisch letsel</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Redenen voor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nd alveoli is ziek: bijv bij Cystic Fibros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nd alveoli rekt niet mee: Longemfyseem</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Er stroomt geen bloed langs de alveoli: trombose of vaatafsluitin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ruk in het bloed is te hoog: geen opnam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Er zit vocht op plaatsen waar lucht moet zijn: longontsteking</a:t>
            </a:r>
            <a:endParaRPr b="0" lang="en-US" sz="24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Geen O2 vanuit alveoli naar de bloedbaa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8T13:27:49Z</dcterms:created>
  <dc:creator>Rina</dc:creator>
  <dc:description/>
  <dc:language>en-US</dc:language>
  <cp:lastModifiedBy>Rina Niemeijer</cp:lastModifiedBy>
  <dcterms:modified xsi:type="dcterms:W3CDTF">2018-04-08T08:06:23Z</dcterms:modified>
  <cp:revision>20</cp:revision>
  <dc:subject/>
  <dc:title>De ademhaling:</dc:title>
</cp:coreProperties>
</file>