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2069-F742-408E-9B9E-2C623E34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7B07-37A0-4A2C-898D-790072E2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92F4-0373-4776-942E-0C3E2902C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5314-4163-411C-8A3F-FDBFE269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CE2A-2E3E-490B-8E0E-3E43BC9B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DBBA-F66B-45E3-B8AF-503809FB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3F51-931D-46B1-82B9-8C4291DF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8B93-74BE-4FDC-8839-79AE1720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8E1A-8D94-4DF9-92C5-18742745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D020-72C3-4796-9EE8-8DAF17F8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0BC8-25D6-4715-AD10-A54D5D61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F30D-44A1-457D-9C7B-B34E6CB9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EB17-B20C-4D11-94A4-197B365D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E1A3-17EE-4558-BCA1-3FB6D57C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18A3-1B84-4968-A8CD-75C2FA8E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9BBF-BD13-4487-A0A5-6B1085A4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503B-2414-40BC-9D15-70574FF9B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D912-08E5-43F7-8C35-22B4322E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AAB0-AB34-4DA2-8953-754E9DEB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3481-0CEE-494A-B5DD-EB9F2DB5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6690-80B1-49E9-BE98-6F02E1E0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12FB-B53B-42F5-AF5E-ED6B8A72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AAC1-82A8-483A-84FE-5F78E255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BEB2-E22C-40B1-8FE0-C3FF47EB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B314-1065-4789-8142-11425B8BED0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2952-8176-4127-9B0E-0662562234E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050920" y="249228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 in buik, boven schaambeen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c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Afbeelding 3" descr="suprapubis.jpg"/>
          <p:cNvPicPr/>
          <p:nvPr/>
        </p:nvPicPr>
        <p:blipFill>
          <a:blip r:embed="rId1"/>
          <a:stretch/>
        </p:blipFill>
        <p:spPr>
          <a:xfrm>
            <a:off x="5219640" y="400536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Blaasspoel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7"/>
          <p:cNvPicPr/>
          <p:nvPr/>
        </p:nvPicPr>
        <p:blipFill>
          <a:blip r:embed="rId1"/>
          <a:stretch/>
        </p:blipFill>
        <p:spPr>
          <a:xfrm>
            <a:off x="2268360" y="1628640"/>
            <a:ext cx="605016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Verdana"/>
              </a:rPr>
              <a:t>Redenen hiervoor kunnen zijn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infec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lokaal toedienen van medicatie, bijvoorbeeld cytostat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 verstopte of bijna verstopte blaaskathe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bloedstolsels na een oper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 kan plaatsvinden met de hand ofwel met een open systeem (uro tainer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or het spoelen met een gesloten systeem is een driewegkatheter nodi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c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Katheteriseren 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 spoelen met een open systeem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Doel: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doorgang van de verblijfskatheter open houden / toedienen medic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Bij wi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: Zorgvragers bij wie de blaas met een zakje moet worden gespo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Verschillende redenen om de blaas te spoelen met zakjes: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Om de afvoer van urine in stand te houde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zichtbare hematurie in 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produceerde urine (met stolsel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gruis / afval in de blaas e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katheter, die dan verstop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raken.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spoelen om  medicatie toe te dien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cytostaticakuren met lokale werking bijv. bij blaastumo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reinigen van de blaas vanwege een zeer ernstige urineweginfectie, een pyur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4" descr="2086"/>
          <p:cNvPicPr/>
          <p:nvPr/>
        </p:nvPicPr>
        <p:blipFill>
          <a:blip r:embed="rId1"/>
          <a:stretch/>
        </p:blipFill>
        <p:spPr>
          <a:xfrm>
            <a:off x="5580000" y="3860640"/>
            <a:ext cx="280836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5" descr="zz09werkbladsupra"/>
          <p:cNvPicPr/>
          <p:nvPr/>
        </p:nvPicPr>
        <p:blipFill>
          <a:blip r:embed="rId1"/>
          <a:stretch/>
        </p:blipFill>
        <p:spPr>
          <a:xfrm>
            <a:off x="1187280" y="900000"/>
            <a:ext cx="662472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èè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malig te katheteriser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erblijfskathete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uprapubis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Kenmerken verblijfskatheter: 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lijft na inbrengen 4-8 weken zitten, Bij een silliconen Kad: 3 maanden intramuraal, 6 maanden extramura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c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nneer breng je een verblijfskatheter in en waarom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nneer/waarom verblijf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ost-operatie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A.R. Niemeijer</cp:lastModifiedBy>
  <dcterms:modified xsi:type="dcterms:W3CDTF">2016-12-14T09:22:39Z</dcterms:modified>
  <cp:revision>33</cp:revision>
  <dc:subject/>
  <dc:title>Indeling WCS=</dc:title>
</cp:coreProperties>
</file>