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01519-0456-4C02-B0B2-23ED3EEA4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4B36E-42EF-4A92-B9D7-3A6346AD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95F00-73F1-4AD9-8E0C-97E057E1A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0BB9A-CB67-40AE-9A2A-C352D37E5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C991-864E-46B2-989A-EA2B3B9B3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7BF4-E04E-4675-947B-CBE6472B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F7F3-F0B7-47B5-8A86-1DA72FE9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FCD8-82AF-40DE-8884-8875DC00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6DE0-11D5-4FB0-BA7E-D0435380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2E55-BD50-423E-AABB-F6083D07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EFF1-FC25-4FC1-BE8A-D5FB5E3B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7C609-AC1D-42A6-B9D9-546F04B1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A38A-A05A-4FF2-8FE6-BB0EDA26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3CAF-8D13-4376-AF83-99C17AC1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CEC4-C097-43E4-AEA0-F3F33CAF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765B-8AA1-418B-AB8D-0007B4B24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9477-B929-4A99-BD98-D45C0A43E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F72A7-C79C-4A3E-AE41-36FA32629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CE876-AE5B-437D-98E8-BB25D1F4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0A7C0-69EB-47ED-8F74-F2600368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B9B9F-52FC-42B7-A24E-ECFAD87F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9A772-6654-487A-939A-AC7EA1AE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A7F23-097D-4965-9D9C-1E10D1E4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44E83-E9E2-4DEB-8039-1CA8C043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4C99B-E442-498A-8D7A-C667CC35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DB0DA-7339-43AF-9E95-94526295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64AD2-A564-42A9-A603-62EB7A3C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40E13-61E4-471C-90C4-38A0FE88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D5206-6066-4EA6-8BDC-DB31417AF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009BA-38F3-4758-988F-24B183E4A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25769-C659-4B13-BC42-1E778B5B1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9CEC5-B1A5-47E7-98C9-F8874E57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4F805-E1FB-449F-9CFA-BFA3A99F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00B01-C2CA-42AE-A225-128E67B7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F7AE5-2044-480D-8E37-81993C5F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346B5-2DF1-44CD-A2C2-0E86A7C5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BABB1-2786-4D31-81F5-DBBD203A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2F066-0FEE-4737-A3D3-3FED09A4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DE15E-3A7B-4B37-AAD2-615FFA52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99D23-16F4-4456-9787-8D88D8BF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FF00C-8D7F-4989-B9B4-964B9698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3E514-DDC9-4671-9926-A4AA12A7E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65B7A-671D-4C75-AD99-8C8CC48F2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A3002-2D62-443C-A3F9-B22C3269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9A5F8-0A4E-4504-8963-3377084A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E885F-490E-4FDD-A2FB-12CD8EC8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8AB11-C1D6-4912-8D2E-C49683EC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3D58C-1780-46FA-8606-6EF253A8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9094-A66F-493B-A0CA-7D01634F0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45B6-6D87-49AD-9AC5-FF10A5CE7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4E85-341D-4BE7-9A53-3DE9347CD4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603E-417E-4DDB-BD09-7C3206A9DE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685800"/>
            <a:ext cx="7391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zwak 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laag: veel eiwit, koorts, jicht, C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hoog: urineweginfectie, hyper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verandert van kleur (mengindic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ebruik verse urine i.v.m. kans op foutief verhoogde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Garamond"/>
              </a:rPr>
              <a:t>Semi-kwantitatief chemisch urineonderzoe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8760" y="250920"/>
            <a:ext cx="89852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l inzicht in kiemgetal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iemgetal: aantal bacteriën per ml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diagnose cysitis (blaa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beide zijden voedingsbodem met suikers, eiwitten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één kant groeien allee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andere kant Gram-positieve é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Gram positieve en negatieve bacteri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200" y="2814480"/>
            <a:ext cx="4038480" cy="244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648320" y="2725560"/>
            <a:ext cx="40384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8760" y="250920"/>
            <a:ext cx="89852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Gram-negatiev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onokokken (gonorro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.coli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yfus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Gram-positieve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afylokokken (MR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reptokokken (keel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neumokokken (long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uberkelbacteriën (tuberculo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orzakers urineweginfectie meestal Gram-neg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8760" y="250920"/>
            <a:ext cx="89852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bruik gewassen mid-stream ochtendurine (max. 2 uur oud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s voor urineren blaasuitgang wa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rste deel van de plas niet opva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 16-24 uur bij 37°C incuberen resultaat afle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negatieve bacteriën/ml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minder da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geen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uss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test herha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380880"/>
            <a:ext cx="76964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ierdrempel gluc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10 mmol/l, indien hoger: glucos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(redoxreactie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lucose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G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gluconzuur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indicator + P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kleuroms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457200"/>
            <a:ext cx="7696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iwit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eiwitvr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iwit in urine: proteïnurie of albumin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van belang voor diagnostiek van nierziek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of troebelingsrea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: aanwezig eiwit (zure urine)verkleurt de zuur-base indicator, geel -&gt; (licht) gro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roebelingsreactie: koken in zuur milieu geeft troebeling (kookproef  van Ba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609480"/>
            <a:ext cx="7238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tr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urineweginfecties door E.coli, Klebsiella e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 alleen vo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trietvormen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ige bacteriën aantonen d.m.v. dipslide en/of sedi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voorkeur verse ochtendurine gebrui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omatisch amine + nitrie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-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14400" y="91440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uk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ontstekingen va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ucocytenesterase splitst stof teststrookje, kleuromslag beige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-violett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 alleen gevoelig voor granul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914400"/>
            <a:ext cx="7924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rythrocyten e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bloedingen en ontstekingen i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2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2O + O2 o.i.v. pod activiteit h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+ 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e/groene 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vrij Hb hoger dan voor intacte er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533520"/>
            <a:ext cx="7848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eto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geen ketonen aanwezi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ketonen met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itroprusside-natrium + keton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aars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een reactie met aceton en acetylazijn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acetylazijnzuur 10x hoger dan voor ac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533520"/>
            <a:ext cx="822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iliru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niet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: afsluiting galtoevoer (stenen), leverziekten (hepat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Urine donker bewaren i.v.m. afbraak bilirubine o.i.v. UV-l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schudproef: na schudden geel schu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lirubine + diazoniumzou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/paars in zuur mili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914400"/>
            <a:ext cx="7086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robilin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spoortje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rse urine gebruiken i.v.m. omzetting in urobiline o.i.v. 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ernstige hemolyse of leverfunctiestoorni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robilinogeen geeft in zuur milieu een 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9:31:38Z</dcterms:created>
  <dc:creator>Haverkort</dc:creator>
  <dc:description/>
  <dc:language>en-US</dc:language>
  <cp:lastModifiedBy>Haverkort</cp:lastModifiedBy>
  <dcterms:modified xsi:type="dcterms:W3CDTF">2010-06-07T14:04:1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