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629F-1A73-4C33-9086-C8295555CE1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F8B9-1957-4B5D-8DA5-90631F25E59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2AD5-EB4A-4969-B1AF-C13B3443D75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4454-7018-4EA8-B2B7-54335660147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3A4F-627F-4C82-B1E5-9AEBCFE8262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7B05-8C9A-4EEC-AEB0-BEEBF238ECB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7B67-DB43-4C36-B549-4FC87B17E38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4493-58CE-48D9-B10B-C33238CB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9883-841A-4DC9-BF28-01D0E7EF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E655-8292-4AA8-BB86-D276F46F3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A792-64D9-44BE-9A8D-1E2C97B41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A158-8283-43E0-836C-F9D8AA929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6E41-3BAB-4275-A15A-39CE94C3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D81F-8CB2-4B1D-AF9D-5A112A9B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D7ED-3EFB-4E66-87BF-BF92EBC0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E7AE-9078-4BBD-89D3-B89E96DC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97C9-8FEC-437E-8244-87C8F968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46D7-4D87-437D-8CA0-140E9224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D20A-309C-436C-97F6-A144DA38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327D-3FD0-42AC-83A1-D05C2FD6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1F86-2FC9-40ED-906E-58343B7B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88DD-0062-4FB6-89A0-F2A806B0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0B18-2F0D-4A16-90EA-BE1112BD2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E5F8-0172-47A2-9E76-E162BC24E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22A8-4B30-4637-A4C4-EB75730E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0D3E-EBD4-4983-A0CB-2A6259B4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B434-9E80-4320-864F-82AF6A5B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80E4-1FDC-4357-AB17-E62DFF0F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BB9B-77A4-426E-B786-F231287D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935A-4696-4B28-87C3-A4AE07E9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85CB-CCA7-4E31-BAB7-9B272D04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E184-6969-42AF-B2B5-95B36DADBD3F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3A8D-B66D-4B99-BD8F-810D145D9D2E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Geproduceerd in ni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evat onbruikbare stoffen, veelal eindproducten stofwisse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orbeelden: natrium, kalium, ureum, kreatinine, chloor, fosfa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Laboratoriumonderzoek geeft informatie ove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le stofwisselingsstoorniss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ing van organ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330800" cy="47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iures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uitscheiding van ur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ligurie: uitscheiding ↓ (opname ↓, afgifte ↑, oedee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Polyurie: uitscheiding ↑ (opname ↑, D.M., nieraandoening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urie: tijdelijk geen uitscheiding (prostaatvergroting, sten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3" descr="Pl_doorsnedenier"/>
          <p:cNvPicPr/>
          <p:nvPr/>
        </p:nvPicPr>
        <p:blipFill>
          <a:blip r:embed="rId1"/>
          <a:stretch/>
        </p:blipFill>
        <p:spPr>
          <a:xfrm>
            <a:off x="4932360" y="1989000"/>
            <a:ext cx="38894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22480" y="250920"/>
            <a:ext cx="84207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schillende soorten urineonderzoe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ysisch (volume, kleur, helderheid, ge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hemisch (stoffen aan te tonen met chemische reacti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litatief: aanwezig of niet (neg, 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1+, 2+, 3+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emi-kwantitatief: indruk hoeveelheid (niet exac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ntitatief: exacte hoeveelheid (mmol/l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µ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ol/24u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icroscopisch (urinesedime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58760" y="35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dbbd71"/>
                </a:solidFill>
                <a:latin typeface="Arial"/>
              </a:rPr>
              <a:t>Urineonderzoek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eestal voorkeur verse ochtendurine, soms 24-uursur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erse 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leur en pH niet verand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inder troebelingen door bacteriegroei en zoutneersla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el aanwezige aceton niet vervluchtig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Ochtend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oordeel: vrij sterk geconcentre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Nadeel: bij lichte diabetes kan glucose gemist word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85760" y="250920"/>
            <a:ext cx="72928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4-uursurin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zameld over precies 24 u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eerst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tweed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wel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All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tussentijds geproduceerde urine verzam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58760" y="476280"/>
            <a:ext cx="89726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Fysisch 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: 1-2 liter per d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SPEC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leur: helder geel, voornamelijk door urochro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lderheid: verse urine is helder. Na afkoeling soms troebe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ur: bouillonachtig. Soms afwijkend door voeding of medicati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58760" y="2509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ahoma"/>
              </a:rPr>
              <a:t>Semi-kwantitatief chemisch urineonderzoe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-&gt; volgt bij urinestickreac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3:23:04Z</dcterms:created>
  <dc:creator>Harry Kuipers</dc:creator>
  <dc:description/>
  <dc:language>en-US</dc:language>
  <cp:lastModifiedBy>Haverkort</cp:lastModifiedBy>
  <dcterms:modified xsi:type="dcterms:W3CDTF">2015-10-07T18:10:47Z</dcterms:modified>
  <cp:revision>29</cp:revision>
  <dc:subject/>
  <dc:title>Dia 1</dc:title>
</cp:coreProperties>
</file>