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BF5-CBAA-4F43-B058-87742230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4A8-9F26-4F12-8213-F404DE92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30C-47CA-458C-916D-3F476E68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496-D2A3-49D5-A1D1-7975E253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1A7-8111-464D-8FAC-14F4A6FD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E97-461E-4860-8286-C6531BF6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EAB-971B-4BAF-A453-EBFB4FFF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2AD-B40C-44FB-AC26-53FB60F9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449-FA2A-4A4D-9166-27E48D5C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518-C139-47E4-98B2-A25908CA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643-5090-426C-8529-8A4CFB89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2F4-5D07-4923-9227-A61773B4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BEDB-FEDD-4A78-9C37-E0AE7B770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oticelli_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908000" y="5950080"/>
            <a:ext cx="547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Sandro Bot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geboorte van 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imabue6"/>
          <p:cNvPicPr/>
          <p:nvPr/>
        </p:nvPicPr>
        <p:blipFill>
          <a:blip r:embed="rId1"/>
          <a:stretch/>
        </p:blipFill>
        <p:spPr>
          <a:xfrm>
            <a:off x="0" y="0"/>
            <a:ext cx="8101080" cy="678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 rot="5400000">
            <a:off x="6014880" y="317988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Cimab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Madonna met Engelen en st. Franci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909-Last-Supper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5018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835280" y="5373720"/>
            <a:ext cx="54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Leonardo da V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et laatste avondm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300px-Giotto_-_Scrovegni_-_-18-_-_Adoration_of_the_Magi"/>
          <p:cNvPicPr/>
          <p:nvPr/>
        </p:nvPicPr>
        <p:blipFill>
          <a:blip r:embed="rId1"/>
          <a:stretch/>
        </p:blipFill>
        <p:spPr>
          <a:xfrm>
            <a:off x="0" y="0"/>
            <a:ext cx="6791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 rot="5400000">
            <a:off x="5659920" y="262188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Gio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aanbidding door de wij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eyck_arnolfini"/>
          <p:cNvPicPr/>
          <p:nvPr/>
        </p:nvPicPr>
        <p:blipFill>
          <a:blip r:embed="rId1"/>
          <a:stretch/>
        </p:blipFill>
        <p:spPr>
          <a:xfrm>
            <a:off x="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788000" y="98100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Jan van Ey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et huwelijk van Arnolf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aanbidding_van_het_lam_van_eyck_142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2195640" y="566100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Jan van Ey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Aanbidding van het 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Septembre"/>
          <p:cNvPicPr/>
          <p:nvPr/>
        </p:nvPicPr>
        <p:blipFill>
          <a:blip r:embed="rId1"/>
          <a:stretch/>
        </p:blipFill>
        <p:spPr>
          <a:xfrm>
            <a:off x="0" y="0"/>
            <a:ext cx="44672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4788000" y="981000"/>
            <a:ext cx="435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Gebr. van Lim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Septembre, trés Riches Heures de Jean, Duc de B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olbein_thomasmore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4788000" y="1125360"/>
            <a:ext cx="43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ans Holb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Port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Van Thomas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schTuinDerLusten"/>
          <p:cNvPicPr/>
          <p:nvPr/>
        </p:nvPicPr>
        <p:blipFill>
          <a:blip r:embed="rId1"/>
          <a:stretch/>
        </p:blipFill>
        <p:spPr>
          <a:xfrm>
            <a:off x="-2916360" y="-426960"/>
            <a:ext cx="13033440" cy="7284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 rot="5400000">
            <a:off x="5524200" y="2295360"/>
            <a:ext cx="5373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Ieronymus Bo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Tuin der lu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476360" y="558972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lla France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hertog van Urbino en zijn Vro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615a-b"/>
          <p:cNvPicPr/>
          <p:nvPr/>
        </p:nvPicPr>
        <p:blipFill>
          <a:blip r:embed="rId1"/>
          <a:stretch/>
        </p:blipFill>
        <p:spPr>
          <a:xfrm>
            <a:off x="0" y="0"/>
            <a:ext cx="78120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1:17:21Z</dcterms:created>
  <dc:creator>lb</dc:creator>
  <dc:description/>
  <dc:language>en-US</dc:language>
  <cp:lastModifiedBy>Daan van Mourik</cp:lastModifiedBy>
  <dcterms:modified xsi:type="dcterms:W3CDTF">2019-04-16T18:27:20Z</dcterms:modified>
  <cp:revision>5</cp:revision>
  <dc:subject/>
  <dc:title>Dia 1</dc:title>
</cp:coreProperties>
</file>