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DC3E-3812-484F-B53A-BC15D361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7E2E-94A0-4708-B217-2CEB0776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E4B9-6067-4406-88B0-54612072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FB5B-5F7B-4B70-9DC4-0B946FDD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BC29-BACC-4D95-B6B1-AB13BB9E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9544-6E08-46B3-BC70-A2F66EB2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9063-FC90-416E-AEBC-CE674836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1C50-3000-4494-BF90-F4E9BE2A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B363-5A62-4E2F-86C5-8EB66C5F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99A4-37D3-406E-9197-F0FB3A73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D9A4-FEB8-425E-AB96-462104C5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9661-BDDE-4010-B7AE-8BDC44D5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F9DB-5855-4BB5-B9E2-39EA0E7B9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boticelli_2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1908000" y="5950080"/>
            <a:ext cx="5473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Sandro Botic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De geboorte van 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imabue6"/>
          <p:cNvPicPr/>
          <p:nvPr/>
        </p:nvPicPr>
        <p:blipFill>
          <a:blip r:embed="rId1"/>
          <a:stretch/>
        </p:blipFill>
        <p:spPr>
          <a:xfrm>
            <a:off x="0" y="0"/>
            <a:ext cx="8101080" cy="6789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 rot="5400000">
            <a:off x="6014880" y="3179880"/>
            <a:ext cx="54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Cimab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Madonna met Engelen en st. Francis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909-Last-Supper-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50180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1835280" y="5373720"/>
            <a:ext cx="547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Leonardo da Vi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Het laatste avondm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300px-Giotto_-_Scrovegni_-_-18-_-_Adoration_of_the_Magi"/>
          <p:cNvPicPr/>
          <p:nvPr/>
        </p:nvPicPr>
        <p:blipFill>
          <a:blip r:embed="rId1"/>
          <a:stretch/>
        </p:blipFill>
        <p:spPr>
          <a:xfrm>
            <a:off x="0" y="0"/>
            <a:ext cx="6791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 rot="5400000">
            <a:off x="5659920" y="2621880"/>
            <a:ext cx="43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Giot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De aanbidding door de wij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eyck_arnolfini"/>
          <p:cNvPicPr/>
          <p:nvPr/>
        </p:nvPicPr>
        <p:blipFill>
          <a:blip r:embed="rId1"/>
          <a:stretch/>
        </p:blipFill>
        <p:spPr>
          <a:xfrm>
            <a:off x="0" y="0"/>
            <a:ext cx="49942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4788000" y="981000"/>
            <a:ext cx="43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Jan van Ey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Het huwelijk van Arnolf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aanbidding_van_het_lam_van_eyck_1423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181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2195640" y="5661000"/>
            <a:ext cx="43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Jan van Ey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Aanbidding van het L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Septembre"/>
          <p:cNvPicPr/>
          <p:nvPr/>
        </p:nvPicPr>
        <p:blipFill>
          <a:blip r:embed="rId1"/>
          <a:stretch/>
        </p:blipFill>
        <p:spPr>
          <a:xfrm>
            <a:off x="0" y="0"/>
            <a:ext cx="44672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4788000" y="981000"/>
            <a:ext cx="435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Gebr. van Lim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Septembre, trés Riches Heures de Jean, Duc de Be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holbein_thomasmore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4788000" y="1125360"/>
            <a:ext cx="435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Hans Holb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Port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Van Thomas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schTuinDerLusten"/>
          <p:cNvPicPr/>
          <p:nvPr/>
        </p:nvPicPr>
        <p:blipFill>
          <a:blip r:embed="rId1"/>
          <a:stretch/>
        </p:blipFill>
        <p:spPr>
          <a:xfrm>
            <a:off x="-2916360" y="-426960"/>
            <a:ext cx="13033440" cy="7284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 rot="5400000">
            <a:off x="5524200" y="2295360"/>
            <a:ext cx="537372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HIeronymus Bo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Tuin der lu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1476360" y="5589720"/>
            <a:ext cx="43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Della Frances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De hertog van Urbino en zijn Vrou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1615a-b"/>
          <p:cNvPicPr/>
          <p:nvPr/>
        </p:nvPicPr>
        <p:blipFill>
          <a:blip r:embed="rId1"/>
          <a:stretch/>
        </p:blipFill>
        <p:spPr>
          <a:xfrm>
            <a:off x="0" y="0"/>
            <a:ext cx="781200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1:17:21Z</dcterms:created>
  <dc:creator>lb</dc:creator>
  <dc:description/>
  <dc:language>en-US</dc:language>
  <cp:lastModifiedBy>Daan van Mourik</cp:lastModifiedBy>
  <dcterms:modified xsi:type="dcterms:W3CDTF">2019-04-16T18:27:20Z</dcterms:modified>
  <cp:revision>5</cp:revision>
  <dc:subject/>
  <dc:title>Dia 1</dc:title>
</cp:coreProperties>
</file>