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CD1-A99A-4396-B3D6-D59E7691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4AE-DA16-48E0-8112-4C8ECF58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923-F312-4519-B300-03C8548A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2EF-EB64-4060-B984-ACBF0141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0F4-CA16-4CD0-83C5-CC5CD2E4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61A-D733-4601-A0AE-8DA5B0E1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472-32AF-4A79-A517-AC57837B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7FF-F926-4F0C-A79A-19160183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0CF-A5E9-49BD-BCCB-9DF9E446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94B-6E81-412F-ACC8-A1D8181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328-0EEB-411D-835B-E0FB5B3A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49B-5C64-465C-973F-F140F237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F540-D366-4E92-9CCD-2B39586A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oticelli_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908000" y="5950080"/>
            <a:ext cx="547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andro Bot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geboorte van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imabue6"/>
          <p:cNvPicPr/>
          <p:nvPr/>
        </p:nvPicPr>
        <p:blipFill>
          <a:blip r:embed="rId1"/>
          <a:stretch/>
        </p:blipFill>
        <p:spPr>
          <a:xfrm>
            <a:off x="0" y="0"/>
            <a:ext cx="8101080" cy="67896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 rot="5400000">
            <a:off x="6014880" y="317988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Cimab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Madonna met Engelen en st. Franc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909-Last-Supper-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5018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835280" y="537372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Leonardo da V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laatste avondm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300px-Giotto_-_Scrovegni_-_-18-_-_Adoration_of_the_Magi"/>
          <p:cNvPicPr/>
          <p:nvPr/>
        </p:nvPicPr>
        <p:blipFill>
          <a:blip r:embed="rId1"/>
          <a:stretch/>
        </p:blipFill>
        <p:spPr>
          <a:xfrm>
            <a:off x="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 rot="5400000">
            <a:off x="5659920" y="262188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io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aanbidding door de wij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yck_arnolfini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788000" y="98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et huwelijk van Arnol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anbidding_van_het_lam_van_eyck_142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195640" y="566100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Jan van Ey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Aanbidding van het 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Septembre"/>
          <p:cNvPicPr/>
          <p:nvPr/>
        </p:nvPicPr>
        <p:blipFill>
          <a:blip r:embed="rId1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788000" y="981000"/>
            <a:ext cx="43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Gebr. van Lim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Septembre, trés Riches Heures de Jean, Duc de B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olbein_thomasmore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788000" y="1125360"/>
            <a:ext cx="43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ans Holb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Port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Van Thoma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chTuinDerLusten"/>
          <p:cNvPicPr/>
          <p:nvPr/>
        </p:nvPicPr>
        <p:blipFill>
          <a:blip r:embed="rId1"/>
          <a:stretch/>
        </p:blipFill>
        <p:spPr>
          <a:xfrm>
            <a:off x="-2916360" y="-426960"/>
            <a:ext cx="13033440" cy="7284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 rot="5400000">
            <a:off x="5524200" y="2295360"/>
            <a:ext cx="5373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HIeronymus Bo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Tuin der lu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476360" y="5589720"/>
            <a:ext cx="43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lla France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Bold"/>
              </a:rPr>
              <a:t>De hertog van Urbino en zijn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615a-b"/>
          <p:cNvPicPr/>
          <p:nvPr/>
        </p:nvPicPr>
        <p:blipFill>
          <a:blip r:embed="rId1"/>
          <a:stretch/>
        </p:blipFill>
        <p:spPr>
          <a:xfrm>
            <a:off x="0" y="0"/>
            <a:ext cx="7812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1:17:21Z</dcterms:created>
  <dc:creator>lb</dc:creator>
  <dc:description/>
  <dc:language>en-US</dc:language>
  <cp:lastModifiedBy>Daan van Mourik</cp:lastModifiedBy>
  <dcterms:modified xsi:type="dcterms:W3CDTF">2019-04-16T18:27:20Z</dcterms:modified>
  <cp:revision>5</cp:revision>
  <dc:subject/>
  <dc:title>Dia 1</dc:title>
</cp:coreProperties>
</file>