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1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move the slide</a:t>
            </a:r>
            <a:endParaRPr b="0" lang="en-US" sz="4400" spc="-1" strike="noStrike">
              <a:solidFill>
                <a:srgbClr val="191b0e"/>
              </a:solidFill>
              <a:latin typeface="Franklin Gothic Book"/>
            </a:endParaRPr>
          </a:p>
        </p:txBody>
      </p:sp>
      <p:sp>
        <p:nvSpPr>
          <p:cNvPr id="21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5DDF8-51ED-48E0-BC68-4196D261D16F}"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685800" y="1143000"/>
            <a:ext cx="5486400" cy="3086280"/>
          </a:xfrm>
          <a:prstGeom prst="rect">
            <a:avLst/>
          </a:prstGeom>
          <a:ln w="0">
            <a:noFill/>
          </a:ln>
        </p:spPr>
      </p:sp>
      <p:sp>
        <p:nvSpPr>
          <p:cNvPr id="24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atzlawick wil  de vraag achter de vraag duidelijk krijgen. Wil iemand bij een vraag een oplossing of gehoor vinden? Vraag door en benoem nonverbaal gedrag die je zi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Een belangrijk onderzoek van Mehrabian en Ferris (1967) laat ziet dat 7% van onze totale communicatie bestaat uit woorden. De overige 93% is non-verbale communicatie. Die 93% wordt weer onderverdeeld in 38% stemgeluid, toon en intonatie en 55% lichaamstaal. Wanneer we het gesproken woord niet meer zouden gebruiken, communiceren we toch nog ontzettend veel. Vaak zijn we ons hier niet van bewust, maar we doen het allemaal.</a:t>
            </a:r>
            <a:endParaRPr b="0" lang="en-US" sz="1200" spc="-1" strike="noStrike">
              <a:solidFill>
                <a:srgbClr val="000000"/>
              </a:solidFill>
              <a:latin typeface="Calibri"/>
            </a:endParaRPr>
          </a:p>
        </p:txBody>
      </p:sp>
      <p:sp>
        <p:nvSpPr>
          <p:cNvPr id="248"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CB75E-971F-4F54-A9AA-1CC348F8141B}"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685800" y="1143000"/>
            <a:ext cx="548640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aat de klas het filmpje van mr. Bean zien en laat ze ondertussen meeschrijven welke nonverbale signalen ze allemaal waarne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espreek dit met de klas 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ebben studenten voorbeelden waarbij een boodschap verkeerd is aangekomen bij een ander en waardoor er een verstoring in de communicatie ontstond? Bijv. Ruzie 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Bij communicatie in Social media kan een boodschap heel verkeerd over komen. Hoe komt dit? Hoe kun je dit voorkomen? </a:t>
            </a:r>
            <a:endParaRPr b="0" lang="en-US" sz="1200" spc="-1" strike="noStrike">
              <a:solidFill>
                <a:srgbClr val="000000"/>
              </a:solidFill>
              <a:latin typeface="Calibri"/>
            </a:endParaRPr>
          </a:p>
        </p:txBody>
      </p:sp>
      <p:sp>
        <p:nvSpPr>
          <p:cNvPr id="251"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41869-79D9-4CF5-961C-5985ABD03179}"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85800" y="1143000"/>
            <a:ext cx="5486400" cy="3086280"/>
          </a:xfrm>
          <a:prstGeom prst="rect">
            <a:avLst/>
          </a:prstGeom>
          <a:ln w="0">
            <a:noFill/>
          </a:ln>
        </p:spPr>
      </p:sp>
      <p:sp>
        <p:nvSpPr>
          <p:cNvPr id="253" name="PlaceHolder 2"/>
          <p:cNvSpPr>
            <a:spLocks noGrp="1"/>
          </p:cNvSpPr>
          <p:nvPr>
            <p:ph type="body"/>
          </p:nvPr>
        </p:nvSpPr>
        <p:spPr>
          <a:xfrm>
            <a:off x="304560" y="4400640"/>
            <a:ext cx="6443640" cy="455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Wat kan de man allemaal bedoelen met de vraag: waar is het z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Expressief aspect = </a:t>
            </a:r>
            <a:r>
              <a:rPr b="0" lang="nl-NL" sz="1200" spc="-1" strike="noStrike">
                <a:solidFill>
                  <a:srgbClr val="000000"/>
                </a:solidFill>
                <a:latin typeface="Calibri"/>
                <a:ea typeface="Calibri"/>
              </a:rPr>
              <a:t>Uit het voorbeeld valt af te leiden dat de man wakker is, zout gebruikt en Nederlands spreekt. Veel meer valt er uit het voorbeeld niet af te leiden. Het gaat in een boodschap in meer of mindere mate om zelfexpressie van de zender. Hij laat iets van zichzelf zien, hij geeft iets van zijn persoonlijkheid blo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ea typeface="Calibri"/>
              </a:rPr>
              <a:t>Zakelijk aspect= </a:t>
            </a:r>
            <a:r>
              <a:rPr b="0" lang="nl-NL" sz="1200" spc="-1" strike="noStrike">
                <a:solidFill>
                  <a:srgbClr val="000000"/>
                </a:solidFill>
                <a:latin typeface="Calibri"/>
                <a:ea typeface="Calibri"/>
              </a:rPr>
              <a:t>Het zakelijke aspect van de boodsch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Elke boodschap bestaat uit zakelijke, oftewel feitelijke informatie. De vrouw het voorbeeld komt te weten dat haar man het zout zoekt, hij vraagt immers waar het zout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ea typeface="Calibri"/>
              </a:rPr>
              <a:t>Appellerend aspect= </a:t>
            </a:r>
            <a:r>
              <a:rPr b="0" lang="nl-NL" sz="1200" spc="-1" strike="noStrike">
                <a:solidFill>
                  <a:srgbClr val="000000"/>
                </a:solidFill>
                <a:latin typeface="Calibri"/>
                <a:ea typeface="Calibri"/>
              </a:rPr>
              <a:t>Dit is een appel doen op iemand, hetgeen betekent een beroep doen op iemand teneinde een bepaald doel te bereiken. Iedere boodschap heeft namelijk tot doel invloed op een ander uit te oefenen. Bij het echtpaar uit het voorbeeld is dat de man de vrouw wil bewegen het zout voor hem te pakk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ea typeface="Calibri"/>
              </a:rPr>
              <a:t>Relationele aspect= </a:t>
            </a:r>
            <a:r>
              <a:rPr b="0" lang="nl-NL" sz="1200" spc="-1" strike="noStrike">
                <a:solidFill>
                  <a:srgbClr val="000000"/>
                </a:solidFill>
                <a:latin typeface="Calibri"/>
                <a:ea typeface="Calibri"/>
              </a:rPr>
              <a:t>Dit aspect van de communicatie zegt iets over hoe de zender de ontvanger ziet. Niet wat de zender zegt, maar hoe hij zegt is van doorslaggevend belang in de communica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In het voorbeeld van het echtpaar kunnen we opmaken dat hij van zijn vrouw verlangt dat zij het zout pakt. Het geeft weer hoe hij de onderlinge verhouding ziet. (ik ben een man en jij de vrouw, dus haal jij het zout voor mij o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06FC0-E184-4DF7-97BF-07321DE0C2F4}"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685800" y="1143000"/>
            <a:ext cx="5486400" cy="3086280"/>
          </a:xfrm>
          <a:prstGeom prst="rect">
            <a:avLst/>
          </a:prstGeom>
          <a:ln w="0">
            <a:noFill/>
          </a:ln>
        </p:spPr>
      </p:sp>
      <p:sp>
        <p:nvSpPr>
          <p:cNvPr id="25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drag is te voorspellen. Bepaald gedrag roept een bepaalde reactie op. Dit laat zien dat de manier waarop mensen reageren in veel gevallen te voorspellen en te beïnvloeden is.</a:t>
            </a:r>
            <a:endParaRPr b="0" lang="en-US" sz="1200" spc="-1" strike="noStrike">
              <a:solidFill>
                <a:srgbClr val="000000"/>
              </a:solidFill>
              <a:latin typeface="Calibri"/>
            </a:endParaRPr>
          </a:p>
        </p:txBody>
      </p:sp>
      <p:sp>
        <p:nvSpPr>
          <p:cNvPr id="257"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2B1F2-3AC3-4D6D-906C-EC7540BE0F40}"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685800" y="1143000"/>
            <a:ext cx="5486400" cy="3086280"/>
          </a:xfrm>
          <a:prstGeom prst="rect">
            <a:avLst/>
          </a:prstGeom>
          <a:ln w="0">
            <a:noFill/>
          </a:ln>
        </p:spPr>
      </p:sp>
      <p:sp>
        <p:nvSpPr>
          <p:cNvPr id="2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el van de opdrac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udenten worden zich ervan bewust dat zij in situaties (onbedoeld) de oorzaak kunnen zijn van agressie, maar ook dat ze een situatie kunnen veranderen dmv hun houding, gedrag, gesprekstechnieken etc. </a:t>
            </a:r>
            <a:endParaRPr b="0" lang="en-US" sz="1200" spc="-1" strike="noStrike">
              <a:solidFill>
                <a:srgbClr val="000000"/>
              </a:solidFill>
              <a:latin typeface="Calibri"/>
            </a:endParaRPr>
          </a:p>
        </p:txBody>
      </p:sp>
      <p:sp>
        <p:nvSpPr>
          <p:cNvPr id="260"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98E85-B7A9-48A6-8716-DEBA6DF6C436}"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685800" y="1143000"/>
            <a:ext cx="5486400" cy="3086280"/>
          </a:xfrm>
          <a:prstGeom prst="rect">
            <a:avLst/>
          </a:prstGeom>
          <a:ln w="0">
            <a:noFill/>
          </a:ln>
        </p:spPr>
      </p:sp>
      <p:sp>
        <p:nvSpPr>
          <p:cNvPr id="26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ijk naar het het agressie beleid op je stage voor de volgebnde keer</a:t>
            </a:r>
            <a:endParaRPr b="0" lang="en-US" sz="1200" spc="-1" strike="noStrike">
              <a:solidFill>
                <a:srgbClr val="000000"/>
              </a:solidFill>
              <a:latin typeface="Calibri"/>
            </a:endParaRPr>
          </a:p>
        </p:txBody>
      </p:sp>
      <p:sp>
        <p:nvSpPr>
          <p:cNvPr id="263"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A8122-CDF3-49C9-909A-A7C85CF86C44}" type="slidenum">
              <a:rPr b="0" lang="nl-NL"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73FBF-7885-4CBC-AE31-991A8B437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0E60B-6387-46FD-B168-051455A51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FBC5C-1ED1-4C91-8E04-1DD9CFFAD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5BBB4-3835-4049-BD29-F9BE553B8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F84F94-18D6-4EDA-BCDF-B6C4577BC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477DF-2EAD-49EE-BCDA-8042029C6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96CA1-27F7-4779-8F04-6DAF589E1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26D02-6B89-4986-865D-DD809A4DE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9F554-5011-45F2-ADFF-9AEF403BC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5606F-D588-4F5F-A4C9-C3078ABDC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F43A9-AA5A-4B2C-B58F-7F9B43907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B07A0-0404-4338-B6A6-18CA41028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BAE98-36B6-481D-A447-7FD087D49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ED162-0400-4FB6-A778-542F72E5D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B90EA-EB95-4AEE-B51C-CD0540F62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C0DE6D-6AA3-43C0-9E12-B1F8AD5D9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96035-C9BB-4353-86FF-C2E4DE2B2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5765BB-46D0-4594-9DE3-747B09198A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D2125D-3116-4D9B-9CC1-4CC4E493CD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882C9F-3A8D-47D5-BFF8-7A993C7C41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C774CE-ADBB-4783-830D-E02DFE4D8A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921AC6-DDA6-421E-A3D7-088C3425FF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952CD-62AC-4D54-AD15-738A25EDA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639B3B-CD65-4872-833C-DE0ED9DB0E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90657-598A-4B95-9861-E246EEDF23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5985A4-695B-4CCD-8830-9DCD0094A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9253C1-6533-414A-96F9-ADD9F3E69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2A617C-85E4-4584-8738-CF452A1FF6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49462E-0CF2-4F06-B813-9D1067D400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FFF48C-997E-4F31-A775-63AA20C28C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F558E8-C866-4D06-851B-06A35FFD8B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9C7BF2-0711-4C01-94B5-50688ACAD9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3D5324-8A6A-46A5-B18A-EB9B099A56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38ADB-5692-441F-B946-516E6575F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25379A-CE3F-4312-BF8D-EB77E5BB69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E3EAD0-BCB4-4F54-A806-E3677438ED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FAA3CE-A859-432B-898E-9D7665A10D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1412B4-C1E1-4DA1-BDDD-87D383D4F9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7D12B1-61A3-4ECB-973C-C3192BAA97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A295CE-E7A3-47A9-A421-576E8D8524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E90D41-8341-4CCF-B299-D75CEB6B2B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94473F-3642-47C2-86A6-14453D591B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46A5B9-037D-47EF-8E7C-22DA855D85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6DC9CE-2D07-497E-A94E-4C170280C5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5C709-010F-4AF9-ABED-84754F72A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A369F5-8B44-4086-8429-C48DAF09F1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67965D-5441-456E-8D8C-F3E778ACCB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BCAEBC-F469-41A5-86FE-0CDFCE5F3E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C0DD05-4CA0-4C99-B7AA-C2C5EAFE37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D458F0-939A-4C48-AFD8-4FCB7D9223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8DE191-D416-4B92-8A3D-E5D8BE58B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1EF1DE-907B-4964-955C-07F3EDC33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C188F3-D327-4351-AB53-5831BA1197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8E835D-4942-48C2-B874-311935FFA4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A7599C-40E7-4BFD-B3F5-5F70642340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A5779-458E-4888-8E6A-1A7BE8AEF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748388-67DE-48B0-8896-E1621386C2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C42E5-DF65-42D4-810B-BF0B059EA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A9367-6B31-475B-97C0-EF9AE3357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63BCF-4878-4BF2-8BE6-3CE8CE499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F1206-62A5-4658-ADB9-A0163BF41BC0}"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2" name="Group 6"/>
          <p:cNvGrpSpPr/>
          <p:nvPr/>
        </p:nvGrpSpPr>
        <p:grpSpPr>
          <a:xfrm>
            <a:off x="752040" y="744120"/>
            <a:ext cx="10674720" cy="5350320"/>
            <a:chOff x="752040" y="744120"/>
            <a:chExt cx="10674720" cy="5350320"/>
          </a:xfrm>
        </p:grpSpPr>
        <p:sp>
          <p:nvSpPr>
            <p:cNvPr id="43" name="Freeform 6"/>
            <p:cNvSpPr/>
            <p:nvPr/>
          </p:nvSpPr>
          <p:spPr>
            <a:xfrm>
              <a:off x="8151840" y="1685520"/>
              <a:ext cx="3274920" cy="4408920"/>
            </a:xfrm>
            <a:custGeom>
              <a:avLst/>
              <a:gdLst/>
              <a:ahLst/>
              <a:rect l="l" t="t" r="r" b="b"/>
              <a:pathLst>
                <a:path w="10000" h="10000">
                  <a:moveTo>
                    <a:pt x="8761" y="0"/>
                  </a:moveTo>
                  <a:lnTo>
                    <a:pt x="10000" y="0"/>
                  </a:lnTo>
                  <a:lnTo>
                    <a:pt x="10000" y="10000"/>
                  </a:lnTo>
                  <a:lnTo>
                    <a:pt x="0" y="10000"/>
                  </a:lnTo>
                  <a:lnTo>
                    <a:pt x="0" y="9126"/>
                  </a:lnTo>
                  <a:lnTo>
                    <a:pt x="8761" y="912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4" name="Freeform 6"/>
            <p:cNvSpPr/>
            <p:nvPr/>
          </p:nvSpPr>
          <p:spPr>
            <a:xfrm flipH="1" flipV="1">
              <a:off x="751320" y="743760"/>
              <a:ext cx="3275640" cy="4408920"/>
            </a:xfrm>
            <a:custGeom>
              <a:avLst/>
              <a:gdLst/>
              <a:ahLst/>
              <a:rect l="l" t="t" r="r" b="b"/>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920B1-C349-489D-9853-8FBF111741C4}"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6" name="Freeform 6"/>
          <p:cNvSpPr/>
          <p:nvPr/>
        </p:nvSpPr>
        <p:spPr>
          <a:xfrm>
            <a:off x="8151840" y="1685880"/>
            <a:ext cx="327492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efede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efede3"/>
                </a:solidFill>
                <a:latin typeface="Times New Roman"/>
              </a:rPr>
              <a:t>&lt;date/time&gt;</a:t>
            </a:r>
            <a:endParaRPr b="0" lang="en-US" sz="1200" spc="-1" strike="noStrike">
              <a:solidFill>
                <a:srgbClr val="ffffff"/>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efede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82EFD-911C-4858-A524-6E72E62299FC}" type="slidenum">
              <a:rPr b="0" lang="nl-NL" sz="1200" spc="-1" strike="noStrike">
                <a:solidFill>
                  <a:srgbClr val="efede3"/>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29" name="Rectangle 8"/>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D9D57-B368-4CCC-B67C-A1AF0A28D426}"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2" name="Rectangle 8"/>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191b0e"/>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8DF83-3698-4B6A-A7BE-96B455E1ECD3}" type="slidenum">
              <a:rPr b="0" lang="nl-NL" sz="1200" spc="-1" strike="noStrike">
                <a:solidFill>
                  <a:srgbClr val="191b0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14480" y="1788840"/>
            <a:ext cx="8361360" cy="2097000"/>
          </a:xfrm>
          <a:prstGeom prst="rect">
            <a:avLst/>
          </a:prstGeom>
          <a:noFill/>
          <a:ln w="0">
            <a:noFill/>
          </a:ln>
        </p:spPr>
        <p:txBody>
          <a:bodyPr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191b0e"/>
                </a:solidFill>
                <a:latin typeface="Franklin Gothic Book"/>
              </a:rPr>
              <a:t>AGRESSIE</a:t>
            </a:r>
            <a:endParaRPr b="0" lang="en-US" sz="7200" spc="-1" strike="noStrike">
              <a:solidFill>
                <a:srgbClr val="191b0e"/>
              </a:solidFill>
              <a:latin typeface="Franklin Gothic Book"/>
            </a:endParaRPr>
          </a:p>
        </p:txBody>
      </p:sp>
      <p:sp>
        <p:nvSpPr>
          <p:cNvPr id="222" name="PlaceHolder 2"/>
          <p:cNvSpPr>
            <a:spLocks noGrp="1"/>
          </p:cNvSpPr>
          <p:nvPr>
            <p:ph type="subTitle"/>
          </p:nvPr>
        </p:nvSpPr>
        <p:spPr>
          <a:xfrm>
            <a:off x="2679480" y="3956040"/>
            <a:ext cx="6832440" cy="743040"/>
          </a:xfrm>
          <a:prstGeom prst="rect">
            <a:avLst/>
          </a:prstGeom>
          <a:noFill/>
          <a:ln w="0">
            <a:noFill/>
          </a:ln>
        </p:spPr>
        <p:txBody>
          <a:bodyPr anchor="t">
            <a:noAutofit/>
          </a:bodyPr>
          <a:p>
            <a:pPr indent="0" algn="ctr">
              <a:lnSpc>
                <a:spcPct val="11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191b0e"/>
                </a:solidFill>
                <a:latin typeface="Franklin Gothic Book"/>
              </a:rPr>
              <a:t>Les 3</a:t>
            </a:r>
            <a:endParaRPr b="0" lang="en-US" sz="23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Lesprogramma</a:t>
            </a:r>
            <a:endParaRPr b="0" lang="en-US" sz="4400" spc="-1" strike="noStrike">
              <a:solidFill>
                <a:srgbClr val="191b0e"/>
              </a:solidFill>
              <a:latin typeface="Franklin Gothic Book"/>
            </a:endParaRPr>
          </a:p>
        </p:txBody>
      </p:sp>
      <p:sp>
        <p:nvSpPr>
          <p:cNvPr id="224" name=""/>
          <p:cNvSpPr txBox="1"/>
          <p:nvPr/>
        </p:nvSpPr>
        <p:spPr>
          <a:xfrm>
            <a:off x="1371600" y="2286000"/>
            <a:ext cx="960120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Communicatie en interactie</a:t>
            </a:r>
            <a:endParaRPr b="0" lang="en-US" sz="32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Roos van Leary</a:t>
            </a:r>
            <a:endParaRPr b="0" lang="en-US" sz="32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Communicatie en Interactie</a:t>
            </a:r>
            <a:br>
              <a:rPr sz="4400"/>
            </a:br>
            <a:endParaRPr b="0" lang="en-US" sz="4400" spc="-1" strike="noStrike">
              <a:solidFill>
                <a:srgbClr val="191b0e"/>
              </a:solidFill>
              <a:latin typeface="Franklin Gothic Book"/>
            </a:endParaRPr>
          </a:p>
        </p:txBody>
      </p:sp>
      <p:sp>
        <p:nvSpPr>
          <p:cNvPr id="226" name=""/>
          <p:cNvSpPr txBox="1"/>
          <p:nvPr/>
        </p:nvSpPr>
        <p:spPr>
          <a:xfrm>
            <a:off x="1112760" y="1615680"/>
            <a:ext cx="11079360" cy="5049720"/>
          </a:xfrm>
          <a:prstGeom prst="rect">
            <a:avLst/>
          </a:prstGeom>
          <a:noFill/>
          <a:ln w="0">
            <a:noFill/>
          </a:ln>
        </p:spPr>
        <p:txBody>
          <a:bodyPr anchor="t">
            <a:normAutofit fontScale="95000"/>
          </a:bodyPr>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Paul Watzlawick (psycholoog en communicatiewetenschapper): </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Iedereen communiceert altijd. Non verbaal en verbaal.</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Boodschap: </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20-30% = woorden</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70-80% = non verbaal </a:t>
            </a:r>
            <a:r>
              <a:rPr b="0" lang="nl-NL" sz="3200" spc="-1" strike="noStrike">
                <a:solidFill>
                  <a:srgbClr val="191b0e"/>
                </a:solidFill>
                <a:latin typeface="Wingdings"/>
                <a:ea typeface="Wingdings"/>
              </a:rPr>
              <a:t></a:t>
            </a:r>
            <a:r>
              <a:rPr b="0" lang="nl-NL" sz="3200" spc="-1" strike="noStrike">
                <a:solidFill>
                  <a:srgbClr val="191b0e"/>
                </a:solidFill>
                <a:latin typeface="Franklin Gothic Book"/>
              </a:rPr>
              <a:t> stemgeluid, toon en intonatie</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Franklin Gothic Book"/>
              </a:rPr>
              <a:t>   </a:t>
            </a:r>
            <a:r>
              <a:rPr b="0" lang="nl-NL" sz="3200" spc="-1" strike="noStrike">
                <a:solidFill>
                  <a:srgbClr val="191b0e"/>
                </a:solidFill>
                <a:latin typeface="Wingdings"/>
                <a:ea typeface="Wingdings"/>
              </a:rPr>
              <a:t></a:t>
            </a:r>
            <a:r>
              <a:rPr b="0" lang="nl-NL" sz="3200" spc="-1" strike="noStrike">
                <a:solidFill>
                  <a:srgbClr val="191b0e"/>
                </a:solidFill>
                <a:latin typeface="Franklin Gothic Book"/>
              </a:rPr>
              <a:t> </a:t>
            </a:r>
            <a:r>
              <a:rPr b="0" lang="nl-NL" sz="3200" spc="-1" strike="noStrike">
                <a:solidFill>
                  <a:srgbClr val="191b0e"/>
                </a:solidFill>
                <a:latin typeface="Franklin Gothic Book"/>
              </a:rPr>
              <a:t>lichaamstaal </a:t>
            </a: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a:p>
            <a:pPr marL="1656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240" y="685800"/>
            <a:ext cx="1022364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Opdracht: Wat wordt er gecommuniceerd?</a:t>
            </a:r>
            <a:endParaRPr b="0" lang="en-US" sz="4400" spc="-1" strike="noStrike">
              <a:solidFill>
                <a:srgbClr val="191b0e"/>
              </a:solidFill>
              <a:latin typeface="Franklin Gothic Book"/>
            </a:endParaRPr>
          </a:p>
        </p:txBody>
      </p:sp>
      <p:sp>
        <p:nvSpPr>
          <p:cNvPr id="228" name=""/>
          <p:cNvSpPr txBox="1"/>
          <p:nvPr/>
        </p:nvSpPr>
        <p:spPr>
          <a:xfrm>
            <a:off x="1258920" y="1523880"/>
            <a:ext cx="10336320" cy="5181840"/>
          </a:xfrm>
          <a:prstGeom prst="rect">
            <a:avLst/>
          </a:prstGeom>
          <a:noFill/>
          <a:ln w="0">
            <a:noFill/>
          </a:ln>
        </p:spPr>
        <p:txBody>
          <a:bodyPr anchor="t">
            <a:normAutofit/>
          </a:bodyPr>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500" spc="-1" strike="noStrike">
                <a:solidFill>
                  <a:srgbClr val="191b0e"/>
                </a:solidFill>
                <a:latin typeface="Franklin Gothic Book"/>
              </a:rPr>
              <a:t>Mr. Bean doet examen</a:t>
            </a:r>
            <a:endParaRPr b="0" lang="en-US" sz="35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91b0e"/>
                </a:solidFill>
                <a:latin typeface="Franklin Gothic Book"/>
              </a:rPr>
              <a:t>Vertrouwen, geschrokken, angst, nonchalance, onrust, zenuwen, arrogantie, paniek, oplossing, schijnheiligheid, vertrouwen, gedrevenheid etc. </a:t>
            </a:r>
            <a:endParaRPr b="0" lang="en-US" sz="28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Filmpje: Hoe komt een boodschap over? </a:t>
            </a:r>
            <a:endParaRPr b="0" lang="en-US" sz="32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91b0e"/>
                </a:solidFill>
                <a:latin typeface="Franklin Gothic Book"/>
              </a:rPr>
              <a:t>	</a:t>
            </a:r>
            <a:r>
              <a:rPr b="0" lang="nl-NL" sz="2000" spc="-1" strike="noStrike">
                <a:solidFill>
                  <a:srgbClr val="191b0e"/>
                </a:solidFill>
                <a:latin typeface="Franklin Gothic Book"/>
              </a:rPr>
              <a:t>	</a:t>
            </a:r>
            <a:endParaRPr b="0" lang="en-US" sz="20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91b0e"/>
                </a:solidFill>
                <a:latin typeface="Franklin Gothic Book"/>
              </a:rPr>
              <a:t>Controleer je of de boodschap is aangekomen. </a:t>
            </a:r>
            <a:endParaRPr b="0" lang="en-US" sz="28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92160" y="277560"/>
            <a:ext cx="10895040" cy="189396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191b0e"/>
                </a:solidFill>
                <a:latin typeface="Franklin Gothic Book"/>
              </a:rPr>
              <a:t>Een echtpaar zit aan tafel. De man smeert een broodje en belegt deze met een gekookt eitje. Hij zegt tegen zijn vrouw: "Waar is het zout?"</a:t>
            </a:r>
            <a:endParaRPr b="0" lang="en-US" sz="4000" spc="-1" strike="noStrike">
              <a:solidFill>
                <a:srgbClr val="191b0e"/>
              </a:solidFill>
              <a:latin typeface="Franklin Gothic Book"/>
            </a:endParaRPr>
          </a:p>
        </p:txBody>
      </p:sp>
      <p:sp>
        <p:nvSpPr>
          <p:cNvPr id="230" name=""/>
          <p:cNvSpPr txBox="1"/>
          <p:nvPr/>
        </p:nvSpPr>
        <p:spPr>
          <a:xfrm>
            <a:off x="1371600" y="2286000"/>
            <a:ext cx="9601200" cy="3581280"/>
          </a:xfrm>
          <a:prstGeom prst="rect">
            <a:avLst/>
          </a:prstGeom>
          <a:noFill/>
          <a:ln w="0">
            <a:noFill/>
          </a:ln>
        </p:spPr>
        <p:txBody>
          <a:bodyPr anchor="t">
            <a:normAutofit/>
          </a:bodyPr>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pic>
        <p:nvPicPr>
          <p:cNvPr id="231" name="Picture 2" descr=""/>
          <p:cNvPicPr/>
          <p:nvPr/>
        </p:nvPicPr>
        <p:blipFill>
          <a:blip r:embed="rId1"/>
          <a:stretch/>
        </p:blipFill>
        <p:spPr>
          <a:xfrm>
            <a:off x="992160" y="2835360"/>
            <a:ext cx="10686960" cy="370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232" name="Rectangle 7"/>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233" name="Picture 2" descr=""/>
          <p:cNvPicPr/>
          <p:nvPr/>
        </p:nvPicPr>
        <p:blipFill>
          <a:blip r:embed="rId1"/>
          <a:stretch/>
        </p:blipFill>
        <p:spPr>
          <a:xfrm>
            <a:off x="415800" y="1006560"/>
            <a:ext cx="7256520" cy="5653080"/>
          </a:xfrm>
          <a:prstGeom prst="rect">
            <a:avLst/>
          </a:prstGeom>
          <a:ln w="0">
            <a:noFill/>
          </a:ln>
        </p:spPr>
      </p:pic>
      <p:sp>
        <p:nvSpPr>
          <p:cNvPr id="234" name="Freeform 6"/>
          <p:cNvSpPr/>
          <p:nvPr/>
        </p:nvSpPr>
        <p:spPr>
          <a:xfrm flipH="1" flipV="1">
            <a:off x="7982640" y="639000"/>
            <a:ext cx="2295720" cy="3675240"/>
          </a:xfrm>
          <a:custGeom>
            <a:avLst/>
            <a:gdLst/>
            <a:ahLst/>
            <a:rect l="l" t="t" r="r" b="b"/>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35" name=""/>
          <p:cNvSpPr txBox="1"/>
          <p:nvPr/>
        </p:nvSpPr>
        <p:spPr>
          <a:xfrm>
            <a:off x="8470440" y="2285640"/>
            <a:ext cx="3054600" cy="3932280"/>
          </a:xfrm>
          <a:prstGeom prst="rect">
            <a:avLst/>
          </a:prstGeom>
          <a:noFill/>
          <a:ln w="0">
            <a:noFill/>
          </a:ln>
        </p:spPr>
        <p:txBody>
          <a:bodyPr anchor="t">
            <a:normAutofit/>
          </a:bodyPr>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fede3"/>
                </a:solidFill>
                <a:latin typeface="Franklin Gothic Book"/>
              </a:rPr>
              <a:t>De roos van Leary:</a:t>
            </a:r>
            <a:endParaRPr b="0" lang="en-US" sz="16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fede3"/>
                </a:solidFill>
                <a:latin typeface="Franklin Gothic Book"/>
              </a:rPr>
              <a:t>Er is altijd sprake van communicatie.</a:t>
            </a:r>
            <a:endParaRPr b="0" lang="en-US" sz="16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91b0e"/>
              </a:solidFill>
              <a:latin typeface="Franklin Gothic Book"/>
            </a:endParaRPr>
          </a:p>
          <a:p>
            <a:pPr marL="17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efede3"/>
                </a:solidFill>
                <a:latin typeface="Franklin Gothic Book"/>
              </a:rPr>
              <a:t>Leary oordeelt niet. Het is afhankelijk van de situatie en heeft geen waarde oordeel. Je bent vrij om je te bewegen in het model.</a:t>
            </a:r>
            <a:endParaRPr b="0" lang="en-US" sz="1600" spc="-1" strike="noStrike">
              <a:solidFill>
                <a:srgbClr val="191b0e"/>
              </a:solidFill>
              <a:latin typeface="Franklin Gothic Book"/>
            </a:endParaRPr>
          </a:p>
        </p:txBody>
      </p:sp>
      <p:sp>
        <p:nvSpPr>
          <p:cNvPr id="236" name="Rechthoek 4"/>
          <p:cNvSpPr/>
          <p:nvPr/>
        </p:nvSpPr>
        <p:spPr>
          <a:xfrm>
            <a:off x="1200240" y="396720"/>
            <a:ext cx="35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Franklin Gothic Book"/>
              </a:rPr>
              <a:t>Filmpje met uitleg Roos van Leary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191b0e"/>
                </a:solidFill>
                <a:latin typeface="Franklin Gothic Book"/>
              </a:rPr>
              <a:t>Opdracht: Rollenspel</a:t>
            </a:r>
            <a:endParaRPr b="0" lang="en-US" sz="4400" spc="-1" strike="noStrike">
              <a:solidFill>
                <a:srgbClr val="191b0e"/>
              </a:solidFill>
              <a:latin typeface="Franklin Gothic Book"/>
            </a:endParaRPr>
          </a:p>
        </p:txBody>
      </p:sp>
      <p:sp>
        <p:nvSpPr>
          <p:cNvPr id="238" name=""/>
          <p:cNvSpPr txBox="1"/>
          <p:nvPr/>
        </p:nvSpPr>
        <p:spPr>
          <a:xfrm>
            <a:off x="1371600" y="1947960"/>
            <a:ext cx="9601200" cy="4797360"/>
          </a:xfrm>
          <a:prstGeom prst="rect">
            <a:avLst/>
          </a:prstGeom>
          <a:noFill/>
          <a:ln w="0">
            <a:noFill/>
          </a:ln>
        </p:spPr>
        <p:txBody>
          <a:bodyPr anchor="t">
            <a:normAutofit fontScale="75000"/>
          </a:bodyPr>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2 studenten spelen een situatie met agressie na waar 1 van de 2 bij betrokken was. </a:t>
            </a:r>
            <a:endParaRPr b="0" lang="en-US" sz="3200" spc="-1" strike="noStrike">
              <a:solidFill>
                <a:srgbClr val="191b0e"/>
              </a:solidFill>
              <a:latin typeface="Franklin Gothic Book"/>
            </a:endParaRPr>
          </a:p>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De klas analyseert deze situatie op basis van de Roos van Leary</a:t>
            </a:r>
            <a:endParaRPr b="0" lang="en-US" sz="3200" spc="-1" strike="noStrike">
              <a:solidFill>
                <a:srgbClr val="191b0e"/>
              </a:solidFill>
              <a:latin typeface="Franklin Gothic Book"/>
            </a:endParaRPr>
          </a:p>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De klas geeft tips hoe er ook met deze situatie om had kunnen worden gegaan (onder/ boven- tegen/ samen)</a:t>
            </a:r>
            <a:endParaRPr b="0" lang="en-US" sz="3200" spc="-1" strike="noStrike">
              <a:solidFill>
                <a:srgbClr val="191b0e"/>
              </a:solidFill>
              <a:latin typeface="Franklin Gothic Book"/>
            </a:endParaRPr>
          </a:p>
          <a:p>
            <a:pPr marL="356040" indent="-34272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Rollenspel wordt opnieuw gedaan. De 2de keer met de meegekregen tips.</a:t>
            </a:r>
            <a:endParaRPr b="0" lang="en-US" sz="3200" spc="-1" strike="noStrike">
              <a:solidFill>
                <a:srgbClr val="191b0e"/>
              </a:solidFill>
              <a:latin typeface="Franklin Gothic Book"/>
            </a:endParaRPr>
          </a:p>
          <a:p>
            <a:pPr marL="356040" indent="-34272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1b0e"/>
              </a:solidFill>
              <a:latin typeface="Franklin Gothic Book"/>
            </a:endParaRPr>
          </a:p>
          <a:p>
            <a:pPr marL="356040" indent="-34272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91b0e"/>
                </a:solidFill>
                <a:latin typeface="Franklin Gothic Book"/>
              </a:rPr>
              <a:t>Voorbeeld praktijk. bv Patiënt weigert medicatie. Als professional probeer je aanvallend tegen over helpend te zetten.</a:t>
            </a:r>
            <a:endParaRPr b="0" lang="en-US" sz="3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239" name="Rectangle 9"/>
          <p:cNvSpPr/>
          <p:nvPr/>
        </p:nvSpPr>
        <p:spPr>
          <a:xfrm>
            <a:off x="47772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240" name="Rectangle 11"/>
          <p:cNvSpPr/>
          <p:nvPr/>
        </p:nvSpPr>
        <p:spPr>
          <a:xfrm>
            <a:off x="0" y="0"/>
            <a:ext cx="12192120" cy="6858000"/>
          </a:xfrm>
          <a:prstGeom prst="rect">
            <a:avLst/>
          </a:prstGeom>
          <a:solidFill>
            <a:srgbClr val="efede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1" name="Rectangle 13"/>
          <p:cNvSpPr/>
          <p:nvPr/>
        </p:nvSpPr>
        <p:spPr>
          <a:xfrm>
            <a:off x="0" y="0"/>
            <a:ext cx="3650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2" name="Rectangle 15"/>
          <p:cNvSpPr/>
          <p:nvPr/>
        </p:nvSpPr>
        <p:spPr>
          <a:xfrm>
            <a:off x="11826720" y="6494400"/>
            <a:ext cx="3654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3" name="Rectangle 17"/>
          <p:cNvSpPr/>
          <p:nvPr/>
        </p:nvSpPr>
        <p:spPr>
          <a:xfrm>
            <a:off x="11826720" y="-4680"/>
            <a:ext cx="3654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44" name="Rectangle 19"/>
          <p:cNvSpPr/>
          <p:nvPr/>
        </p:nvSpPr>
        <p:spPr>
          <a:xfrm>
            <a:off x="0" y="6494400"/>
            <a:ext cx="3650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pic>
        <p:nvPicPr>
          <p:cNvPr id="245" name="Tijdelijke aanduiding voor inhoud 4" descr=""/>
          <p:cNvPicPr/>
          <p:nvPr/>
        </p:nvPicPr>
        <p:blipFill>
          <a:blip r:embed="rId1"/>
          <a:srcRect l="0" t="17514" r="0" b="0"/>
          <a:stretch/>
        </p:blipFill>
        <p:spPr>
          <a:xfrm>
            <a:off x="160200" y="160200"/>
            <a:ext cx="11871360" cy="653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07T08:03:39Z</dcterms:created>
  <dc:creator>Koen Steinhauer</dc:creator>
  <dc:description/>
  <dc:language>en-US</dc:language>
  <cp:lastModifiedBy>Ilse Mellema - Peper</cp:lastModifiedBy>
  <dcterms:modified xsi:type="dcterms:W3CDTF">2019-05-15T21:21:22Z</dcterms:modified>
  <cp:revision>48</cp:revision>
  <dc:subject/>
  <dc:title>SLB AGRESSIE les 3</dc:title>
</cp:coreProperties>
</file>