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77820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56760" y="124092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5FB15-E7C5-46C3-BB75-A5103886F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F876E-328F-4632-9668-359D3D33B6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altijd belangrijk om een boodschap vanuit de ‘ik’ vorm te formul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l vooral je eigen grenzen en de grenzen van de organisatie centr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laten oefenen met het formuleren van een ‘ik’ boodsch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20863-EE59-4E8B-9FFC-0893CCAF54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Laat ze nadenken over risicofactoren die van toepassing zijn op hun eigen doelgro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A96E0-56B6-4F4C-BFF1-003855B66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B0BA7-58FC-47C0-BA38-DA1D1FF18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E990F-5591-4472-83BD-A0EDE6F2B1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belangrijk om signalen in het team te bespreken en een gezamenlijke aanpak te hante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vele gevallen is het belangrijk om het netwerk van een cliënt te betrekken bij de aanp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1605F-7866-4C57-ABEA-B1B7CE18B9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6BAE9-6892-4A82-94C3-E9D3CD4837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nnen de Radar methode. Wordt gesproken van 3 verschillende stadia’s van agress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 Geagiteerd 2 Dreigend en 3 Gewelddad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hoeft niet altijd zo te zijn dat stadia 1 wordt opgevolgd door stadia 2 en vervolgens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oms slaat het gedrag van een cliënt één of meerdere stadia’s o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eenduidigheid te creëren in de opvatting over verschillende gedragskenmerken bij de 3 verschillende categorieën is het belangr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t je goed afstemt met je collega’s wat je verstaat onder geagiteerd, dreigend en gewelddadig gedrag. Dit kan namelijk ook verschillen per individ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waarborg je een eenduidige aanpak. Hierdoor bied je de cliënten duidelijkheid en structuur. Namelijk iedere begeleider hanteert dezelfde aanpak en grijp in op dezelfde moment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36A8E-6FB7-4455-9665-B1F593BEE3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geagiteer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47235-72A2-4EE2-A4F2-A3635858B1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kunnen voorbeelden zijn van gedrag bij het het stadia: “dreigend gedrag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gedrag moet feitelijk waarneembaar zijn en door alle collega’s op dezelfde manier opgeva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die manier behoud je een eenduidige aanp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eck altijd protocollen op je BPV / toekomstige werkplek. In sommige gevallen worden er al sancties opgelegd wanneer een cliënt dreigend gedrag verto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Sancties; Straf naar aanleiding van ongewenst gedra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zou studenten kunnen vragen hoe er binnen de stage wordt omgegaan met dreigend gedr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57361-7681-4DBE-8B56-F135FCC2D0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elangrijk om te weten dat er binnen verschillende organisaties GEEN vrijheid beperkende maatregelen toegepast mogen worden. De aanpak kan verschillen per organisati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beeld van vrijheid beperkende maatregel; Opsluiting, vastgebonden worden e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nneer er sprake is van agressie moet je altijd jezelf in veiligheid stellen, en waar mogelijk ook de andere deelne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rug slaan/schoppen is absoluut uit den boze en kan ontslag tot gevolg hebben. Tevens kan dit in de toekomst de aanvraag voor je VOG in de toekomst verpes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ocus ligt dan ook bij het voorkomen van gewelddadig gedrag door in een van de voorgaande stadia’s een (gespreks)interventie uit te vo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1FF40-7577-490D-B108-521B387799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EB986-5956-4C6F-98D4-78EFDA8CB1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16F71-4840-42EB-B42A-5210C07636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57120" y="124128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76480"/>
            <a:ext cx="533556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ntwoorden staan in de volgende dia. Vraag studenten ook of ze weten welke handelingen op stage worden geadviseerd/gehantee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ijdelijke aanduiding voor dianummer 3"/>
          <p:cNvSpPr/>
          <p:nvPr/>
        </p:nvSpPr>
        <p:spPr>
          <a:xfrm>
            <a:off x="3778200" y="9428040"/>
            <a:ext cx="2889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A8AE6-7078-4040-99D6-E43AA3C86A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79E-B8E7-4525-921F-3ECCECB7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0DD-9AE0-4569-A411-F03A47D6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E29-8BCA-4BA9-ABE5-3480EE3C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2CC-8C20-4B55-871E-5C6AF2D9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96FF-9165-490D-873D-B49A7CBE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3C40-F85C-45DA-9F0A-0535FB9F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886C-4636-4027-8D16-6E51A8AB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2637-6929-49AF-B3A2-B837064C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9F10-AD26-4C9F-8FC6-114376A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9031-0692-46FE-8C36-E98F1706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5F57-290B-4878-B7A4-8AA1925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AF4-1238-4930-8480-777194BD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F5E-5F69-486D-A2FE-AAEBEF1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4065-AE12-4D1C-BCFB-B20C06A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5BFD-C41D-488F-8DA7-221542EF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8452-83AE-4862-9E5D-48170F1B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EC95-D440-4D61-8329-54FDC477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7FD3-6B62-40E3-B7C0-073B2C3A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D228-4446-414B-BD0C-E5E10CF7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D56B-B1AD-48AE-9FEB-0A015470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9E9C-200B-40A4-BBF9-D937015F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C326-FE88-4CD4-B9C5-F8B9E777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124-33FA-4859-93A4-CAD39DF9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9038-8F61-454C-90D7-A0F98EA8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919B-87FE-46D4-ADFC-1F2BB5E7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0053-BEDE-41C8-99F9-E01977F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B4F0-1B54-4DA5-8166-75DF38F8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EDC2-7BFD-4DA4-97BF-E66110D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8B42-FA56-480E-9A0A-8020E062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5AD9-CF80-4F71-983F-E54870FD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26D7-E461-410E-97C9-E9F716C4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65EE-EB00-4710-BD91-D715B75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8CF4-B9FF-47F3-9FF4-047A76B3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80E-6BAB-4A50-AF97-3A30324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D0FD-4A9A-4F46-8465-1D5D2E94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0951-51D6-4BAD-ABBB-3C31735C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A4A3-6109-4EE0-AB99-3CCCA94B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D1EE-7AC7-4027-89A0-64720ADD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1C65A-6F92-451E-BB37-CBD44D57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5C85-B33B-46B2-AADA-D788F2D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446C-76AF-4A77-99BA-9476D5D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A90B-44F1-4F1A-8537-51802030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821B-768A-49F1-9728-3480FD84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9FB3-8DC3-4108-867F-FC0BC7A1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E1C-3B97-4AB3-B174-35400CB2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C25A0-C490-497B-ABC1-09C1E9B2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2D27-24C7-464D-A19C-9764F946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23AF-3EE3-40A8-B1F9-CE1EF321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9D07-AD42-4433-958C-B4C0EEF5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2D1AF-CC0A-48CE-8174-0BE3FB9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D452-D0C1-44AE-AB32-0A4A8FAC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AD37-E32E-4FDC-9430-DB038AF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7DA4-E216-420B-8281-E71450E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2077-61C8-446D-B06D-23BC2871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AAC8A-F230-49C0-A276-58854B77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C4D-CBF2-4831-9D03-44ECD447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A8280-F95E-4EB5-BE99-B9A3C2CF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9D7-4E8A-4786-B855-799CE35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B16-C852-4EF0-8F3C-95A19D1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E7C-7005-4109-BA32-8423942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7C0FB-A2F7-4B65-B6E2-A29DB5D98964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C6484-4DFC-4765-A851-BB5B10E559EB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64BB5-5187-4376-AD29-5D0BF9F4CF4E}" type="slidenum">
              <a:rPr b="0" lang="nl-NL" sz="12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562FF-2F7D-4B62-AC3D-6438D7D9EA30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40353-1C8D-4E64-A41D-E6CACBECC666}" type="slidenum">
              <a:rPr b="0" lang="nl-NL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14480" y="1788840"/>
            <a:ext cx="8361360" cy="20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191b0e"/>
                </a:solidFill>
                <a:latin typeface="Franklin Gothic Book"/>
              </a:rPr>
              <a:t>ARGESSIE</a:t>
            </a:r>
            <a:endParaRPr b="0" lang="en-US" sz="7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679480" y="3956040"/>
            <a:ext cx="68324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191b0e"/>
                </a:solidFill>
                <a:latin typeface="Franklin Gothic Book"/>
              </a:rPr>
              <a:t>Les 4</a:t>
            </a:r>
            <a:endParaRPr b="0" lang="en-US" sz="23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472680"/>
            <a:ext cx="60958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Neg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ssistentie vrag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Waarschuwen (consequenties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Uit de situatie gaa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Anderen weg stu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Confron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enzen, KORT / DUIDELIJK / IK VORM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63840" y="331920"/>
            <a:ext cx="9144000" cy="60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Risicofactoren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zijn Risicofactoren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Noem voorbeelden van risicofacto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22840" y="304920"/>
            <a:ext cx="7451640" cy="9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191b0e"/>
                </a:solidFill>
                <a:latin typeface="Franklin Gothic Book"/>
              </a:rPr>
              <a:t>De risicofactoren zijn:</a:t>
            </a:r>
            <a:br>
              <a:rPr sz="4000"/>
            </a:b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22120" y="1414080"/>
            <a:ext cx="609588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Afd. cultuur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Regels, te veel/weini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Gedwongen opname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Middelen gebrui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Cognitieve vermogens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stelling van de patiënten groep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Deskundigheid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Voorzieningen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Werkdruk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Samenwerking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medicatie,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-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nl-NL" sz="1900" spc="-1" strike="noStrike">
                <a:solidFill>
                  <a:srgbClr val="191b0e"/>
                </a:solidFill>
                <a:latin typeface="Franklin Gothic Book"/>
              </a:rPr>
              <a:t>Onvoldoende info.</a:t>
            </a: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Rollenspel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2 studenten spelen een situatie met agressie na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analyseert deze situatie op basis van 3 niveaus (geagiteerd, dreigen en gewelddadig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De klas geeft tips hoe er ook met deze situatie om had kunnen worden gegaan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Rollenspel wordt opnieuw gedaan. De 2de keer met de meegekregen tip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47484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6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Je kan nog zoveel doen aan preventie en interventies,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maar als de risicofactoren groot zijn blijft het onveilig en komen er incidenten zich voor doen.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Afbeelding 4" descr=""/>
          <p:cNvPicPr/>
          <p:nvPr/>
        </p:nvPicPr>
        <p:blipFill>
          <a:blip r:embed="rId1"/>
          <a:stretch/>
        </p:blipFill>
        <p:spPr>
          <a:xfrm>
            <a:off x="635040" y="1125360"/>
            <a:ext cx="6899400" cy="460728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470440" y="1111320"/>
            <a:ext cx="305460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fede3"/>
                </a:solidFill>
                <a:latin typeface="Franklin Gothic Book"/>
              </a:rPr>
              <a:t>Lesprogramma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470440" y="2285640"/>
            <a:ext cx="3054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3 vormen van agressieve gedraging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Interventie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efede3"/>
                </a:solidFill>
                <a:latin typeface="Franklin Gothic Book"/>
              </a:rPr>
              <a:t>Risicofactoren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696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39720" y="631440"/>
            <a:ext cx="401976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efede3"/>
                </a:solidFill>
                <a:latin typeface="Franklin Gothic Book"/>
              </a:rPr>
              <a:t>Interventies en Risicofactoren</a:t>
            </a:r>
            <a:br>
              <a:rPr sz="5000"/>
            </a:br>
            <a:endParaRPr b="0" lang="en-US" sz="5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76520" y="631440"/>
            <a:ext cx="4892760" cy="560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3 agressieve gedragingen: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1. Geagiteer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2. Dreigend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91b0e"/>
                </a:solidFill>
                <a:latin typeface="Franklin Gothic Book"/>
              </a:rPr>
              <a:t>3. Gewelddadig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7383600" y="0"/>
            <a:ext cx="22860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Afbeelding 4" descr=""/>
          <p:cNvPicPr/>
          <p:nvPr/>
        </p:nvPicPr>
        <p:blipFill>
          <a:blip r:embed="rId1"/>
          <a:srcRect l="0" t="628" r="0" b="15140"/>
          <a:stretch/>
        </p:blipFill>
        <p:spPr>
          <a:xfrm>
            <a:off x="761220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4080" y="685800"/>
            <a:ext cx="57945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191b0e"/>
                </a:solidFill>
                <a:latin typeface="Franklin Gothic Book"/>
              </a:rPr>
              <a:t>1 . Geagiteerd gedrag</a:t>
            </a:r>
            <a:br>
              <a:rPr sz="4400"/>
            </a:b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36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1890720" y="22860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9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38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0" name="Rectangle 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35040" y="1487520"/>
            <a:ext cx="6899400" cy="388296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6"/>
          <p:cNvSpPr/>
          <p:nvPr/>
        </p:nvSpPr>
        <p:spPr>
          <a:xfrm flipH="1" flipV="1">
            <a:off x="7982640" y="639000"/>
            <a:ext cx="2295720" cy="367524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569440" y="1314000"/>
            <a:ext cx="317664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ede3"/>
                </a:solidFill>
                <a:latin typeface="Franklin Gothic Book"/>
              </a:rPr>
              <a:t>DREIGEND GEDRAG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3"/>
          <p:cNvGrpSpPr/>
          <p:nvPr/>
        </p:nvGrpSpPr>
        <p:grpSpPr>
          <a:xfrm>
            <a:off x="752040" y="744120"/>
            <a:ext cx="10674720" cy="5350320"/>
            <a:chOff x="752040" y="744120"/>
            <a:chExt cx="10674720" cy="5350320"/>
          </a:xfrm>
        </p:grpSpPr>
        <p:sp>
          <p:nvSpPr>
            <p:cNvPr id="245" name="Freeform 6"/>
            <p:cNvSpPr/>
            <p:nvPr/>
          </p:nvSpPr>
          <p:spPr>
            <a:xfrm>
              <a:off x="8151840" y="1685520"/>
              <a:ext cx="327492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 flipH="1" flipV="1">
              <a:off x="751320" y="743760"/>
              <a:ext cx="3275640" cy="4408920"/>
            </a:xfrm>
            <a:custGeom>
              <a:avLst/>
              <a:gdLst/>
              <a:ahLst/>
              <a:rect l="l" t="t" r="r" b="b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efe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47" name="Rectangle 1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Freeform 6"/>
          <p:cNvSpPr/>
          <p:nvPr/>
        </p:nvSpPr>
        <p:spPr>
          <a:xfrm flipH="1" flipV="1">
            <a:off x="752040" y="744480"/>
            <a:ext cx="3276720" cy="4408560"/>
          </a:xfrm>
          <a:custGeom>
            <a:avLst/>
            <a:gdLst/>
            <a:ahLst/>
            <a:rect l="l" t="t" r="r" b="b"/>
            <a:pathLst>
              <a:path w="10002" h="10000">
                <a:moveTo>
                  <a:pt x="8763" y="0"/>
                </a:moveTo>
                <a:lnTo>
                  <a:pt x="10002" y="0"/>
                </a:lnTo>
                <a:lnTo>
                  <a:pt x="10002" y="10000"/>
                </a:lnTo>
                <a:lnTo>
                  <a:pt x="2" y="10000"/>
                </a:lnTo>
                <a:cubicBezTo>
                  <a:pt x="-2" y="9698"/>
                  <a:pt x="4" y="9427"/>
                  <a:pt x="0" y="9125"/>
                </a:cubicBezTo>
                <a:lnTo>
                  <a:pt x="8763" y="9128"/>
                </a:lnTo>
                <a:lnTo>
                  <a:pt x="8763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Tijdelijke aanduiding voor inhoud 8" descr=""/>
          <p:cNvPicPr/>
          <p:nvPr/>
        </p:nvPicPr>
        <p:blipFill>
          <a:blip r:embed="rId1"/>
          <a:srcRect l="5767" t="0" r="16555" b="0"/>
          <a:stretch/>
        </p:blipFill>
        <p:spPr>
          <a:xfrm>
            <a:off x="5175360" y="18720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7240" y="1898640"/>
            <a:ext cx="530064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GEWELDDADIG GEDRAG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947960" y="2080800"/>
            <a:ext cx="77659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1 Agit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Beantwoord de volgende vraag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geagiteerd is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Tekstvak 2"/>
          <p:cNvSpPr/>
          <p:nvPr/>
        </p:nvSpPr>
        <p:spPr>
          <a:xfrm>
            <a:off x="1709640" y="689040"/>
            <a:ext cx="85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21840" y="160200"/>
            <a:ext cx="6610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191b0e"/>
                </a:solidFill>
                <a:latin typeface="Franklin Gothic Book"/>
              </a:rPr>
              <a:t>Geagiteerd gedrag: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Gedrag benoem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Luist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rustig blijv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tap naar achte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ragen om iets te laten (let wel op hoe je iets zegt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vragen (wat is er aan de hand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Samen wandel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Zelf oplass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Humor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Ventiler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Begrip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Troosten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- Medicati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54" name="Afbeelding 6" descr=""/>
          <p:cNvPicPr/>
          <p:nvPr/>
        </p:nvPicPr>
        <p:blipFill>
          <a:blip r:embed="rId1"/>
          <a:stretch/>
        </p:blipFill>
        <p:spPr>
          <a:xfrm>
            <a:off x="7832880" y="469800"/>
            <a:ext cx="34891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91b0e"/>
                </a:solidFill>
                <a:latin typeface="Franklin Gothic Book"/>
              </a:rPr>
              <a:t>2 Dreigend gedrag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Wat kan ik als professional doen op het moment dat iemand dreigend gedrag laat zien? Zodat het niet verder escalee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91b0e"/>
                </a:solidFill>
                <a:latin typeface="Franklin Gothic Book"/>
              </a:rPr>
              <a:t>Vorm tweetallen en beschrijf wat jij zou doen als iemand geagiteerd gedrag laat zien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764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191b0e"/>
                </a:solidFill>
                <a:latin typeface="Franklin Gothic Book"/>
              </a:rPr>
              <a:t>Opdracht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08:07:34Z</dcterms:created>
  <dc:creator>Koen Steinhauer</dc:creator>
  <dc:description/>
  <dc:language>en-US</dc:language>
  <cp:lastModifiedBy>Ilse Mellema - Peper</cp:lastModifiedBy>
  <cp:lastPrinted>2019-04-16T10:04:57Z</cp:lastPrinted>
  <dcterms:modified xsi:type="dcterms:W3CDTF">2019-05-15T21:25:32Z</dcterms:modified>
  <cp:revision>11</cp:revision>
  <dc:subject/>
  <dc:title>SLB Argessie les 4</dc:title>
</cp:coreProperties>
</file>