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AE8D3-A17C-441F-9FAA-4CACB1DC75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81C1-85F5-49EC-8911-5BB144F42E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altijd belangrijk om een boodschap vanuit de ‘ik’ vorm te formul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l vooral je eigen grenzen en de grenzen van de organisatie centr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laten oefenen met het formuleren van een ‘ik’ boodsch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3524-94E0-4BFE-9750-C1E0A4570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Laat ze nadenken over risicofactoren die van toepassing zijn op hun eigen doelgro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86A8B-6765-4075-B780-B0C3F5C45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EC5E1-C300-41C8-B73C-F4A491853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F22F9-4322-4F48-A3A4-83B3D0F7E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belangrijk om signalen in het team te bespreken en een gezamenlijke aanpak te hante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vele gevallen is het belangrijk om het netwerk van een cliënt te betrekken bij de aanp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86BD6-4AC6-443D-820E-7FFF9C33D3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A3DFB-E040-4B4D-AC9D-6A224F794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nnen de Radar methode. Wordt gesproken van 3 verschillende stadia’s van agres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 Geagiteerd 2 Dreigend en 3 Gewelddad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hoeft niet altijd zo te zijn dat stadia 1 wordt opgevolgd door stadia 2 en vervolgens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oms slaat het gedrag van een cliënt één of meerdere stadia’s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eenduidigheid te creëren in de opvatting over verschillende gedragskenmerken bij de 3 verschillende categorieën is het belangr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t je goed afstemt met je collega’s wat je verstaat onder geagiteerd, dreigend en gewelddadig gedrag. Dit kan namelijk ook verschillen per individ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waarborg je een eenduidige aanpak. Hierdoor bied je de cliënten duidelijkheid en structuur. Namelijk iedere begeleider hanteert dezelfde aanpak en grijp in op dezelfde momen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3AF8B-E784-4FE1-8432-96E62B82AD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geagiteer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EC9AA-5D2C-49D5-A8B2-139538AAF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dreigen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eck altijd protocollen op je BPV / toekomstige werkplek. In sommige gevallen worden er al sancties opgelegd wanneer een cliënt dreigend gedrag verto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Sancties; Straf naar aanleiding van ongewenst ge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vragen hoe er binnen de stage wordt omgegaan met dreigend gedr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24332-3618-46C9-8ADE-3ACEA4C82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elangrijk om te weten dat er binnen verschillende organisaties GEEN vrijheid beperkende maatregelen toegepast mogen worden. De aanpak kan verschillen per organisat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van vrijheid beperkende maatregel; Opsluiting, vastgebonden worden e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nneer er sprake is van agressie moet je altijd jezelf in veiligheid stellen, en waar mogelijk ook de andere deelne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rug slaan/schoppen is absoluut uit den boze en kan ontslag tot gevolg hebben. Tevens kan dit in de toekomst de aanvraag voor je VOG in de toekomst verpes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ocus ligt dan ook bij het voorkomen van gewelddadig gedrag door in een van de voorgaande stadia’s een (gespreks)interventie uit te vo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FE3BB-4CC1-4847-82F8-B1E3AC646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CB35A-E7BB-46F5-9608-C4A77FF36D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5D5D8-3E46-4952-A996-67FFD0B98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9391A-1B76-4CB5-8F85-F868212CB6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E2F-FEC5-497B-917C-ED532619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365-E5AE-4CC9-9DE4-21063E1A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137-138C-40D8-8922-91DF12D5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045-F3E5-47C7-B025-E205A11A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743-F212-4EB5-B0C1-C330DE9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D6D-4B87-464B-991F-73861BD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5FF4-07AD-4837-9350-B3D4915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609A-62E1-4F08-8471-85EE5B4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EBD-DE5E-46AC-B12B-00453D23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AB5B-B000-4AC1-8DD8-E9F7031E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BEC-78CF-4293-BFA3-9F4DB1F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7D2-5D9C-4828-9A8E-F9E45B8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E81-8882-4627-999A-E4867A4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68E2-014A-4C1F-8FAC-D92CD36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0CE-53F8-4EEF-90D0-84AEEA6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8834-0300-4B39-8BA6-1A177593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FB74-4739-4280-9B7E-B0126612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901C-8D30-408B-9A3A-F78E257F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78FC-4C32-469D-BF42-30C81C5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C171-33D1-414C-B046-C55E4413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B595-1EA2-489B-8949-C46B584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91BB-2E61-4929-9D61-CEB00532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0DB-48EE-45E9-A164-A62849D8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C0C9-60B3-4DE7-99DA-77706AEB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464B-201B-4B5B-B3B4-5381A6F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2EB7-B710-4516-AC24-96202B3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2B67-4E34-409E-8AE7-89EBEF6A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2697-384C-4A25-A12B-EAE604A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F3BD-473F-42B6-84D5-AB0B7DEA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B4A7-5377-4587-AC5A-7470905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9757-52A7-43E4-AC9B-1FD811B7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62CE-1CC2-45CA-8F22-F33B684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CEE0-C31B-4EA1-8BAB-93CD7108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714-0F51-40C2-B042-132EDC9E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50DE-673D-422B-BE8F-25676FA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B07B-09EA-4679-A6B2-E66AA2D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388B-2002-401B-AA1A-A489C40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70BF-CFD1-4A3F-ABBA-38AA547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D4E7-2460-4791-A328-ADE313D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724F-A5D6-4C65-82EC-51D6F00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F97C-0541-4508-A22E-AA63286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8A38-228E-4042-92C0-E809BB12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CEBF-4148-4CF4-A52D-5F3C184E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5C0C-8E92-4F3C-A6B9-91CB8926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9A4-9C3F-4FDA-88E0-9FDE66F5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5EC10-9E36-4F29-A5E8-7E645FB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8BA2-3387-4225-AB69-F6989E9A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C643-B2D7-4505-A1E2-2783A714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335D-FA9E-4F7D-9E4E-F6230D4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8B54-9163-4269-9AF7-C7B1F5D9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65179-6291-4A7B-9972-303D374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A065-8DBA-42FE-9589-8F54FD3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B50E-0EDD-4EDC-89F1-CC01B13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A2A1D-2961-4BC9-A5D3-40F81B58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7C04-BB7C-42FA-88E7-9B6C794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50B-D355-4622-A445-59BFFC1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076B-F6EF-4705-A4F8-7BE8A24B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634-A0B8-4B3E-9368-E00A5CA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C22-5BDA-4FEF-BAC1-933EEC4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9B0-89BF-49E9-BF9B-379D361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19048-3E66-4550-82B2-58F3C9AF4440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DD252-3378-4A24-B610-B26BBC8E6DEB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BD9D-BC4B-4072-ADA2-6DAF4E179EA6}" type="slidenum"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06E04-928B-48C2-BEAC-7A3AD42FCF43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0F193-CF2E-4110-992B-797B1DE372CB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191b0e"/>
                </a:solidFill>
                <a:latin typeface="Franklin Gothic Book"/>
              </a:rPr>
              <a:t>ARGESSIE</a:t>
            </a:r>
            <a:endParaRPr b="0" lang="en-US" sz="7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79480" y="3956040"/>
            <a:ext cx="68324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191b0e"/>
                </a:solidFill>
                <a:latin typeface="Franklin Gothic Book"/>
              </a:rPr>
              <a:t>Les 4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472680"/>
            <a:ext cx="6095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Neg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ssistentie vrag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Waarschuwen (consequentie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Uit de situatie gaa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nderen weg stu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Confron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enzen, KORT / DUIDELIJK / IK VORM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63840" y="331920"/>
            <a:ext cx="914400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Risicofactoren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zijn Risicofactoren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Noem voorbeelden van risicofacto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22840" y="304920"/>
            <a:ext cx="745164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De risicofactoren zijn:</a:t>
            </a:r>
            <a:br>
              <a:rPr sz="4000"/>
            </a:b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22120" y="1414080"/>
            <a:ext cx="609588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Afd. cultuur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Regels, te veel/weini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Gedwongen opname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Middelen gebrui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Cognitieve vermogens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stelling van de patiënten groep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Deskundigheid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Voorzieningen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Werkdru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werkin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medicatie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info.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Rollenspel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2 studenten spelen een situatie met agressie na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analyseert deze situatie op basis van 3 niveaus (geagiteerd, dreigen en gewelddadig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geeft tips hoe er ook met deze situatie om had kunnen worden gegaan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Rollenspel wordt opnieuw gedaan. De 2de keer met de meegekregen tip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Je kan nog zoveel doen aan preventie en interventies,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maar als de risicofactoren groot zijn blijft het onveilig en komen er incidenten zich voor doen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70440" y="1111320"/>
            <a:ext cx="3054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fede3"/>
                </a:solidFill>
                <a:latin typeface="Franklin Gothic Book"/>
              </a:rPr>
              <a:t>Lesprogramma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3 vormen van agressieve gedraging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Interventie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Risicofactor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696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9720" y="631440"/>
            <a:ext cx="40197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efede3"/>
                </a:solidFill>
                <a:latin typeface="Franklin Gothic Book"/>
              </a:rPr>
              <a:t>Interventies en Risicofactoren</a:t>
            </a:r>
            <a:br>
              <a:rPr sz="5000"/>
            </a:br>
            <a:endParaRPr b="0" lang="en-US" sz="5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76520" y="631440"/>
            <a:ext cx="4892760" cy="56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3 agressieve gedragingen: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1. Geagiteer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2. Dreigen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3. Gewelddadi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38360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Afbeelding 4" descr=""/>
          <p:cNvPicPr/>
          <p:nvPr/>
        </p:nvPicPr>
        <p:blipFill>
          <a:blip r:embed="rId1"/>
          <a:srcRect l="0" t="628" r="0" b="15140"/>
          <a:stretch/>
        </p:blipFill>
        <p:spPr>
          <a:xfrm>
            <a:off x="761220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4080" y="685800"/>
            <a:ext cx="57945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191b0e"/>
                </a:solidFill>
                <a:latin typeface="Franklin Gothic Book"/>
              </a:rPr>
              <a:t>1 . Geagiteerd gedrag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1890720" y="2286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9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38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35040" y="1487520"/>
            <a:ext cx="6899400" cy="388296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69440" y="1314000"/>
            <a:ext cx="31766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ede3"/>
                </a:solidFill>
                <a:latin typeface="Franklin Gothic Book"/>
              </a:rPr>
              <a:t>DREIGEND GEDRAG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45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7" name="Rectangle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Freeform 6"/>
          <p:cNvSpPr/>
          <p:nvPr/>
        </p:nvSpPr>
        <p:spPr>
          <a:xfrm flipH="1" flipV="1">
            <a:off x="752040" y="744480"/>
            <a:ext cx="3276720" cy="440856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Tijdelijke aanduiding voor inhoud 8" descr=""/>
          <p:cNvPicPr/>
          <p:nvPr/>
        </p:nvPicPr>
        <p:blipFill>
          <a:blip r:embed="rId1"/>
          <a:srcRect l="5767" t="0" r="16555" b="0"/>
          <a:stretch/>
        </p:blipFill>
        <p:spPr>
          <a:xfrm>
            <a:off x="5175360" y="1872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7240" y="1898640"/>
            <a:ext cx="530064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GEWELDDADIG GEDRAG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47960" y="2080800"/>
            <a:ext cx="77659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1 Agit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Beantwoord de volgende vraag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geagiteerd is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Tekstvak 2"/>
          <p:cNvSpPr/>
          <p:nvPr/>
        </p:nvSpPr>
        <p:spPr>
          <a:xfrm>
            <a:off x="1709640" y="6890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21840" y="160200"/>
            <a:ext cx="6610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191b0e"/>
                </a:solidFill>
                <a:latin typeface="Franklin Gothic Book"/>
              </a:rPr>
              <a:t>Geagiteerd gedrag: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Gedrag benoem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Luis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rustig blijv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tap naar achte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ragen om iets te laten (let wel op hoe je iets zeg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vragen (wat is er aan de hand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amen wandel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oplass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Humo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entil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ip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Troost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Medic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54" name="Afbeelding 6" descr=""/>
          <p:cNvPicPr/>
          <p:nvPr/>
        </p:nvPicPr>
        <p:blipFill>
          <a:blip r:embed="rId1"/>
          <a:stretch/>
        </p:blipFill>
        <p:spPr>
          <a:xfrm>
            <a:off x="7832880" y="469800"/>
            <a:ext cx="3489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dreigend gedrag laat zien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08:07:34Z</dcterms:created>
  <dc:creator>Koen Steinhauer</dc:creator>
  <dc:description/>
  <dc:language>en-US</dc:language>
  <cp:lastModifiedBy>Ilse Mellema - Peper</cp:lastModifiedBy>
  <cp:lastPrinted>2019-04-16T10:04:57Z</cp:lastPrinted>
  <dcterms:modified xsi:type="dcterms:W3CDTF">2019-05-15T21:25:32Z</dcterms:modified>
  <cp:revision>11</cp:revision>
  <dc:subject/>
  <dc:title>SLB Argessie les 4</dc:title>
</cp:coreProperties>
</file>